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6912-A491-461C-9627-8F684C6EE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F2BF-D366-40A3-B449-4F01364E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07E9-FE84-4B54-A555-FBF5686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188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972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188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972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135C-906C-4E51-A450-798D523D3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2560F-0E0A-4121-A933-5B744A91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5902D-0F09-4756-94D9-A07AEAB2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96E8B-E081-4931-9D46-ACF279EE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50EED-8BEF-4720-BC34-8AB1884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55D19-B82E-46D1-A95D-5F95B9E1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9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6242B-B4BE-408C-A703-7810E83E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3115E-B3A3-46B3-8FF2-3FBF385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4212-5FA3-4073-9FA2-3AE6BC96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85069-2D2B-473B-8D7C-62AE35BA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DB36E-F68E-471D-92D6-CE189FDA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154B3-AB2B-4503-A317-2469D706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06122-C896-44D0-B5D3-3863E4DC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188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0972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188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0972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47DEB-CA24-4C95-A35A-64E60986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5165-DAA4-4D60-A87F-E6C7411C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7B7D-40ED-43AE-8D01-33B917F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8886-34C4-426D-A2BB-76E0336B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9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FD19-8B0B-4F0E-9E7B-BECE9306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F6A8-83F0-4D08-B786-1CC5703C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15C7-9E56-49B2-899E-4C8D97DB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B17D-C495-44A9-812B-A7D5581C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630864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1413000"/>
            <a:ext cx="8305920" cy="236160"/>
            <a:chOff x="380880" y="1413000"/>
            <a:chExt cx="8305920" cy="236160"/>
          </a:xfrm>
        </p:grpSpPr>
        <p:sp>
          <p:nvSpPr>
            <p:cNvPr id="2" name=""/>
            <p:cNvSpPr/>
            <p:nvPr/>
          </p:nvSpPr>
          <p:spPr>
            <a:xfrm>
              <a:off x="6858000" y="1413000"/>
              <a:ext cx="1828800" cy="2361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11640"/>
              <a:ext cx="830592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78920" y="6453000"/>
            <a:ext cx="6480360" cy="25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914880" y="6453000"/>
            <a:ext cx="1904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E82E-DBD9-4CFA-A16B-7256ACA059A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08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763120" cy="6236640"/>
            <a:chOff x="0" y="0"/>
            <a:chExt cx="8763120" cy="623664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752480" cy="511776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678480"/>
              <a:ext cx="8763120" cy="2558160"/>
              <a:chOff x="0" y="3678480"/>
              <a:chExt cx="8763120" cy="2558160"/>
            </a:xfrm>
          </p:grpSpPr>
          <p:sp>
            <p:nvSpPr>
              <p:cNvPr id="48" name=""/>
              <p:cNvSpPr/>
              <p:nvPr/>
            </p:nvSpPr>
            <p:spPr>
              <a:xfrm>
                <a:off x="990720" y="3678480"/>
                <a:ext cx="7772400" cy="25581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38240" y="3918240"/>
                <a:ext cx="7648560" cy="224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511740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35040" y="559800"/>
              <a:ext cx="8077320" cy="318960"/>
              <a:chOff x="635040" y="559800"/>
              <a:chExt cx="8077320" cy="318960"/>
            </a:xfrm>
          </p:grpSpPr>
          <p:sp>
            <p:nvSpPr>
              <p:cNvPr id="52" name=""/>
              <p:cNvSpPr/>
              <p:nvPr/>
            </p:nvSpPr>
            <p:spPr>
              <a:xfrm>
                <a:off x="6273720" y="559800"/>
                <a:ext cx="2438640" cy="3189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5040" y="71928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91CA-6671-4456-B5E9-3B35A9AB8B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1196640"/>
            <a:ext cx="691344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 Methodology for the Conceptual Modeling </a:t>
            </a:r>
            <a:br>
              <a:rPr sz="4400"/>
            </a:b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of ETL Processes 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5640" y="4005000"/>
            <a:ext cx="403236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is Simit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imi@dbn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tu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Technical University of Athe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. of Electrical and Computer Eng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DBS Laborator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4076640"/>
            <a:ext cx="33782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os Vassilia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vassil@cs.uoi.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Ioanni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pt. of Computer Scie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eptual Model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for the conceptual modeling for ETL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03280" y="2637000"/>
          <a:ext cx="686916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86916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7A763-1E3C-482F-972A-5873187F6A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16E0-734F-4B62-AC45-AC2D2E0169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dentification of the proper data store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didates and active candidates for the involved data store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 mapping between the providers and the consumer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notating the diagram with runtime constraint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7CA0-6CD9-4FDA-8484-C00DF64448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PARTSUPP {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QTY, CO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PARTSUPP {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QTY, COS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Wareho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W.PARTSUPP {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QTY, CO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CAEA-3297-4FC3-A09B-F4B040549F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Identification of the proper data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03280" y="2565360"/>
          <a:ext cx="698508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98508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3772-FF39-4C0F-88D7-7984E128B9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Candidates and active candidates for the involved data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60360" y="2716200"/>
          <a:ext cx="7344000" cy="33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716200"/>
                    <a:ext cx="7344000" cy="33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D685-AAC9-4F40-8024-D4A75AEAC83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ing copy transformation: ignoring candid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19280" y="2637000"/>
          <a:ext cx="64785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637000"/>
                    <a:ext cx="64785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2C28-2066-4506-B761-CB8E791654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ing copy transformation: replace targets with active candidat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19280" y="2924280"/>
          <a:ext cx="6478560" cy="22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24280"/>
                    <a:ext cx="647856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67AC-83CC-400F-B483-C45AAC00AC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Attribute mapping between the providers and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8360" y="2454120"/>
          <a:ext cx="730728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2454120"/>
                    <a:ext cx="730728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A8E5-C953-4AFE-8D2E-93F7FA277A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ethodolog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4: Annotating the diagram with run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03280" y="2421000"/>
          <a:ext cx="727236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727236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1D9A-3332-40AF-9C14-EA391EBFD8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General Idea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disciplined methodology for the conceptual part of the definition of ETL process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early stages of a DW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t of design steps towards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mapp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attributes of the data sources to the attributes of the DW t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1643-6CAC-45BC-9BD7-05FE0DC45F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Full-fledged diagram of our example 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1771560"/>
          <a:ext cx="75596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1560"/>
                    <a:ext cx="75596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8BF0-698B-44DF-A5E4-2D4D38FA900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1ACF-157D-4BAC-BA01-2FAA965E1E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lusio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ethod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, a set of design steps, that facilitates the tracing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interrelationship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attributes and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ecessary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transforma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need to take place during the loading of the D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Design alternati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the population of the D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Future 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l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actical evaluation (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ll integration with logical mode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DMDW’02, CAiSE’03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1DF3-4142-4B32-A942-D582D6F554A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n – going/Future Wor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5a84d8"/>
                </a:solidFill>
                <a:latin typeface="Times New Roman"/>
              </a:rPr>
              <a:t>Arktos I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project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s aimed toward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ceptual mode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gical mode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What-if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f ETL scenari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http://www.dbnet.ece.ntua.g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~pvassil/projects/arktos_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372360" y="5013360"/>
            <a:ext cx="2251080" cy="99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F22D-A867-4059-9C81-6E626CB1EEF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55640" y="2573280"/>
            <a:ext cx="81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hank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4B5A-A805-4934-B193-75740EDAF393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069080" y="321948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-up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0FDF-8009-429E-92BA-84B1B566233B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54200" y="1700280"/>
            <a:ext cx="8210520" cy="26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76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02280" y="3943440"/>
            <a:ext cx="361800" cy="28404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41880" y="3943440"/>
            <a:ext cx="362160" cy="28404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390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804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4502160"/>
            <a:ext cx="3859200" cy="1728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200" y="4575240"/>
            <a:ext cx="1123920" cy="16905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4153320" y="2046960"/>
            <a:ext cx="512640" cy="654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25880" y="2346480"/>
            <a:ext cx="6508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38760" y="1938240"/>
            <a:ext cx="94104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PPKEY=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5" idx="2"/>
            <a:endCxn id="243" idx="1"/>
          </p:cNvCxnSpPr>
          <p:nvPr/>
        </p:nvCxnSpPr>
        <p:spPr>
          <a:xfrm flipH="1">
            <a:off x="4408200" y="2025720"/>
            <a:ext cx="216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 rot="5400000">
            <a:off x="5022000" y="204876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340000"/>
            <a:ext cx="43524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7080" y="1766880"/>
            <a:ext cx="942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49" idx="2"/>
            <a:endCxn id="247" idx="1"/>
          </p:cNvCxnSpPr>
          <p:nvPr/>
        </p:nvCxnSpPr>
        <p:spPr>
          <a:xfrm>
            <a:off x="5279760" y="205560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 rot="5400000">
            <a:off x="5963760" y="2049480"/>
            <a:ext cx="512640" cy="649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96080" y="234000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2€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49920" y="1946160"/>
            <a:ext cx="9414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3" idx="2"/>
            <a:endCxn id="251" idx="1"/>
          </p:cNvCxnSpPr>
          <p:nvPr/>
        </p:nvCxnSpPr>
        <p:spPr>
          <a:xfrm>
            <a:off x="6221160" y="203184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 rot="5400000">
            <a:off x="6904800" y="204876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92760" y="1946160"/>
            <a:ext cx="9432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56" idx="2"/>
            <a:endCxn id="255" idx="1"/>
          </p:cNvCxnSpPr>
          <p:nvPr/>
        </p:nvCxnSpPr>
        <p:spPr>
          <a:xfrm flipH="1">
            <a:off x="7162560" y="2031840"/>
            <a:ext cx="36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3073320" y="3371760"/>
            <a:ext cx="72396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4156560" y="3301200"/>
            <a:ext cx="513000" cy="6537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43520" y="3592440"/>
            <a:ext cx="650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43440" y="3200400"/>
            <a:ext cx="93960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PPKEY=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61" idx="2"/>
            <a:endCxn id="259" idx="1"/>
          </p:cNvCxnSpPr>
          <p:nvPr/>
        </p:nvCxnSpPr>
        <p:spPr>
          <a:xfrm flipH="1">
            <a:off x="4411440" y="3287880"/>
            <a:ext cx="360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 rot="5400000">
            <a:off x="502488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4680" y="3592440"/>
            <a:ext cx="43344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21120" y="3059280"/>
            <a:ext cx="943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65" idx="2"/>
            <a:endCxn id="263" idx="1"/>
          </p:cNvCxnSpPr>
          <p:nvPr/>
        </p:nvCxnSpPr>
        <p:spPr>
          <a:xfrm flipH="1">
            <a:off x="5283000" y="3366720"/>
            <a:ext cx="10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 rot="5400000">
            <a:off x="5967000" y="3303720"/>
            <a:ext cx="513000" cy="649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53160" y="3200400"/>
            <a:ext cx="93960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2"/>
            <a:endCxn id="267" idx="1"/>
          </p:cNvCxnSpPr>
          <p:nvPr/>
        </p:nvCxnSpPr>
        <p:spPr>
          <a:xfrm>
            <a:off x="6224400" y="32875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 rot="5400000">
            <a:off x="690768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24720" y="3200400"/>
            <a:ext cx="108432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TE=SYS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71" idx="2"/>
            <a:endCxn id="270" idx="1"/>
          </p:cNvCxnSpPr>
          <p:nvPr/>
        </p:nvCxnSpPr>
        <p:spPr>
          <a:xfrm flipH="1">
            <a:off x="7165080" y="328752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6789600" y="3592440"/>
            <a:ext cx="63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Dat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783972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37480" y="3592440"/>
            <a:ext cx="736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heckQT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62880" y="3200400"/>
            <a:ext cx="106056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QTY&gt;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2"/>
            <a:endCxn id="274" idx="1"/>
          </p:cNvCxnSpPr>
          <p:nvPr/>
        </p:nvCxnSpPr>
        <p:spPr>
          <a:xfrm>
            <a:off x="8092800" y="3287520"/>
            <a:ext cx="39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 rot="5400000">
            <a:off x="8091000" y="2168280"/>
            <a:ext cx="512640" cy="652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20080" y="2467080"/>
            <a:ext cx="43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43" idx="0"/>
            <a:endCxn id="247" idx="3"/>
          </p:cNvCxnSpPr>
          <p:nvPr/>
        </p:nvCxnSpPr>
        <p:spPr>
          <a:xfrm>
            <a:off x="4735440" y="237312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47" idx="0"/>
            <a:endCxn id="251" idx="3"/>
          </p:cNvCxnSpPr>
          <p:nvPr/>
        </p:nvCxnSpPr>
        <p:spPr>
          <a:xfrm>
            <a:off x="5601960" y="2373120"/>
            <a:ext cx="29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51" idx="0"/>
            <a:endCxn id="255" idx="3"/>
          </p:cNvCxnSpPr>
          <p:nvPr/>
        </p:nvCxnSpPr>
        <p:spPr>
          <a:xfrm>
            <a:off x="6544800" y="2373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59" idx="0"/>
            <a:endCxn id="263" idx="3"/>
          </p:cNvCxnSpPr>
          <p:nvPr/>
        </p:nvCxnSpPr>
        <p:spPr>
          <a:xfrm>
            <a:off x="4738680" y="3627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3" idx="0"/>
            <a:endCxn id="267" idx="3"/>
          </p:cNvCxnSpPr>
          <p:nvPr/>
        </p:nvCxnSpPr>
        <p:spPr>
          <a:xfrm>
            <a:off x="5605200" y="362700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67" idx="0"/>
            <a:endCxn id="270" idx="3"/>
          </p:cNvCxnSpPr>
          <p:nvPr/>
        </p:nvCxnSpPr>
        <p:spPr>
          <a:xfrm>
            <a:off x="6548040" y="362700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0" idx="0"/>
            <a:endCxn id="274" idx="3"/>
          </p:cNvCxnSpPr>
          <p:nvPr/>
        </p:nvCxnSpPr>
        <p:spPr>
          <a:xfrm>
            <a:off x="7488360" y="3627000"/>
            <a:ext cx="28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58" idx="4"/>
            <a:endCxn id="259" idx="3"/>
          </p:cNvCxnSpPr>
          <p:nvPr/>
        </p:nvCxnSpPr>
        <p:spPr>
          <a:xfrm flipV="1">
            <a:off x="3797280" y="3626640"/>
            <a:ext cx="28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3070080" y="2117880"/>
            <a:ext cx="72396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8" idx="4"/>
            <a:endCxn id="243" idx="3"/>
          </p:cNvCxnSpPr>
          <p:nvPr/>
        </p:nvCxnSpPr>
        <p:spPr>
          <a:xfrm flipV="1">
            <a:off x="3794040" y="2373120"/>
            <a:ext cx="288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5097600" y="2789280"/>
            <a:ext cx="652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40160" y="254016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419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00480" y="404496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46640" y="379404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46640" y="37720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37480" y="2338560"/>
            <a:ext cx="64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2E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3592440"/>
            <a:ext cx="650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otNU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41880" y="404496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88040" y="3794040"/>
            <a:ext cx="652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86600" y="37720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37200" y="2789280"/>
            <a:ext cx="654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83360" y="2540160"/>
            <a:ext cx="654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833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80400" y="2789280"/>
            <a:ext cx="65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22960" y="254016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247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2252880" y="2049480"/>
            <a:ext cx="51408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84480" y="2335320"/>
            <a:ext cx="5126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28880" y="1827360"/>
            <a:ext cx="1158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9" idx="2"/>
            <a:endCxn id="307" idx="1"/>
          </p:cNvCxnSpPr>
          <p:nvPr/>
        </p:nvCxnSpPr>
        <p:spPr>
          <a:xfrm>
            <a:off x="2507760" y="2034720"/>
            <a:ext cx="252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1095480" y="1827360"/>
            <a:ext cx="725400" cy="5140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11" idx="4"/>
            <a:endCxn id="307" idx="3"/>
          </p:cNvCxnSpPr>
          <p:nvPr/>
        </p:nvCxnSpPr>
        <p:spPr>
          <a:xfrm>
            <a:off x="1820880" y="2084040"/>
            <a:ext cx="3643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1095480" y="2398680"/>
            <a:ext cx="72540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5" idx="0"/>
            <a:endCxn id="311" idx="2"/>
          </p:cNvCxnSpPr>
          <p:nvPr/>
        </p:nvCxnSpPr>
        <p:spPr>
          <a:xfrm flipH="1" flipV="1">
            <a:off x="1094760" y="2084040"/>
            <a:ext cx="1765800" cy="2870640"/>
          </a:xfrm>
          <a:prstGeom prst="bentConnector5">
            <a:avLst>
              <a:gd name="adj1" fmla="val -12520"/>
              <a:gd name="adj2" fmla="val 16254"/>
              <a:gd name="adj3" fmla="val 11435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13" idx="4"/>
            <a:endCxn id="307" idx="3"/>
          </p:cNvCxnSpPr>
          <p:nvPr/>
        </p:nvCxnSpPr>
        <p:spPr>
          <a:xfrm flipV="1">
            <a:off x="1820880" y="2374560"/>
            <a:ext cx="36432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5433840" y="4675320"/>
            <a:ext cx="725760" cy="511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W.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7589520" y="4608360"/>
            <a:ext cx="51300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50200" y="4898880"/>
            <a:ext cx="793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73880" y="4538520"/>
            <a:ext cx="943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KEY, 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MIN(CO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20" idx="2"/>
            <a:endCxn id="318" idx="1"/>
          </p:cNvCxnSpPr>
          <p:nvPr/>
        </p:nvCxnSpPr>
        <p:spPr>
          <a:xfrm>
            <a:off x="7845120" y="4683240"/>
            <a:ext cx="396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5400000">
            <a:off x="7588800" y="5453640"/>
            <a:ext cx="51444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50200" y="5745240"/>
            <a:ext cx="7538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73880" y="5270400"/>
            <a:ext cx="943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KEY, MONT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VG(CO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4" idx="2"/>
            <a:endCxn id="322" idx="1"/>
          </p:cNvCxnSpPr>
          <p:nvPr/>
        </p:nvCxnSpPr>
        <p:spPr>
          <a:xfrm>
            <a:off x="7846560" y="54403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17" idx="4"/>
            <a:endCxn id="318" idx="3"/>
          </p:cNvCxnSpPr>
          <p:nvPr/>
        </p:nvCxnSpPr>
        <p:spPr>
          <a:xfrm>
            <a:off x="6159600" y="4930920"/>
            <a:ext cx="13593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8461440" y="5580000"/>
            <a:ext cx="361800" cy="398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2" idx="0"/>
            <a:endCxn id="327" idx="2"/>
          </p:cNvCxnSpPr>
          <p:nvPr/>
        </p:nvCxnSpPr>
        <p:spPr>
          <a:xfrm>
            <a:off x="8170560" y="5780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8461440" y="4735440"/>
            <a:ext cx="361800" cy="398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18" idx="0"/>
            <a:endCxn id="329" idx="2"/>
          </p:cNvCxnSpPr>
          <p:nvPr/>
        </p:nvCxnSpPr>
        <p:spPr>
          <a:xfrm>
            <a:off x="8170560" y="4933440"/>
            <a:ext cx="291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5429160" y="5518080"/>
            <a:ext cx="723960" cy="514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6662160" y="545544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93040" y="5745240"/>
            <a:ext cx="433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Wingdings 3"/>
                <a:ea typeface="Wingdings 3"/>
              </a:rPr>
              <a:t>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86400" y="5278320"/>
            <a:ext cx="1060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W.PARTSUPP.DATE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34" idx="2"/>
            <a:endCxn id="332" idx="1"/>
          </p:cNvCxnSpPr>
          <p:nvPr/>
        </p:nvCxnSpPr>
        <p:spPr>
          <a:xfrm>
            <a:off x="6916320" y="5450040"/>
            <a:ext cx="540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17" idx="4"/>
            <a:endCxn id="332" idx="3"/>
          </p:cNvCxnSpPr>
          <p:nvPr/>
        </p:nvCxnSpPr>
        <p:spPr>
          <a:xfrm>
            <a:off x="6159600" y="4930560"/>
            <a:ext cx="4370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1" idx="4"/>
            <a:endCxn id="332" idx="3"/>
          </p:cNvCxnSpPr>
          <p:nvPr/>
        </p:nvCxnSpPr>
        <p:spPr>
          <a:xfrm>
            <a:off x="6152760" y="5775120"/>
            <a:ext cx="4374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2" idx="0"/>
            <a:endCxn id="322" idx="3"/>
          </p:cNvCxnSpPr>
          <p:nvPr/>
        </p:nvCxnSpPr>
        <p:spPr>
          <a:xfrm>
            <a:off x="7242120" y="5779800"/>
            <a:ext cx="27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 rot="5400000">
            <a:off x="2276640" y="4629240"/>
            <a:ext cx="51264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08240" y="4916520"/>
            <a:ext cx="4348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42840" y="4699080"/>
            <a:ext cx="72396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40" idx="4"/>
            <a:endCxn id="315" idx="3"/>
          </p:cNvCxnSpPr>
          <p:nvPr/>
        </p:nvCxnSpPr>
        <p:spPr>
          <a:xfrm flipV="1">
            <a:off x="1666800" y="4954320"/>
            <a:ext cx="5421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942840" y="5526000"/>
            <a:ext cx="72396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2276280" y="5456160"/>
            <a:ext cx="51300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08240" y="5746680"/>
            <a:ext cx="4348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42" idx="4"/>
            <a:endCxn id="343" idx="3"/>
          </p:cNvCxnSpPr>
          <p:nvPr/>
        </p:nvCxnSpPr>
        <p:spPr>
          <a:xfrm flipV="1">
            <a:off x="1666800" y="5780880"/>
            <a:ext cx="5421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1095480" y="3092400"/>
            <a:ext cx="72540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5400000">
            <a:off x="2252520" y="3306600"/>
            <a:ext cx="5144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84480" y="3598920"/>
            <a:ext cx="5126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46" idx="4"/>
            <a:endCxn id="347" idx="3"/>
          </p:cNvCxnSpPr>
          <p:nvPr/>
        </p:nvCxnSpPr>
        <p:spPr>
          <a:xfrm>
            <a:off x="1820880" y="3349800"/>
            <a:ext cx="364320" cy="28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1095480" y="3662280"/>
            <a:ext cx="72540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"/>
          <p:cNvCxnSpPr>
            <a:stCxn id="343" idx="0"/>
            <a:endCxn id="346" idx="2"/>
          </p:cNvCxnSpPr>
          <p:nvPr/>
        </p:nvCxnSpPr>
        <p:spPr>
          <a:xfrm flipH="1" flipV="1">
            <a:off x="1094760" y="3349080"/>
            <a:ext cx="1765800" cy="2432520"/>
          </a:xfrm>
          <a:prstGeom prst="bentConnector5">
            <a:avLst>
              <a:gd name="adj1" fmla="val -16027"/>
              <a:gd name="adj2" fmla="val 56261"/>
              <a:gd name="adj3" fmla="val 10972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50" idx="4"/>
            <a:endCxn id="347" idx="3"/>
          </p:cNvCxnSpPr>
          <p:nvPr/>
        </p:nvCxnSpPr>
        <p:spPr>
          <a:xfrm flipV="1">
            <a:off x="1820880" y="3631320"/>
            <a:ext cx="3643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928880" y="3092400"/>
            <a:ext cx="1158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2"/>
            <a:endCxn id="347" idx="1"/>
          </p:cNvCxnSpPr>
          <p:nvPr/>
        </p:nvCxnSpPr>
        <p:spPr>
          <a:xfrm>
            <a:off x="2507760" y="3319200"/>
            <a:ext cx="25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07" idx="0"/>
            <a:endCxn id="288" idx="2"/>
          </p:cNvCxnSpPr>
          <p:nvPr/>
        </p:nvCxnSpPr>
        <p:spPr>
          <a:xfrm>
            <a:off x="2835360" y="2374560"/>
            <a:ext cx="23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255" idx="0"/>
            <a:endCxn id="278" idx="3"/>
          </p:cNvCxnSpPr>
          <p:nvPr/>
        </p:nvCxnSpPr>
        <p:spPr>
          <a:xfrm>
            <a:off x="7486560" y="2374560"/>
            <a:ext cx="53568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274" idx="0"/>
            <a:endCxn id="278" idx="3"/>
          </p:cNvCxnSpPr>
          <p:nvPr/>
        </p:nvCxnSpPr>
        <p:spPr>
          <a:xfrm flipH="1" flipV="1">
            <a:off x="8021160" y="2493360"/>
            <a:ext cx="401040" cy="1135800"/>
          </a:xfrm>
          <a:prstGeom prst="bentConnector5">
            <a:avLst>
              <a:gd name="adj1" fmla="val -53908"/>
              <a:gd name="adj2" fmla="val 50000"/>
              <a:gd name="adj3" fmla="val 153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278" idx="0"/>
            <a:endCxn id="317" idx="2"/>
          </p:cNvCxnSpPr>
          <p:nvPr/>
        </p:nvCxnSpPr>
        <p:spPr>
          <a:xfrm flipH="1">
            <a:off x="5433120" y="2493720"/>
            <a:ext cx="3242520" cy="2437560"/>
          </a:xfrm>
          <a:prstGeom prst="bentConnector5">
            <a:avLst>
              <a:gd name="adj1" fmla="val -6817"/>
              <a:gd name="adj2" fmla="val 78596"/>
              <a:gd name="adj3" fmla="val 1068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754200" y="6004080"/>
            <a:ext cx="112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6004080"/>
            <a:ext cx="37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4200" y="4089240"/>
            <a:ext cx="78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Logical Model </a:t>
            </a:r>
            <a:r>
              <a:rPr b="0" lang="en-US" sz="2100" spc="-1" strike="noStrike">
                <a:solidFill>
                  <a:srgbClr val="660033"/>
                </a:solidFill>
                <a:latin typeface="Times New Roman"/>
              </a:rPr>
              <a:t>[DMDW’02, CAiSE’03]</a:t>
            </a:r>
            <a:endParaRPr b="0" lang="en-US" sz="2100" spc="-1" strike="noStrike">
              <a:solidFill>
                <a:srgbClr val="660033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>
            <a:off x="2843280" y="3633480"/>
            <a:ext cx="23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D65B-6159-4BDD-9676-D25B1417C8F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eptual Model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is orthogonal to the conceptual models which are available for the modeling of DW star schem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is specifically tailored for the back end of the D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of the proposals for the DW front end can be combined with our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is not a process/workflow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3378-36E2-4D84-B343-12E0F0C39D7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Related Wor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58920" y="1743120"/>
          <a:ext cx="532908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43120"/>
                    <a:ext cx="532908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826920" y="4869000"/>
            <a:ext cx="7966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ront end of the DW has monopolized the research on the conceptual part of DW modelin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ee paper for a list of re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nly existing “methodology” is found in the “The Data Warehouse Lifecycle Toolkit” book of Kim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7F5E-4B91-4D4E-B038-2293A9DB5CD7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29E1-3880-4E77-B5AC-D19B9632AA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Extract – Transform – Load (ETL)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58920" y="2046240"/>
            <a:ext cx="6697440" cy="3830400"/>
            <a:chOff x="1258920" y="2046240"/>
            <a:chExt cx="6697440" cy="3830400"/>
          </a:xfrm>
        </p:grpSpPr>
        <p:sp>
          <p:nvSpPr>
            <p:cNvPr id="104" name=""/>
            <p:cNvSpPr/>
            <p:nvPr/>
          </p:nvSpPr>
          <p:spPr>
            <a:xfrm>
              <a:off x="1258920" y="4651200"/>
              <a:ext cx="6697440" cy="1225440"/>
            </a:xfrm>
            <a:prstGeom prst="parallelogram">
              <a:avLst>
                <a:gd name="adj" fmla="val 5774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52400" y="549432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228840" y="4651200"/>
              <a:ext cx="55080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68760" y="5263920"/>
              <a:ext cx="4716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099040" y="4651200"/>
              <a:ext cx="55224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2160" y="5033880"/>
              <a:ext cx="707760" cy="4604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73760" y="5109840"/>
              <a:ext cx="473040" cy="306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22960" y="549432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79920" y="4727520"/>
              <a:ext cx="4734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986080" y="3119400"/>
              <a:ext cx="709560" cy="1914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696000" y="2261880"/>
              <a:ext cx="324000" cy="246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211640" y="3262320"/>
              <a:ext cx="2038320" cy="2095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427280" y="3262320"/>
              <a:ext cx="1559160" cy="1519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975200" y="3261960"/>
              <a:ext cx="153648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805280" y="3262320"/>
              <a:ext cx="393840" cy="193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87840" y="3262320"/>
              <a:ext cx="328320" cy="2082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282560" y="3270240"/>
              <a:ext cx="460440" cy="14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1731960" y="3271680"/>
              <a:ext cx="156960" cy="2222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020320" y="3261960"/>
              <a:ext cx="174600" cy="1879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43160" y="3262320"/>
              <a:ext cx="512640" cy="2154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622600" y="3262320"/>
              <a:ext cx="212400" cy="1465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3031560" y="3262320"/>
              <a:ext cx="282600" cy="1782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2046240"/>
              <a:ext cx="6697440" cy="1225440"/>
            </a:xfrm>
            <a:prstGeom prst="parallelogram">
              <a:avLst>
                <a:gd name="adj" fmla="val 5774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149640" y="2046240"/>
              <a:ext cx="55224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796000" y="2046240"/>
              <a:ext cx="55080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74640" y="3041640"/>
              <a:ext cx="314280" cy="153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46240" y="2889000"/>
              <a:ext cx="315720" cy="1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09720" y="2658960"/>
              <a:ext cx="315720" cy="154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500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6600" y="2352600"/>
              <a:ext cx="315720" cy="153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65360" y="288900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0188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38400" y="219996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32240" y="288900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876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62600" y="219996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19560" y="2965320"/>
              <a:ext cx="316080" cy="154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38680" y="2965320"/>
              <a:ext cx="314640" cy="15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5280" y="2122200"/>
              <a:ext cx="316080" cy="15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071880" y="2275920"/>
              <a:ext cx="787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441520" y="2352600"/>
              <a:ext cx="13381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8480" y="2582640"/>
              <a:ext cx="10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888920" y="2965320"/>
              <a:ext cx="14972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5000" y="2734920"/>
              <a:ext cx="11811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16160" y="2582640"/>
              <a:ext cx="3160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16160" y="2582640"/>
              <a:ext cx="5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2680" y="2276280"/>
              <a:ext cx="6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25720" y="2965320"/>
              <a:ext cx="393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3040" y="2582640"/>
              <a:ext cx="2365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25840" y="56451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93960" y="56451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40080" y="56451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12760" y="204624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3920" y="2046240"/>
              <a:ext cx="83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ns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 Cl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78920" y="204624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5640" y="5286240"/>
              <a:ext cx="4716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00360" y="4709880"/>
              <a:ext cx="39348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71880" y="4957560"/>
              <a:ext cx="39348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79640" y="5109840"/>
              <a:ext cx="473040" cy="306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2960" y="534024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40000" y="4727520"/>
              <a:ext cx="39384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1B80-CE13-4D92-995E-0D19CC746B6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7532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ages of the DW desig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Concepts are still fuzz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         frequently chan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ts of</a:t>
            </a: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 interview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peo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No ti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a full, clean-cut definition of the DW and the ETL workf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, we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ce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mapp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attributes of the data sources to the attributes of the DW t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ce </a:t>
            </a: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necessary constraints and transforma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the ETL pro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02280" y="3274920"/>
            <a:ext cx="1773360" cy="1378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300720" y="1773360"/>
            <a:ext cx="1873440" cy="113328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6443640" y="5300640"/>
            <a:ext cx="2232000" cy="432000"/>
            <a:chOff x="6443640" y="5300640"/>
            <a:chExt cx="2232000" cy="432000"/>
          </a:xfrm>
        </p:grpSpPr>
        <p:sp>
          <p:nvSpPr>
            <p:cNvPr id="170" name=""/>
            <p:cNvSpPr/>
            <p:nvPr/>
          </p:nvSpPr>
          <p:spPr>
            <a:xfrm>
              <a:off x="7091640" y="5516640"/>
              <a:ext cx="936360" cy="0"/>
            </a:xfrm>
            <a:prstGeom prst="line">
              <a:avLst/>
            </a:prstGeom>
            <a:ln w="93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3640" y="5373720"/>
              <a:ext cx="648000" cy="358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1.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07280" y="5300640"/>
              <a:ext cx="503280" cy="432000"/>
            </a:xfrm>
            <a:prstGeom prst="hexagon">
              <a:avLst>
                <a:gd name="adj" fmla="val 2912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5373720"/>
              <a:ext cx="647640" cy="358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W.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3596-AC5E-4682-9BF4-AAAAFC0ADD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 neces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0% of the development time in a DW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-house development, ad-hoc solu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relate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ront end of the DW has monopolized the research on the conceptual part of DW modeling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us, the design, development and deployment of ETL processes, need modeling and </a:t>
            </a:r>
            <a:r>
              <a:rPr b="1" i="1" lang="en-US" sz="2800" spc="-1" strike="noStrike">
                <a:solidFill>
                  <a:srgbClr val="5a84d8"/>
                </a:solidFill>
                <a:latin typeface="Times New Roman"/>
              </a:rPr>
              <a:t>methodological foundations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2937-B858-462E-859E-1F63DFBB13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tribu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paper we build upon a previously published conceptual model for ETL proce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OLAP’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contribution is a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ethod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, a set of design steps, in order to tr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interrelationship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attributes and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ecessary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transforma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need to take place during the loading of the D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99"/>
                </a:solidFill>
                <a:latin typeface="Times New Roman"/>
              </a:rPr>
              <a:t>Design alternati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the population of the D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1444-7FFB-4C08-B2F3-F001952E52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05EF-FA0C-4E5E-87DC-7EF5FDD686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eptual Model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 of our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-Of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ial Composition of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r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TL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didate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D52E-E61B-4418-8C91-C402D62394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itsis A., Vassiliadis P. - D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8:59:21Z</dcterms:created>
  <dc:creator>Alkis Simitsis</dc:creator>
  <dc:description>asimi@dbnet.ece.ntua.gr</dc:description>
  <dc:language>en-US</dc:language>
  <cp:lastModifiedBy>Alkis Simitsis</cp:lastModifiedBy>
  <cp:lastPrinted>2003-06-02T23:28:50Z</cp:lastPrinted>
  <dcterms:modified xsi:type="dcterms:W3CDTF">2003-06-15T23:38:03Z</dcterms:modified>
  <cp:revision>95</cp:revision>
  <dc:subject>Presentation - DSE'03</dc:subject>
  <dc:title>A Methodology for the Conceptual Modeling of ETL Processes</dc:title>
</cp:coreProperties>
</file>