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00AB7-C71E-434A-A9E4-E67D18C5E9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4059360"/>
            <a:ext cx="797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4CA7C-67B7-48CC-9F52-00125586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0256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19BB7-9EC6-4E73-B735-156206DE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1880" y="159984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09720" y="159984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405936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1880" y="405936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09720" y="405936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D65B7-FA12-4B49-80EA-736AD059B2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9E6D6-B158-40EE-84E0-E745F7D0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89BC6-51CB-4A96-8452-4DDEE446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545CA-3B42-4923-96EB-C45ACBCA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1C014-6CAF-4741-A402-BE74390D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B690A-15DC-4372-834B-E4B8A12F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040" y="277560"/>
            <a:ext cx="797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E4CD6-2FC7-4523-842F-06E8E4E3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98A64-B05B-4DC0-895C-D3C13C86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A9834-C8A4-4132-8F81-0B591AD9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0256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475CB-6954-4B41-9E9A-7BC1F073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059360"/>
            <a:ext cx="797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57551-0DF9-407E-9447-2230C78C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059360"/>
            <a:ext cx="797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92BC1-AD7E-4505-AC9C-6E4996FA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0256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6053E-967C-4F32-92DF-F7A5E7F5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1880" y="159984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09720" y="159984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05936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1880" y="405936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09720" y="405936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533DF-C6EF-4D9C-9D37-CA84CE8B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23533-3C5D-44A6-9B8B-722AEBB6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62EA9-38D1-4F72-87DB-6A97E4E3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B9A99-7DDD-4ED4-A4FB-0BFDD286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77560"/>
            <a:ext cx="797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CA3D7-8575-48B8-A91F-BE79DC93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21CDB-B930-436B-A68A-4C6A1711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256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55190-1798-40C3-A0D4-4483E606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059360"/>
            <a:ext cx="797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E8C57-6562-4751-99FA-92F7451D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6308640"/>
          </a:xfrm>
          <a:prstGeom prst="rect">
            <a:avLst/>
          </a:prstGeom>
          <a:solidFill>
            <a:srgbClr val="95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80880" y="1413000"/>
            <a:ext cx="8305920" cy="236160"/>
            <a:chOff x="380880" y="1413000"/>
            <a:chExt cx="8305920" cy="236160"/>
          </a:xfrm>
        </p:grpSpPr>
        <p:sp>
          <p:nvSpPr>
            <p:cNvPr id="2" name=""/>
            <p:cNvSpPr/>
            <p:nvPr/>
          </p:nvSpPr>
          <p:spPr>
            <a:xfrm>
              <a:off x="6858000" y="1413000"/>
              <a:ext cx="1828800" cy="2361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0880" y="1511640"/>
              <a:ext cx="830592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78920" y="6453000"/>
            <a:ext cx="6480360" cy="25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92720" y="6453000"/>
            <a:ext cx="19047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7FC0-86DF-4357-BA40-F0F3BFA3BC8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30864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763120" cy="6236640"/>
            <a:chOff x="0" y="0"/>
            <a:chExt cx="8763120" cy="623664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752480" cy="511776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0" y="3678480"/>
              <a:ext cx="8763120" cy="2558160"/>
              <a:chOff x="0" y="3678480"/>
              <a:chExt cx="8763120" cy="2558160"/>
            </a:xfrm>
          </p:grpSpPr>
          <p:sp>
            <p:nvSpPr>
              <p:cNvPr id="48" name=""/>
              <p:cNvSpPr/>
              <p:nvPr/>
            </p:nvSpPr>
            <p:spPr>
              <a:xfrm>
                <a:off x="990720" y="3678480"/>
                <a:ext cx="7772400" cy="25581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038240" y="3918240"/>
                <a:ext cx="7648560" cy="224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511740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35040" y="559800"/>
              <a:ext cx="8077320" cy="318960"/>
              <a:chOff x="635040" y="559800"/>
              <a:chExt cx="8077320" cy="318960"/>
            </a:xfrm>
          </p:grpSpPr>
          <p:sp>
            <p:nvSpPr>
              <p:cNvPr id="52" name=""/>
              <p:cNvSpPr/>
              <p:nvPr/>
            </p:nvSpPr>
            <p:spPr>
              <a:xfrm>
                <a:off x="6273720" y="559800"/>
                <a:ext cx="2438640" cy="3189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35040" y="71928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D5D6-A0E8-47E8-AA49-58230E91CE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5280" y="1196640"/>
            <a:ext cx="6913440" cy="20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A Framework for the Design of ETL Scenarios 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44720" y="4005360"/>
            <a:ext cx="7704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nos Vassiliadi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lkis Simitsi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anos Georganta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Manolis Terroviti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vassil@cs.uoi.g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versity of Ioannina, Dept. of Computer Scie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asimi,pgeor,mter}@dbnet.ece.ntua.g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tional Technical University of Athe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pt. of Electrical and Computer Eng. , KDBS Laborato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Preliminari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95760" y="3716280"/>
            <a:ext cx="1066680" cy="5572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7600" y="4365720"/>
            <a:ext cx="1143000" cy="53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$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67120" y="2467080"/>
            <a:ext cx="53352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3043080"/>
            <a:ext cx="1105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5013360"/>
            <a:ext cx="11430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8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y$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543480" y="1773360"/>
            <a:ext cx="1180800" cy="533160"/>
            <a:chOff x="3543480" y="1773360"/>
            <a:chExt cx="1180800" cy="533160"/>
          </a:xfrm>
        </p:grpSpPr>
        <p:sp>
          <p:nvSpPr>
            <p:cNvPr id="184" name=""/>
            <p:cNvSpPr/>
            <p:nvPr/>
          </p:nvSpPr>
          <p:spPr>
            <a:xfrm>
              <a:off x="3543480" y="1773360"/>
              <a:ext cx="1180800" cy="533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38520" y="18334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nte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3E46B-D3BD-4ECB-A30D-30D1778723F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Relationship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53640" y="1599840"/>
            <a:ext cx="789948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-Of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-Of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Provi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715000" y="2438280"/>
            <a:ext cx="1750680" cy="303840"/>
            <a:chOff x="5715000" y="2438280"/>
            <a:chExt cx="1750680" cy="303840"/>
          </a:xfrm>
        </p:grpSpPr>
        <p:sp>
          <p:nvSpPr>
            <p:cNvPr id="189" name=""/>
            <p:cNvSpPr/>
            <p:nvPr/>
          </p:nvSpPr>
          <p:spPr>
            <a:xfrm>
              <a:off x="5715000" y="2438280"/>
              <a:ext cx="569160" cy="3038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0" name=""/>
            <p:cNvCxnSpPr>
              <a:stCxn id="189" idx="3"/>
            </p:cNvCxnSpPr>
            <p:nvPr/>
          </p:nvCxnSpPr>
          <p:spPr>
            <a:xfrm>
              <a:off x="6283800" y="2589840"/>
              <a:ext cx="1182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sp>
        <p:nvSpPr>
          <p:cNvPr id="191" name=""/>
          <p:cNvSpPr/>
          <p:nvPr/>
        </p:nvSpPr>
        <p:spPr>
          <a:xfrm>
            <a:off x="5791320" y="373392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32004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457200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91320" y="19810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8A989-68EA-4EEC-BCE7-45617520BEF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Activiti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53640" y="1599840"/>
            <a:ext cx="789948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Sche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Operational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3600" y="2556000"/>
            <a:ext cx="1292400" cy="1143000"/>
          </a:xfrm>
          <a:custGeom>
            <a:avLst/>
            <a:gdLst/>
            <a:ahLst/>
            <a:rect l="l" t="t" r="r" b="b"/>
            <a:pathLst>
              <a:path w="912" h="861">
                <a:moveTo>
                  <a:pt x="912" y="430"/>
                </a:moveTo>
                <a:lnTo>
                  <a:pt x="1" y="0"/>
                </a:lnTo>
                <a:lnTo>
                  <a:pt x="0" y="861"/>
                </a:lnTo>
                <a:lnTo>
                  <a:pt x="912" y="430"/>
                </a:lnTo>
                <a:close/>
              </a:path>
            </a:pathLst>
          </a:custGeom>
          <a:solidFill>
            <a:srgbClr val="ffff99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35440" y="2801880"/>
            <a:ext cx="1197000" cy="276120"/>
          </a:xfrm>
          <a:prstGeom prst="line">
            <a:avLst/>
          </a:prstGeom>
          <a:ln w="14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735080" y="3314880"/>
            <a:ext cx="1197000" cy="512640"/>
          </a:xfrm>
          <a:prstGeom prst="line">
            <a:avLst/>
          </a:prstGeom>
          <a:ln w="14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18000" y="2119320"/>
            <a:ext cx="460440" cy="636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11840" y="2697120"/>
            <a:ext cx="120600" cy="136440"/>
          </a:xfrm>
          <a:custGeom>
            <a:avLst/>
            <a:gdLst/>
            <a:ahLst/>
            <a:rect l="l" t="t" r="r" b="b"/>
            <a:pathLst>
              <a:path w="76" h="86">
                <a:moveTo>
                  <a:pt x="76" y="86"/>
                </a:moveTo>
                <a:lnTo>
                  <a:pt x="0" y="46"/>
                </a:lnTo>
                <a:lnTo>
                  <a:pt x="4" y="44"/>
                </a:lnTo>
                <a:lnTo>
                  <a:pt x="9" y="43"/>
                </a:lnTo>
                <a:lnTo>
                  <a:pt x="13" y="42"/>
                </a:lnTo>
                <a:lnTo>
                  <a:pt x="17" y="40"/>
                </a:lnTo>
                <a:lnTo>
                  <a:pt x="21" y="39"/>
                </a:lnTo>
                <a:lnTo>
                  <a:pt x="26" y="36"/>
                </a:lnTo>
                <a:lnTo>
                  <a:pt x="30" y="34"/>
                </a:lnTo>
                <a:lnTo>
                  <a:pt x="34" y="32"/>
                </a:lnTo>
                <a:lnTo>
                  <a:pt x="39" y="29"/>
                </a:lnTo>
                <a:lnTo>
                  <a:pt x="42" y="26"/>
                </a:lnTo>
                <a:lnTo>
                  <a:pt x="46" y="23"/>
                </a:lnTo>
                <a:lnTo>
                  <a:pt x="49" y="19"/>
                </a:lnTo>
                <a:lnTo>
                  <a:pt x="52" y="16"/>
                </a:lnTo>
                <a:lnTo>
                  <a:pt x="54" y="11"/>
                </a:lnTo>
                <a:lnTo>
                  <a:pt x="57" y="9"/>
                </a:lnTo>
                <a:lnTo>
                  <a:pt x="60" y="4"/>
                </a:lnTo>
                <a:lnTo>
                  <a:pt x="63" y="0"/>
                </a:lnTo>
                <a:lnTo>
                  <a:pt x="76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451640" y="2644920"/>
            <a:ext cx="1066680" cy="761760"/>
            <a:chOff x="7451640" y="2644920"/>
            <a:chExt cx="1066680" cy="761760"/>
          </a:xfrm>
        </p:grpSpPr>
        <p:sp>
          <p:nvSpPr>
            <p:cNvPr id="203" name=""/>
            <p:cNvSpPr/>
            <p:nvPr/>
          </p:nvSpPr>
          <p:spPr>
            <a:xfrm>
              <a:off x="7451640" y="2644920"/>
              <a:ext cx="1066680" cy="76176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08320" y="2919240"/>
              <a:ext cx="55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6001200" y="2835360"/>
            <a:ext cx="60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73640" y="1844640"/>
            <a:ext cx="118764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23040" y="3127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479840" y="2505240"/>
            <a:ext cx="1066680" cy="761760"/>
            <a:chOff x="4479840" y="2505240"/>
            <a:chExt cx="1066680" cy="761760"/>
          </a:xfrm>
        </p:grpSpPr>
        <p:sp>
          <p:nvSpPr>
            <p:cNvPr id="209" name=""/>
            <p:cNvSpPr/>
            <p:nvPr/>
          </p:nvSpPr>
          <p:spPr>
            <a:xfrm>
              <a:off x="4479840" y="2505240"/>
              <a:ext cx="1066680" cy="76176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36520" y="2779560"/>
              <a:ext cx="561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ut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479840" y="3343320"/>
            <a:ext cx="1066680" cy="762120"/>
            <a:chOff x="4479840" y="3343320"/>
            <a:chExt cx="1066680" cy="762120"/>
          </a:xfrm>
        </p:grpSpPr>
        <p:sp>
          <p:nvSpPr>
            <p:cNvPr id="212" name=""/>
            <p:cNvSpPr/>
            <p:nvPr/>
          </p:nvSpPr>
          <p:spPr>
            <a:xfrm>
              <a:off x="4479840" y="3343320"/>
              <a:ext cx="1066680" cy="76212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36520" y="3618000"/>
              <a:ext cx="561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ut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" descr=""/>
          <p:cNvPicPr/>
          <p:nvPr/>
        </p:nvPicPr>
        <p:blipFill>
          <a:blip r:embed="rId1"/>
          <a:srcRect l="23339" t="23622" r="23339" b="23055"/>
          <a:stretch/>
        </p:blipFill>
        <p:spPr>
          <a:xfrm>
            <a:off x="6004080" y="30639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C0D93-0145-41E9-95AC-E54547BEC77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907920" y="1844640"/>
            <a:ext cx="7696080" cy="4419360"/>
            <a:chOff x="907920" y="1844640"/>
            <a:chExt cx="7696080" cy="4419360"/>
          </a:xfrm>
        </p:grpSpPr>
        <p:sp>
          <p:nvSpPr>
            <p:cNvPr id="216" name=""/>
            <p:cNvSpPr/>
            <p:nvPr/>
          </p:nvSpPr>
          <p:spPr>
            <a:xfrm>
              <a:off x="7403760" y="1844640"/>
              <a:ext cx="1200240" cy="2793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34240" y="1845720"/>
              <a:ext cx="3812760" cy="2793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49040" y="3151800"/>
              <a:ext cx="705960" cy="5749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2037600" y="2413440"/>
              <a:ext cx="917640" cy="1969560"/>
              <a:chOff x="2037600" y="2413440"/>
              <a:chExt cx="917640" cy="1969560"/>
            </a:xfrm>
          </p:grpSpPr>
          <p:sp>
            <p:nvSpPr>
              <p:cNvPr id="220" name=""/>
              <p:cNvSpPr/>
              <p:nvPr/>
            </p:nvSpPr>
            <p:spPr>
              <a:xfrm>
                <a:off x="2037600" y="2413440"/>
                <a:ext cx="917640" cy="19695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49280" y="2577240"/>
                <a:ext cx="493920" cy="328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49280" y="3015000"/>
                <a:ext cx="493920" cy="328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249280" y="3452400"/>
                <a:ext cx="493920" cy="328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249280" y="3890520"/>
                <a:ext cx="493920" cy="328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1755000" y="3397680"/>
              <a:ext cx="28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7403760" y="2421360"/>
              <a:ext cx="917640" cy="1969560"/>
              <a:chOff x="7403760" y="2421360"/>
              <a:chExt cx="917640" cy="1969560"/>
            </a:xfrm>
          </p:grpSpPr>
          <p:sp>
            <p:nvSpPr>
              <p:cNvPr id="227" name=""/>
              <p:cNvSpPr/>
              <p:nvPr/>
            </p:nvSpPr>
            <p:spPr>
              <a:xfrm>
                <a:off x="7403760" y="2421360"/>
                <a:ext cx="917640" cy="19695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15440" y="2585160"/>
                <a:ext cx="493920" cy="328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615440" y="3022920"/>
                <a:ext cx="493920" cy="328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615440" y="3460320"/>
                <a:ext cx="493920" cy="328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615440" y="3898440"/>
                <a:ext cx="493920" cy="328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4469760" y="2046600"/>
              <a:ext cx="808560" cy="491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360" y="2128320"/>
              <a:ext cx="564480" cy="3286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.A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59680" y="4464720"/>
              <a:ext cx="0" cy="65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34240" y="2413440"/>
              <a:ext cx="705960" cy="1969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05160" y="2576520"/>
              <a:ext cx="493920" cy="3286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05160" y="3014280"/>
              <a:ext cx="493920" cy="3286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05160" y="3452040"/>
              <a:ext cx="493920" cy="3290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05160" y="3891240"/>
              <a:ext cx="493920" cy="326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41040" y="2421360"/>
              <a:ext cx="705960" cy="1969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82160" y="2585520"/>
              <a:ext cx="494280" cy="327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82160" y="3023280"/>
              <a:ext cx="494280" cy="327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82160" y="3461040"/>
              <a:ext cx="494280" cy="327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82160" y="3898800"/>
              <a:ext cx="494280" cy="3286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75360" y="2256480"/>
              <a:ext cx="423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11600" y="2256480"/>
              <a:ext cx="423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57840" y="1873080"/>
              <a:ext cx="17474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OPULATED_FIE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43560" y="2741040"/>
              <a:ext cx="561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43560" y="4055760"/>
              <a:ext cx="561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43560" y="3151800"/>
              <a:ext cx="561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40320" y="3645360"/>
              <a:ext cx="56448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99080" y="2748600"/>
              <a:ext cx="26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799080" y="3159360"/>
              <a:ext cx="26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652920"/>
              <a:ext cx="26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99080" y="4063320"/>
              <a:ext cx="26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47000" y="2748600"/>
              <a:ext cx="561600" cy="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47000" y="4063320"/>
              <a:ext cx="561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47000" y="3159360"/>
              <a:ext cx="56160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43760" y="3652920"/>
              <a:ext cx="56448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51400" y="3350880"/>
              <a:ext cx="141120" cy="828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82760" y="2256480"/>
              <a:ext cx="423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600400" y="1845720"/>
              <a:ext cx="0" cy="2792160"/>
            </a:xfrm>
            <a:prstGeom prst="line">
              <a:avLst/>
            </a:prstGeom>
            <a:ln w="255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77080" y="5121720"/>
              <a:ext cx="3318120" cy="1142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5360" indent="-225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ELECT IN.A1 AS OUT.A1, IN.A2 AS OUT.A2,IN.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AS OUT.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,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.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AS OUT.A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ROM NOTNULL_A1.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WHERE IN.A1 NOT NU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33960" y="1873080"/>
              <a:ext cx="9885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NotNull_A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395800">
              <a:off x="1966320" y="5277240"/>
              <a:ext cx="723960" cy="5752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82080" y="5367240"/>
              <a:ext cx="705600" cy="41040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58600" y="5029560"/>
              <a:ext cx="98820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NotNull_A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88040" y="5577120"/>
              <a:ext cx="352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5395800">
              <a:off x="2923200" y="5267880"/>
              <a:ext cx="724320" cy="5752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44920" y="556848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59440" y="4464720"/>
              <a:ext cx="16239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UT 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EMAN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18080" y="5039640"/>
              <a:ext cx="9882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SK_A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83800" y="5568480"/>
              <a:ext cx="352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98200" y="5468760"/>
              <a:ext cx="9882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07920" y="4956840"/>
              <a:ext cx="3742200" cy="1231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78480" y="4744080"/>
              <a:ext cx="9882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Activiti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616F7-A75A-4BDD-8178-A38E367D334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Logical Model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55640" y="1881360"/>
            <a:ext cx="7920000" cy="389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57888-1B4E-4345-B78D-3A157E58787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Templates for ETL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1A4B5-F564-4461-AA55-8F04157A841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Templates for ETL activiti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835280" y="1763640"/>
          <a:ext cx="6049800" cy="44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763640"/>
                    <a:ext cx="6049800" cy="44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8D2A4-ECA3-4A43-8A3D-2E091B59CD7D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Templates for ETL activiti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gical transform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nary opera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inary opera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hysical transform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ransfer opera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ile opera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r-Defined patter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ECDF3-F82C-4C81-9F08-9907A9259D6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Templates for ETL activiti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emplate Activ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formally defined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Na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Parameter 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Expressio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Mapp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model supports LDL as the formalism for the expression of this stat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51747-9F0A-4A61-872F-2766CB78253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Templates for ETL activiti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emplate Mechan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substitution mechanis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ased on macr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cilitates the </a:t>
            </a: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automatic cre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LDL co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imple </a:t>
            </a: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no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instantiation mechan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mits the easy and fast registration of LDL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550B2-CC5C-4CCE-8FF8-A022CFE8826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General Idea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need for a generic metamodel for the definition of the </a:t>
            </a: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data-centric pa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ETL activ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ey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declarative specification of the </a:t>
            </a: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data semantic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activ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palette of frequently-used ETL activities (</a:t>
            </a: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templ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uniform </a:t>
            </a: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extensibil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echanism for the library of built-i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too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the design of ETL scenari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74DF1-2A60-4962-B6DF-9260755DEB3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Templates for ETL activiti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template </a:t>
            </a: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no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imple language featuring four main mechanisms for dynamic production of LDL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a84d8"/>
                </a:solidFill>
                <a:latin typeface="Times New Roman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at are replaced by their values at instantiatio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200" spc="-1" strike="noStrike">
                <a:solidFill>
                  <a:srgbClr val="5a84d8"/>
                </a:solidFill>
                <a:latin typeface="Times New Roman"/>
              </a:rPr>
              <a:t>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ityOf(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that returns the arity of an input, output or parameter sch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a84d8"/>
                </a:solidFill>
                <a:latin typeface="Times New Roman"/>
              </a:rPr>
              <a:t>loop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here the loop body is repeated at instantiation time as many times as the iterator constraint def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a84d8"/>
                </a:solidFill>
                <a:latin typeface="Times New Roman"/>
              </a:rPr>
              <a:t>keywor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simplify the creation of unique predicate and attribut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07244-2121-452E-BD95-D004761460F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Templates for ETL activiti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tiation Mechan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instantiation order is as follows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5a3d1"/>
                </a:solidFill>
                <a:latin typeface="Courier New"/>
              </a:rPr>
              <a:t>arityOf()</a:t>
            </a:r>
            <a:r>
              <a:rPr b="1" lang="en-US" sz="2300" spc="-1" strike="noStrike">
                <a:solidFill>
                  <a:srgbClr val="95a3d1"/>
                </a:solidFill>
                <a:latin typeface="Times New Roman"/>
              </a:rPr>
              <a:t> function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300" spc="-1" strike="noStrike">
                <a:solidFill>
                  <a:srgbClr val="95a3d1"/>
                </a:solidFill>
                <a:latin typeface="Times New Roman"/>
              </a:rPr>
              <a:t>parameter variable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ppearing in loop boundaries are calculated firs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5a3d1"/>
                </a:solidFill>
                <a:latin typeface="Times New Roman"/>
              </a:rPr>
              <a:t>loop production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done by instantiating the appearances of the iterato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rest of the </a:t>
            </a:r>
            <a:r>
              <a:rPr b="1" lang="en-US" sz="2300" spc="-1" strike="noStrike">
                <a:solidFill>
                  <a:srgbClr val="95a3d1"/>
                </a:solidFill>
                <a:latin typeface="Times New Roman"/>
              </a:rPr>
              <a:t>parameter variables</a:t>
            </a:r>
            <a:r>
              <a:rPr b="1" lang="en-US" sz="23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re instantiated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5a3d1"/>
                </a:solidFill>
                <a:latin typeface="Times New Roman"/>
              </a:rPr>
              <a:t>keyword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recognized and renam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antiation order is important, since, different orders can lead to different resul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54D37-B963-48EA-814F-1C25B7BB4D9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Instantiation mechanism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2803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Templ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or “function applica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_out(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[i&lt;arityOf(a_in)+1]{A_OUT_$i$,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OUTFIELD) &lt;-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_in(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[i&lt;arityOf(a_in)]{A_IN_$i$,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[i= arityOf(a_in)]{A_IN_$i$})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,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@FUNCTION([i&lt; arityOf(@PARAM[$i$])+1]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{@PARAM[$i$],} OUTFIELD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Courier New"/>
              </a:rPr>
              <a:t>[i&lt;arityOf(a_in)] {A_OUT_$i$=A_IN_$i$,}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[i=arityOf(a_in)] {A_OUT_$i$=A_IN_$i$}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mean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cc0000"/>
                </a:solidFill>
                <a:latin typeface="Times New Roman"/>
              </a:rPr>
              <a:t>all the attributes of the output</a:t>
            </a:r>
            <a:r>
              <a:rPr b="0" lang="en-US" sz="2200" spc="-1" strike="noStrike">
                <a:solidFill>
                  <a:srgbClr val="666699"/>
                </a:solidFill>
                <a:latin typeface="Times New Roman"/>
              </a:rPr>
              <a:t> are produ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99"/>
                </a:solidFill>
                <a:latin typeface="Times New Roman"/>
              </a:rPr>
              <a:t>from 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</a:rPr>
              <a:t>all the attributes of the input</a:t>
            </a:r>
            <a:r>
              <a:rPr b="0" lang="en-US" sz="2200" spc="-1" strike="noStrike">
                <a:solidFill>
                  <a:srgbClr val="666699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99"/>
                </a:solidFill>
                <a:latin typeface="Times New Roman"/>
              </a:rPr>
              <a:t>with a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ra function applied (using its parameters), and a standard return valu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FIEL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the func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99"/>
                </a:solidFill>
                <a:latin typeface="Times New Roman"/>
              </a:rPr>
              <a:t>and </a:t>
            </a:r>
            <a:r>
              <a:rPr b="0" lang="en-US" sz="2200" spc="-1" strike="noStrike">
                <a:solidFill>
                  <a:srgbClr val="008000"/>
                </a:solidFill>
                <a:latin typeface="Times New Roman"/>
              </a:rPr>
              <a:t>the input attributes are mapped to the output attribu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591AB-0573-4DF3-8032-6A2C3FCC207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Instantiation mechanism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2803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Templ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_out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[i&lt;arityOf(a_in)+1]{A_OUT_$i$,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UTFIELD) &lt;-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866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a_in(</a:t>
            </a:r>
            <a:r>
              <a:rPr b="1" lang="en-US" sz="1900" spc="-1" strike="noStrike">
                <a:solidFill>
                  <a:srgbClr val="000099"/>
                </a:solidFill>
                <a:latin typeface="Courier New"/>
              </a:rPr>
              <a:t>[i&lt;arityOf(a_in)]{A_IN_$i$,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8866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Courier New"/>
              </a:rPr>
              <a:t>[i= arityOf(a_in)]{A_IN_$i$})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,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8866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@FUNCTION([i&lt; arityOf(@PARAM[$i$])+1]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{@PARAM[$i$],} OUTFIELD),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[i&lt;arityOf(a_in)] {A_OUT_$i$=A_IN_$i$,}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[i=arityOf(a_in)] {A_OUT_$i$=A_IN_$i$}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Loop produ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_out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A_OUT_1, A_OUT_2, A_OUT_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OUTFIELD) &lt;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a_in(A_IN_1, A_IN_2, A_IN_3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FUNCTION(@PARAM[1],@PARAM[2],OUTFIEL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A_OUT_1=A_IN_1,A_OUT_2=A_IN_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A_OUT_3=A_IN_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95511-93AC-40BD-AADD-651E978F2EA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Instantiation mechanism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2803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Loop produ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_out(A_OUT_1, A_OUT_2, A_OUT_3, OUTFIELD) &lt;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_in(A_IN_1, A_IN_2, A_IN_3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@FUNCTION(@PARAM[1],@PARAM[2]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FIEL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_OUT_1=A_IN_1,A_OUT_2=A_IN_2,A_OUT_3=A_IN_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Variable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_out(A_OUT_1, A_OUT_2, A_OUT_3, OUTFIELD)&lt;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_in(A_IN_1, A_IN_2, A_IN_3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f1(A_IN_2, A_IN_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OUTFIEL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_OUT_1=A_IN_1, A_OUT_2=A_IN_2, A_OUT_3=A_IN_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24360" y="3645000"/>
            <a:ext cx="2880000" cy="119124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@FUNCTION =f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@PARAM[1]=A_IN_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@PARAM[2]=A_IN_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AB2A4-C384-4EF1-B7E6-7A8E00FCBF5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Instantiation mechanism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2803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Variable Insta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_out(A_OUT_1, A_OUT_2, A_OUT_3, OUTFIELD)&lt;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_in(A_IN_1, A_IN_2, A_IN_3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(A_IN_2, A_IN_3,OUTFIELD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_OUT_1=A_IN_1, A_OUT_2=A_IN_2, A_OUT_3=A_IN_3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6699"/>
                </a:solidFill>
                <a:latin typeface="Times New Roman"/>
              </a:rPr>
              <a:t>Keyword Renam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12_out(FA12_OUT_1, FA12_OUT_2, FA12_OUT_3, OUTFIELD)&lt;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a12_in(FA12_IN_1, FA12_IN_2, FA12_IN_3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(FA12_IN_2, FA12_IN_3,OUTFIELD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12_OUT_1=FA12_IN_1, FA12_OUT_2=FA12_IN_2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12_OUT_3= FA12_IN_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C62EC-7553-4004-960B-A0153641796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Templates for ETL activiti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Taxonom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e separate template activities in two categ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Simple Templ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ich cover single-predicate templ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Program-Based Templ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here many predicates are used in the template defini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F9777-DBBB-4BB7-90D2-468370B2026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s for ETL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0D91B-3296-40BC-8D65-0674C734B28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Implementation – A</a:t>
            </a:r>
            <a:r>
              <a:rPr b="0" lang="en-US" sz="3800" spc="-1" strike="noStrike">
                <a:solidFill>
                  <a:srgbClr val="660033"/>
                </a:solidFill>
                <a:latin typeface="Times New Roman"/>
              </a:rPr>
              <a:t>RKTOS</a:t>
            </a: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 II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84d8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5a84d8"/>
                </a:solidFill>
                <a:latin typeface="Times New Roman"/>
              </a:rPr>
              <a:t>RKTOS</a:t>
            </a:r>
            <a:r>
              <a:rPr b="1" lang="en-US" sz="2400" spc="-1" strike="noStrike">
                <a:solidFill>
                  <a:srgbClr val="5a84d8"/>
                </a:solidFill>
                <a:latin typeface="Times New Roman"/>
              </a:rPr>
              <a:t>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tool for the design of ETL scenar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84d8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5a84d8"/>
                </a:solidFill>
                <a:latin typeface="Times New Roman"/>
              </a:rPr>
              <a:t>RKTOS</a:t>
            </a:r>
            <a:r>
              <a:rPr b="1" lang="en-US" sz="2400" spc="-1" strike="noStrike">
                <a:solidFill>
                  <a:srgbClr val="5a84d8"/>
                </a:solidFill>
                <a:latin typeface="Times New Roman"/>
              </a:rPr>
              <a:t> 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function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friendly </a:t>
            </a:r>
            <a:r>
              <a:rPr b="0" lang="en-US" sz="2200" spc="-1" strike="noStrike">
                <a:solidFill>
                  <a:srgbClr val="5a84d8"/>
                </a:solidFill>
                <a:latin typeface="Times New Roman"/>
              </a:rPr>
              <a:t>GU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set of reusable, customizable and extensible ‘</a:t>
            </a:r>
            <a:r>
              <a:rPr b="0" lang="en-US" sz="2200" spc="-1" strike="noStrike">
                <a:solidFill>
                  <a:srgbClr val="5a84d8"/>
                </a:solidFill>
                <a:latin typeface="Times New Roman"/>
              </a:rPr>
              <a:t>templat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’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metadata </a:t>
            </a:r>
            <a:r>
              <a:rPr b="0" lang="en-US" sz="2200" spc="-1" strike="noStrike">
                <a:solidFill>
                  <a:srgbClr val="5a84d8"/>
                </a:solidFill>
                <a:latin typeface="Times New Roman"/>
              </a:rPr>
              <a:t>reposito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storing, retrieving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using scenar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a84d8"/>
                </a:solidFill>
                <a:latin typeface="Times New Roman"/>
              </a:rPr>
              <a:t>zoom-in/zoom-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pabili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omatic </a:t>
            </a:r>
            <a:r>
              <a:rPr b="0" lang="en-US" sz="2200" spc="-1" strike="noStrike">
                <a:solidFill>
                  <a:srgbClr val="5a84d8"/>
                </a:solidFill>
                <a:latin typeface="Times New Roman"/>
              </a:rPr>
              <a:t>consistency check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the completeness and integrity of the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omputation of the scenario's design quality by employing a set of </a:t>
            </a:r>
            <a:r>
              <a:rPr b="0" lang="en-US" sz="2200" spc="-1" strike="noStrike">
                <a:solidFill>
                  <a:srgbClr val="5a84d8"/>
                </a:solidFill>
                <a:latin typeface="Times New Roman"/>
              </a:rPr>
              <a:t>metric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DMDW’02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ither for the whole scenario or for each activity of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4CD9C-CCFE-4D27-856F-EB720E24FDC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Implementation – A</a:t>
            </a:r>
            <a:r>
              <a:rPr b="0" lang="en-US" sz="3800" spc="-1" strike="noStrike">
                <a:solidFill>
                  <a:srgbClr val="660033"/>
                </a:solidFill>
                <a:latin typeface="Times New Roman"/>
              </a:rPr>
              <a:t>RKTOS</a:t>
            </a: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 II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55640" y="1881360"/>
            <a:ext cx="7920000" cy="389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080D5-BFE8-4929-A833-968524D8FF6C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s for ETL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32571-E99C-4A55-9F16-2EB4D49341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Implementation – A</a:t>
            </a:r>
            <a:r>
              <a:rPr b="0" lang="en-US" sz="3800" spc="-1" strike="noStrike">
                <a:solidFill>
                  <a:srgbClr val="660033"/>
                </a:solidFill>
                <a:latin typeface="Times New Roman"/>
              </a:rPr>
              <a:t>RKTOS</a:t>
            </a: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 II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973080" y="1744560"/>
            <a:ext cx="7775640" cy="456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BEE05-022E-4DEA-8BB8-A8681930B26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s for ETL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7A97D-EC65-48FA-829F-FDE6492ABB8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onclusion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ed a </a:t>
            </a: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framewor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design of ETL scenarios, that comprise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formal logical Metamodel as a logical abstraction of ETL proces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reusability framework that complements the genericity of the Meta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graphical tool, 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KTO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I, that facilitates the design of ETL scenarios, based on our mode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A2AEE-16AD-492A-9E9C-A61F1904C38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On-going/Future Work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5a84d8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5a84d8"/>
                </a:solidFill>
                <a:latin typeface="Times New Roman"/>
              </a:rPr>
              <a:t>RKTOS</a:t>
            </a:r>
            <a:r>
              <a:rPr b="1" lang="en-US" sz="2900" spc="-1" strike="noStrike">
                <a:solidFill>
                  <a:srgbClr val="5a84d8"/>
                </a:solidFill>
                <a:latin typeface="Times New Roman"/>
              </a:rPr>
              <a:t> I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project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s aimed toward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h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ceptual mode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gical mode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84d8"/>
                </a:solidFill>
                <a:latin typeface="Times New Roman"/>
              </a:rPr>
              <a:t>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84d8"/>
                </a:solidFill>
                <a:latin typeface="Times New Roman"/>
              </a:rPr>
              <a:t>What-if analy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84d8"/>
                </a:solidFill>
                <a:latin typeface="Times New Roman"/>
              </a:rPr>
              <a:t>Practical evaluation (?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f ETL scenario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http://www.dbnet.ece.ntua.g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~pvassil/projects/arktos_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72360" y="5013360"/>
            <a:ext cx="2251080" cy="99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969C6-9E01-414D-BC07-456DD45F758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755640" y="2573280"/>
            <a:ext cx="813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Thank yo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E34D1-EA5F-4570-8EC3-55241D5681C2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069080" y="321948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-up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63934-F15F-42FE-9A9F-413FCBFD5846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Templates for ETL activiti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9146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on (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t null (N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ary key violation (P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eign key violation (F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ique value (U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main mismatch D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ry trans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gregation (γ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jection (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π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application (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rrogate key assignment(S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uple normalization (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uple denormalization (D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trans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ion (U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oin (</a:t>
            </a:r>
            <a:r>
              <a:rPr b="0" lang="en-US" sz="1400" spc="-1" strike="noStrike">
                <a:solidFill>
                  <a:srgbClr val="000000"/>
                </a:solidFill>
                <a:latin typeface="MT Extra"/>
                <a:ea typeface="MT Extra"/>
              </a:rPr>
              <a:t>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 (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pdate Detection (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Δ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UP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8440" y="1599840"/>
            <a:ext cx="39146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e trans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lowly changing dimension (Type 1,2,3) (SDC-1/2/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mat mismatch (F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type conversion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TC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witch (σ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tended union (U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BCDIC to ASCII conversion (EB2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rt file (Sor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 (FT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ress/Decompress (Z/d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crypt/Decrypt (Cr/dC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A9C64-2A97-41E3-BC5F-11DF94E2CFD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754200" y="1700280"/>
            <a:ext cx="8210520" cy="265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97600" y="2687760"/>
            <a:ext cx="361800" cy="28548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02280" y="3943440"/>
            <a:ext cx="361800" cy="28404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41880" y="3943440"/>
            <a:ext cx="362160" cy="28404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39000" y="2687760"/>
            <a:ext cx="361800" cy="28548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80400" y="2687760"/>
            <a:ext cx="361800" cy="28548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105520" y="4502160"/>
            <a:ext cx="3859200" cy="1728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54200" y="4575240"/>
            <a:ext cx="1123920" cy="169056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5400000">
            <a:off x="4153320" y="2046960"/>
            <a:ext cx="512640" cy="6541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025880" y="2346480"/>
            <a:ext cx="65088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dd_SPK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38760" y="1938240"/>
            <a:ext cx="941040" cy="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UPPKEY=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"/>
          <p:cNvCxnSpPr>
            <a:stCxn id="337" idx="2"/>
            <a:endCxn id="335" idx="1"/>
          </p:cNvCxnSpPr>
          <p:nvPr/>
        </p:nvCxnSpPr>
        <p:spPr>
          <a:xfrm flipH="1">
            <a:off x="4408200" y="2025720"/>
            <a:ext cx="216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 rot="5400000">
            <a:off x="5022000" y="2048760"/>
            <a:ext cx="51264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2340000"/>
            <a:ext cx="43524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K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07080" y="1766880"/>
            <a:ext cx="9428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.PKEY, LOOKUP_PS.SKEY, SUPPKE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"/>
          <p:cNvCxnSpPr>
            <a:stCxn id="341" idx="2"/>
            <a:endCxn id="339" idx="1"/>
          </p:cNvCxnSpPr>
          <p:nvPr/>
        </p:nvCxnSpPr>
        <p:spPr>
          <a:xfrm>
            <a:off x="5279760" y="205560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 rot="5400000">
            <a:off x="5963760" y="2049480"/>
            <a:ext cx="512640" cy="6490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96080" y="2340000"/>
            <a:ext cx="43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2€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749920" y="1946160"/>
            <a:ext cx="94140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CO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"/>
          <p:cNvCxnSpPr>
            <a:stCxn id="345" idx="2"/>
            <a:endCxn id="343" idx="1"/>
          </p:cNvCxnSpPr>
          <p:nvPr/>
        </p:nvCxnSpPr>
        <p:spPr>
          <a:xfrm>
            <a:off x="6221160" y="203184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7" name=""/>
          <p:cNvSpPr/>
          <p:nvPr/>
        </p:nvSpPr>
        <p:spPr>
          <a:xfrm rot="5400000">
            <a:off x="6904800" y="2048760"/>
            <a:ext cx="51264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692760" y="1946160"/>
            <a:ext cx="94320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A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"/>
          <p:cNvCxnSpPr>
            <a:stCxn id="348" idx="2"/>
            <a:endCxn id="347" idx="1"/>
          </p:cNvCxnSpPr>
          <p:nvPr/>
        </p:nvCxnSpPr>
        <p:spPr>
          <a:xfrm flipH="1">
            <a:off x="7162560" y="2031840"/>
            <a:ext cx="36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3073320" y="3371760"/>
            <a:ext cx="723960" cy="5130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4156560" y="3301200"/>
            <a:ext cx="513000" cy="6537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043520" y="3592440"/>
            <a:ext cx="6508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dd_SPK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43440" y="3200400"/>
            <a:ext cx="939600" cy="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UPPKEY=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53" idx="2"/>
            <a:endCxn id="351" idx="1"/>
          </p:cNvCxnSpPr>
          <p:nvPr/>
        </p:nvCxnSpPr>
        <p:spPr>
          <a:xfrm flipH="1">
            <a:off x="4411440" y="3287880"/>
            <a:ext cx="360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5" name=""/>
          <p:cNvSpPr/>
          <p:nvPr/>
        </p:nvSpPr>
        <p:spPr>
          <a:xfrm rot="5400000">
            <a:off x="5024880" y="3302640"/>
            <a:ext cx="51300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954680" y="3592440"/>
            <a:ext cx="43344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K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821120" y="3059280"/>
            <a:ext cx="9432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.PKEY, LOOKUP_PS.SKEY, SUPPKE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"/>
          <p:cNvCxnSpPr>
            <a:stCxn id="357" idx="2"/>
            <a:endCxn id="355" idx="1"/>
          </p:cNvCxnSpPr>
          <p:nvPr/>
        </p:nvCxnSpPr>
        <p:spPr>
          <a:xfrm flipH="1">
            <a:off x="5283000" y="3366720"/>
            <a:ext cx="10080" cy="1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 rot="5400000">
            <a:off x="5967000" y="3303720"/>
            <a:ext cx="513000" cy="6490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753160" y="3200400"/>
            <a:ext cx="939600" cy="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CO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"/>
          <p:cNvCxnSpPr>
            <a:stCxn id="360" idx="2"/>
            <a:endCxn id="359" idx="1"/>
          </p:cNvCxnSpPr>
          <p:nvPr/>
        </p:nvCxnSpPr>
        <p:spPr>
          <a:xfrm>
            <a:off x="6224400" y="328752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" name=""/>
          <p:cNvSpPr/>
          <p:nvPr/>
        </p:nvSpPr>
        <p:spPr>
          <a:xfrm rot="5400000">
            <a:off x="6907680" y="3302640"/>
            <a:ext cx="51300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624720" y="3200400"/>
            <a:ext cx="1084320" cy="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ATE=SYSDA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63" idx="2"/>
            <a:endCxn id="362" idx="1"/>
          </p:cNvCxnSpPr>
          <p:nvPr/>
        </p:nvCxnSpPr>
        <p:spPr>
          <a:xfrm flipH="1">
            <a:off x="7165080" y="3287520"/>
            <a:ext cx="252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>
            <a:off x="6789600" y="3592440"/>
            <a:ext cx="63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ddDat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5400000">
            <a:off x="7839720" y="3302640"/>
            <a:ext cx="51300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737480" y="3592440"/>
            <a:ext cx="73656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CheckQT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562880" y="3200400"/>
            <a:ext cx="1060560" cy="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QTY&gt;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"/>
          <p:cNvCxnSpPr>
            <a:stCxn id="368" idx="2"/>
            <a:endCxn id="366" idx="1"/>
          </p:cNvCxnSpPr>
          <p:nvPr/>
        </p:nvCxnSpPr>
        <p:spPr>
          <a:xfrm>
            <a:off x="8092800" y="3287520"/>
            <a:ext cx="39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 rot="5400000">
            <a:off x="8091000" y="2168280"/>
            <a:ext cx="512640" cy="6526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20080" y="2467080"/>
            <a:ext cx="436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"/>
          <p:cNvCxnSpPr>
            <a:stCxn id="335" idx="0"/>
            <a:endCxn id="339" idx="3"/>
          </p:cNvCxnSpPr>
          <p:nvPr/>
        </p:nvCxnSpPr>
        <p:spPr>
          <a:xfrm>
            <a:off x="4735440" y="237312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339" idx="0"/>
            <a:endCxn id="343" idx="3"/>
          </p:cNvCxnSpPr>
          <p:nvPr/>
        </p:nvCxnSpPr>
        <p:spPr>
          <a:xfrm>
            <a:off x="5601960" y="2373120"/>
            <a:ext cx="292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"/>
          <p:cNvCxnSpPr>
            <a:stCxn id="343" idx="0"/>
            <a:endCxn id="347" idx="3"/>
          </p:cNvCxnSpPr>
          <p:nvPr/>
        </p:nvCxnSpPr>
        <p:spPr>
          <a:xfrm>
            <a:off x="6544800" y="23731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5" name=""/>
          <p:cNvCxnSpPr>
            <a:stCxn id="351" idx="0"/>
            <a:endCxn id="355" idx="3"/>
          </p:cNvCxnSpPr>
          <p:nvPr/>
        </p:nvCxnSpPr>
        <p:spPr>
          <a:xfrm>
            <a:off x="4738680" y="362700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55" idx="0"/>
            <a:endCxn id="359" idx="3"/>
          </p:cNvCxnSpPr>
          <p:nvPr/>
        </p:nvCxnSpPr>
        <p:spPr>
          <a:xfrm>
            <a:off x="5605200" y="362700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59" idx="0"/>
            <a:endCxn id="362" idx="3"/>
          </p:cNvCxnSpPr>
          <p:nvPr/>
        </p:nvCxnSpPr>
        <p:spPr>
          <a:xfrm>
            <a:off x="6548040" y="362700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8" name=""/>
          <p:cNvCxnSpPr>
            <a:stCxn id="362" idx="0"/>
            <a:endCxn id="366" idx="3"/>
          </p:cNvCxnSpPr>
          <p:nvPr/>
        </p:nvCxnSpPr>
        <p:spPr>
          <a:xfrm>
            <a:off x="7488360" y="3627000"/>
            <a:ext cx="281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50" idx="4"/>
            <a:endCxn id="351" idx="3"/>
          </p:cNvCxnSpPr>
          <p:nvPr/>
        </p:nvCxnSpPr>
        <p:spPr>
          <a:xfrm flipV="1">
            <a:off x="3797280" y="3626640"/>
            <a:ext cx="28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3070080" y="2117880"/>
            <a:ext cx="723960" cy="5126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"/>
          <p:cNvCxnSpPr>
            <a:stCxn id="380" idx="4"/>
            <a:endCxn id="335" idx="3"/>
          </p:cNvCxnSpPr>
          <p:nvPr/>
        </p:nvCxnSpPr>
        <p:spPr>
          <a:xfrm flipV="1">
            <a:off x="3794040" y="2373120"/>
            <a:ext cx="288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5097600" y="2789280"/>
            <a:ext cx="652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240160" y="254016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241960" y="2516040"/>
            <a:ext cx="0" cy="17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00480" y="4044960"/>
            <a:ext cx="652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246640" y="3794040"/>
            <a:ext cx="652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246640" y="37720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37480" y="2338560"/>
            <a:ext cx="649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2EDa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857920" y="3592440"/>
            <a:ext cx="6508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NotNUL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41880" y="4044960"/>
            <a:ext cx="652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88040" y="3794040"/>
            <a:ext cx="652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86600" y="37720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37200" y="2789280"/>
            <a:ext cx="654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83360" y="2540160"/>
            <a:ext cx="654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83360" y="2516040"/>
            <a:ext cx="0" cy="17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980400" y="2789280"/>
            <a:ext cx="65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122960" y="254016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124760" y="2516040"/>
            <a:ext cx="0" cy="17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2252880" y="2049480"/>
            <a:ext cx="51408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84480" y="2335320"/>
            <a:ext cx="51264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IFF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928880" y="1827360"/>
            <a:ext cx="1158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.PKEY,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.PKE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"/>
          <p:cNvCxnSpPr>
            <a:stCxn id="401" idx="2"/>
            <a:endCxn id="399" idx="1"/>
          </p:cNvCxnSpPr>
          <p:nvPr/>
        </p:nvCxnSpPr>
        <p:spPr>
          <a:xfrm>
            <a:off x="2507760" y="2034720"/>
            <a:ext cx="2520" cy="21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3" name=""/>
          <p:cNvSpPr/>
          <p:nvPr/>
        </p:nvSpPr>
        <p:spPr>
          <a:xfrm>
            <a:off x="1095480" y="1827360"/>
            <a:ext cx="725400" cy="51408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"/>
          <p:cNvCxnSpPr>
            <a:stCxn id="403" idx="4"/>
            <a:endCxn id="399" idx="3"/>
          </p:cNvCxnSpPr>
          <p:nvPr/>
        </p:nvCxnSpPr>
        <p:spPr>
          <a:xfrm>
            <a:off x="1820880" y="2084040"/>
            <a:ext cx="36432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1095480" y="2398680"/>
            <a:ext cx="725400" cy="5126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"/>
          <p:cNvCxnSpPr>
            <a:stCxn id="407" idx="0"/>
            <a:endCxn id="403" idx="2"/>
          </p:cNvCxnSpPr>
          <p:nvPr/>
        </p:nvCxnSpPr>
        <p:spPr>
          <a:xfrm flipH="1" flipV="1">
            <a:off x="1094760" y="2084040"/>
            <a:ext cx="1765800" cy="2870640"/>
          </a:xfrm>
          <a:prstGeom prst="bentConnector5">
            <a:avLst>
              <a:gd name="adj1" fmla="val -12520"/>
              <a:gd name="adj2" fmla="val 16254"/>
              <a:gd name="adj3" fmla="val 11435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405" idx="4"/>
            <a:endCxn id="399" idx="3"/>
          </p:cNvCxnSpPr>
          <p:nvPr/>
        </p:nvCxnSpPr>
        <p:spPr>
          <a:xfrm flipV="1">
            <a:off x="1820880" y="2374560"/>
            <a:ext cx="364320" cy="28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9" name=""/>
          <p:cNvSpPr/>
          <p:nvPr/>
        </p:nvSpPr>
        <p:spPr>
          <a:xfrm>
            <a:off x="5433840" y="4675320"/>
            <a:ext cx="725760" cy="5112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W.PARTSUP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5400000">
            <a:off x="7589520" y="4608360"/>
            <a:ext cx="513000" cy="6523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450200" y="4898880"/>
            <a:ext cx="7938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ggregate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373880" y="4538520"/>
            <a:ext cx="9432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PKEY, DA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MIN(COST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"/>
          <p:cNvCxnSpPr>
            <a:stCxn id="412" idx="2"/>
            <a:endCxn id="410" idx="1"/>
          </p:cNvCxnSpPr>
          <p:nvPr/>
        </p:nvCxnSpPr>
        <p:spPr>
          <a:xfrm>
            <a:off x="7845120" y="4683240"/>
            <a:ext cx="3960" cy="1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4" name=""/>
          <p:cNvSpPr/>
          <p:nvPr/>
        </p:nvSpPr>
        <p:spPr>
          <a:xfrm rot="5400000">
            <a:off x="7588800" y="5453640"/>
            <a:ext cx="514440" cy="6523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450200" y="5745240"/>
            <a:ext cx="7538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ggregate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373880" y="5270400"/>
            <a:ext cx="943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PKEY, MONT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VG(COST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"/>
          <p:cNvCxnSpPr>
            <a:stCxn id="416" idx="2"/>
            <a:endCxn id="414" idx="1"/>
          </p:cNvCxnSpPr>
          <p:nvPr/>
        </p:nvCxnSpPr>
        <p:spPr>
          <a:xfrm>
            <a:off x="7846560" y="5440320"/>
            <a:ext cx="108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" name=""/>
          <p:cNvCxnSpPr>
            <a:stCxn id="409" idx="4"/>
            <a:endCxn id="410" idx="3"/>
          </p:cNvCxnSpPr>
          <p:nvPr/>
        </p:nvCxnSpPr>
        <p:spPr>
          <a:xfrm>
            <a:off x="6159600" y="4930920"/>
            <a:ext cx="13593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9" name=""/>
          <p:cNvSpPr/>
          <p:nvPr/>
        </p:nvSpPr>
        <p:spPr>
          <a:xfrm>
            <a:off x="8461440" y="5580000"/>
            <a:ext cx="361800" cy="3985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08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"/>
          <p:cNvCxnSpPr>
            <a:stCxn id="414" idx="0"/>
            <a:endCxn id="419" idx="2"/>
          </p:cNvCxnSpPr>
          <p:nvPr/>
        </p:nvCxnSpPr>
        <p:spPr>
          <a:xfrm>
            <a:off x="8170560" y="5780160"/>
            <a:ext cx="29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8461440" y="4735440"/>
            <a:ext cx="361800" cy="3985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08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"/>
          <p:cNvCxnSpPr>
            <a:stCxn id="410" idx="0"/>
            <a:endCxn id="421" idx="2"/>
          </p:cNvCxnSpPr>
          <p:nvPr/>
        </p:nvCxnSpPr>
        <p:spPr>
          <a:xfrm>
            <a:off x="8170560" y="4933440"/>
            <a:ext cx="291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"/>
          <p:cNvSpPr/>
          <p:nvPr/>
        </p:nvSpPr>
        <p:spPr>
          <a:xfrm>
            <a:off x="5429160" y="5518080"/>
            <a:ext cx="723960" cy="5144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TIM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5400000">
            <a:off x="6662160" y="5455440"/>
            <a:ext cx="51264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593040" y="5745240"/>
            <a:ext cx="433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Wingdings 3"/>
                <a:ea typeface="Wingdings 3"/>
              </a:rPr>
              <a:t>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386400" y="5278320"/>
            <a:ext cx="106056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W.PARTSUPP.DATE,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A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6" idx="2"/>
            <a:endCxn id="424" idx="1"/>
          </p:cNvCxnSpPr>
          <p:nvPr/>
        </p:nvCxnSpPr>
        <p:spPr>
          <a:xfrm>
            <a:off x="6916320" y="5450040"/>
            <a:ext cx="5400" cy="20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9" idx="4"/>
            <a:endCxn id="424" idx="3"/>
          </p:cNvCxnSpPr>
          <p:nvPr/>
        </p:nvCxnSpPr>
        <p:spPr>
          <a:xfrm>
            <a:off x="6159600" y="4930560"/>
            <a:ext cx="437040" cy="85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23" idx="4"/>
            <a:endCxn id="424" idx="3"/>
          </p:cNvCxnSpPr>
          <p:nvPr/>
        </p:nvCxnSpPr>
        <p:spPr>
          <a:xfrm>
            <a:off x="6152760" y="5775120"/>
            <a:ext cx="4374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24" idx="0"/>
            <a:endCxn id="414" idx="3"/>
          </p:cNvCxnSpPr>
          <p:nvPr/>
        </p:nvCxnSpPr>
        <p:spPr>
          <a:xfrm>
            <a:off x="7242120" y="5779800"/>
            <a:ext cx="278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 rot="5400000">
            <a:off x="2276640" y="4629240"/>
            <a:ext cx="512640" cy="6523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208240" y="4916520"/>
            <a:ext cx="43488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FTP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942840" y="4699080"/>
            <a:ext cx="723960" cy="5126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_PARTSUP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"/>
          <p:cNvCxnSpPr>
            <a:stCxn id="432" idx="4"/>
            <a:endCxn id="407" idx="3"/>
          </p:cNvCxnSpPr>
          <p:nvPr/>
        </p:nvCxnSpPr>
        <p:spPr>
          <a:xfrm flipV="1">
            <a:off x="1666800" y="4954320"/>
            <a:ext cx="5421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942840" y="5526000"/>
            <a:ext cx="723960" cy="5130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_PARTSUP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5400000">
            <a:off x="2276280" y="5456160"/>
            <a:ext cx="513000" cy="6523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208240" y="5746680"/>
            <a:ext cx="43488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FTP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"/>
          <p:cNvCxnSpPr>
            <a:stCxn id="434" idx="4"/>
            <a:endCxn id="435" idx="3"/>
          </p:cNvCxnSpPr>
          <p:nvPr/>
        </p:nvCxnSpPr>
        <p:spPr>
          <a:xfrm flipV="1">
            <a:off x="1666800" y="5780880"/>
            <a:ext cx="5421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1095480" y="3092400"/>
            <a:ext cx="725400" cy="5126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5400000">
            <a:off x="2252520" y="3306600"/>
            <a:ext cx="51444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184480" y="3598920"/>
            <a:ext cx="51264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IFF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"/>
          <p:cNvCxnSpPr>
            <a:stCxn id="438" idx="4"/>
            <a:endCxn id="439" idx="3"/>
          </p:cNvCxnSpPr>
          <p:nvPr/>
        </p:nvCxnSpPr>
        <p:spPr>
          <a:xfrm>
            <a:off x="1820880" y="3349800"/>
            <a:ext cx="364320" cy="28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"/>
          <p:cNvSpPr/>
          <p:nvPr/>
        </p:nvSpPr>
        <p:spPr>
          <a:xfrm>
            <a:off x="1095480" y="3662280"/>
            <a:ext cx="725400" cy="5130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"/>
          <p:cNvCxnSpPr>
            <a:stCxn id="435" idx="0"/>
            <a:endCxn id="438" idx="2"/>
          </p:cNvCxnSpPr>
          <p:nvPr/>
        </p:nvCxnSpPr>
        <p:spPr>
          <a:xfrm flipH="1" flipV="1">
            <a:off x="1094760" y="3349080"/>
            <a:ext cx="1765800" cy="2432520"/>
          </a:xfrm>
          <a:prstGeom prst="bentConnector5">
            <a:avLst>
              <a:gd name="adj1" fmla="val -16027"/>
              <a:gd name="adj2" fmla="val 56261"/>
              <a:gd name="adj3" fmla="val 10972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2" idx="4"/>
            <a:endCxn id="439" idx="3"/>
          </p:cNvCxnSpPr>
          <p:nvPr/>
        </p:nvCxnSpPr>
        <p:spPr>
          <a:xfrm flipV="1">
            <a:off x="1820880" y="3631320"/>
            <a:ext cx="36432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5" name=""/>
          <p:cNvSpPr/>
          <p:nvPr/>
        </p:nvSpPr>
        <p:spPr>
          <a:xfrm>
            <a:off x="1928880" y="3092400"/>
            <a:ext cx="11588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.PKEY,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.PKE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"/>
          <p:cNvCxnSpPr>
            <a:stCxn id="445" idx="2"/>
            <a:endCxn id="439" idx="1"/>
          </p:cNvCxnSpPr>
          <p:nvPr/>
        </p:nvCxnSpPr>
        <p:spPr>
          <a:xfrm>
            <a:off x="2507760" y="3319200"/>
            <a:ext cx="2520" cy="18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"/>
          <p:cNvCxnSpPr>
            <a:stCxn id="399" idx="0"/>
            <a:endCxn id="380" idx="2"/>
          </p:cNvCxnSpPr>
          <p:nvPr/>
        </p:nvCxnSpPr>
        <p:spPr>
          <a:xfrm>
            <a:off x="2835360" y="2374560"/>
            <a:ext cx="235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347" idx="0"/>
            <a:endCxn id="370" idx="3"/>
          </p:cNvCxnSpPr>
          <p:nvPr/>
        </p:nvCxnSpPr>
        <p:spPr>
          <a:xfrm>
            <a:off x="7486560" y="2374560"/>
            <a:ext cx="535680" cy="11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366" idx="0"/>
            <a:endCxn id="370" idx="3"/>
          </p:cNvCxnSpPr>
          <p:nvPr/>
        </p:nvCxnSpPr>
        <p:spPr>
          <a:xfrm flipH="1" flipV="1">
            <a:off x="8021160" y="2493360"/>
            <a:ext cx="401040" cy="1135800"/>
          </a:xfrm>
          <a:prstGeom prst="bentConnector5">
            <a:avLst>
              <a:gd name="adj1" fmla="val -53908"/>
              <a:gd name="adj2" fmla="val 50000"/>
              <a:gd name="adj3" fmla="val 1539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"/>
          <p:cNvCxnSpPr>
            <a:stCxn id="370" idx="0"/>
            <a:endCxn id="409" idx="2"/>
          </p:cNvCxnSpPr>
          <p:nvPr/>
        </p:nvCxnSpPr>
        <p:spPr>
          <a:xfrm flipH="1">
            <a:off x="5433120" y="2493720"/>
            <a:ext cx="3242520" cy="2437560"/>
          </a:xfrm>
          <a:prstGeom prst="bentConnector5">
            <a:avLst>
              <a:gd name="adj1" fmla="val -6817"/>
              <a:gd name="adj2" fmla="val 78596"/>
              <a:gd name="adj3" fmla="val 10687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1" name=""/>
          <p:cNvSpPr/>
          <p:nvPr/>
        </p:nvSpPr>
        <p:spPr>
          <a:xfrm>
            <a:off x="754200" y="6004080"/>
            <a:ext cx="112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105520" y="6004080"/>
            <a:ext cx="37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D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54200" y="4089240"/>
            <a:ext cx="785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D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Logical Model </a:t>
            </a:r>
            <a:r>
              <a:rPr b="0" lang="en-US" sz="2100" spc="-1" strike="noStrike">
                <a:solidFill>
                  <a:srgbClr val="660033"/>
                </a:solidFill>
                <a:latin typeface="Times New Roman"/>
              </a:rPr>
              <a:t>[DMDW’02, CAiSE’03]</a:t>
            </a:r>
            <a:endParaRPr b="0" lang="en-US" sz="2100" spc="-1" strike="noStrike">
              <a:solidFill>
                <a:srgbClr val="660033"/>
              </a:solidFill>
              <a:latin typeface="Times New Roman"/>
            </a:endParaRPr>
          </a:p>
        </p:txBody>
      </p:sp>
      <p:cxnSp>
        <p:nvCxnSpPr>
          <p:cNvPr id="455" name=""/>
          <p:cNvCxnSpPr/>
          <p:nvPr/>
        </p:nvCxnSpPr>
        <p:spPr>
          <a:xfrm>
            <a:off x="2843280" y="3633480"/>
            <a:ext cx="235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C5001-E8AD-41A0-845B-374B44F33886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onceptual Model </a:t>
            </a:r>
            <a:r>
              <a:rPr b="0" lang="en-US" sz="2100" spc="-1" strike="noStrike">
                <a:solidFill>
                  <a:srgbClr val="660033"/>
                </a:solidFill>
                <a:latin typeface="Times New Roman"/>
              </a:rPr>
              <a:t>[DOLAP’02, DSE’03]</a:t>
            </a:r>
            <a:endParaRPr b="0" lang="en-US" sz="21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1116000" y="1771560"/>
          <a:ext cx="7559640" cy="43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71560"/>
                    <a:ext cx="7559640" cy="43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86048-AC9F-4124-9968-BC91BC9A74C6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Mot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s for ETL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4F2E5-4E9D-45C4-94FC-4A7D1C0ACCB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Extract-Transform-Load (ETL)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258920" y="2046240"/>
            <a:ext cx="6697440" cy="3830400"/>
            <a:chOff x="1258920" y="2046240"/>
            <a:chExt cx="6697440" cy="3830400"/>
          </a:xfrm>
        </p:grpSpPr>
        <p:sp>
          <p:nvSpPr>
            <p:cNvPr id="105" name=""/>
            <p:cNvSpPr/>
            <p:nvPr/>
          </p:nvSpPr>
          <p:spPr>
            <a:xfrm>
              <a:off x="1258920" y="4651200"/>
              <a:ext cx="6697440" cy="1225440"/>
            </a:xfrm>
            <a:prstGeom prst="parallelogram">
              <a:avLst>
                <a:gd name="adj" fmla="val 57740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52400" y="5494320"/>
              <a:ext cx="473040" cy="3063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3228840" y="4651200"/>
              <a:ext cx="550800" cy="1225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68760" y="5263920"/>
              <a:ext cx="471600" cy="3063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099040" y="4651200"/>
              <a:ext cx="552240" cy="1225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72160" y="5033880"/>
              <a:ext cx="707760" cy="4604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73760" y="5109840"/>
              <a:ext cx="473040" cy="3067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22960" y="5494320"/>
              <a:ext cx="473040" cy="3063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79920" y="4727520"/>
              <a:ext cx="473400" cy="3063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986080" y="3119400"/>
              <a:ext cx="709560" cy="19144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6696000" y="2261880"/>
              <a:ext cx="324000" cy="2465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211640" y="3262320"/>
              <a:ext cx="2038320" cy="2095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427280" y="3262320"/>
              <a:ext cx="1559160" cy="1519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975200" y="3261960"/>
              <a:ext cx="1536480" cy="2089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805280" y="3262320"/>
              <a:ext cx="393840" cy="1935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87840" y="3262320"/>
              <a:ext cx="328320" cy="2082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282560" y="3270240"/>
              <a:ext cx="460440" cy="1476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1731960" y="3271680"/>
              <a:ext cx="156960" cy="2222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2020320" y="3261960"/>
              <a:ext cx="174600" cy="18795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2243160" y="3262320"/>
              <a:ext cx="512640" cy="21542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2622600" y="3262320"/>
              <a:ext cx="212400" cy="1465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3031560" y="3262320"/>
              <a:ext cx="282600" cy="1782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58920" y="2046240"/>
              <a:ext cx="6697440" cy="1225440"/>
            </a:xfrm>
            <a:prstGeom prst="parallelogram">
              <a:avLst>
                <a:gd name="adj" fmla="val 57740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149640" y="2046240"/>
              <a:ext cx="552240" cy="1225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796000" y="2046240"/>
              <a:ext cx="550800" cy="1225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74640" y="3041640"/>
              <a:ext cx="314280" cy="1537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46240" y="2889000"/>
              <a:ext cx="315720" cy="1526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09720" y="2658960"/>
              <a:ext cx="315720" cy="154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05000" y="250632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76600" y="2352600"/>
              <a:ext cx="315720" cy="1537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65360" y="288900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01880" y="250632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38400" y="219996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32240" y="288900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68760" y="250632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62600" y="219996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19560" y="2965320"/>
              <a:ext cx="316080" cy="1540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38680" y="2965320"/>
              <a:ext cx="314640" cy="15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75280" y="2122200"/>
              <a:ext cx="316080" cy="15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071880" y="2275920"/>
              <a:ext cx="787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441520" y="2352600"/>
              <a:ext cx="133812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98480" y="2582640"/>
              <a:ext cx="102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888920" y="2965320"/>
              <a:ext cx="149724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5000" y="2734920"/>
              <a:ext cx="118116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16160" y="2582640"/>
              <a:ext cx="3160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16160" y="2582640"/>
              <a:ext cx="55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52680" y="2276280"/>
              <a:ext cx="63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25720" y="2965320"/>
              <a:ext cx="3938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83040" y="2582640"/>
              <a:ext cx="23652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25840" y="5645160"/>
              <a:ext cx="5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93960" y="564516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40080" y="564516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12760" y="2046240"/>
              <a:ext cx="57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tra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53920" y="2046240"/>
              <a:ext cx="834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ansf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amp; Cl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78920" y="2046240"/>
              <a:ext cx="39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o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55640" y="5286240"/>
              <a:ext cx="471600" cy="3063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00360" y="4709880"/>
              <a:ext cx="393480" cy="306360"/>
            </a:xfrm>
            <a:prstGeom prst="flowChartMulti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71880" y="4957560"/>
              <a:ext cx="393480" cy="306360"/>
            </a:xfrm>
            <a:prstGeom prst="flowChartMulti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79640" y="5109840"/>
              <a:ext cx="473040" cy="3067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82960" y="5340240"/>
              <a:ext cx="473040" cy="3063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40000" y="4727520"/>
              <a:ext cx="393840" cy="306360"/>
            </a:xfrm>
            <a:prstGeom prst="flowChartMulti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B4934-FDC8-46D9-B587-782F0D2F918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Motivation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192400" y="1755720"/>
          <a:ext cx="5769000" cy="45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0" y="1755720"/>
                    <a:ext cx="5769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4EB55-A203-413E-B1D7-D5DFAF0CF04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Motivation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ETL case due to the data centric nature of the process, the designer must deal with the relationship of the involved activities with the underly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find that research has not dealt with the definition of data-centric workflows to the entirety of its ex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968CA-18AE-4945-8D1C-CED584AA91A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ontribution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paper we build upon a previously published logical model for ETL process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DMDW’0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contribution is a framework for the design of ETL scenarios, that comprise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formal logical Metamodel as a logical abstraction of ETL proces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reusability framework that complements the genericity of the Meta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graphical tool, 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KTO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I, that facilitates the design of ETL scenarios, based on our mode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239AC-5360-47E7-82B7-610BCF8D7D5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Logic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s for ETL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6EDAD-CD88-4BB1-99E1-7E2AB2C017F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18:59:21Z</dcterms:created>
  <dc:creator>Alkis Simitsis</dc:creator>
  <dc:description>asimi@dbnet.ece.ntua.gr</dc:description>
  <dc:language>en-US</dc:language>
  <cp:lastModifiedBy>Alkis Simitsis</cp:lastModifiedBy>
  <cp:lastPrinted>2003-06-02T23:28:50Z</cp:lastPrinted>
  <dcterms:modified xsi:type="dcterms:W3CDTF">2003-06-23T15:25:22Z</dcterms:modified>
  <cp:revision>113</cp:revision>
  <dc:subject>Presentation - CAiSE'03</dc:subject>
  <dc:title>A Framework for the Design of ETL Scenarios</dc:title>
</cp:coreProperties>
</file>