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780B1-A76C-44E9-B6B5-AFA6F98E2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F24B-CF94-41B1-B1E5-E319532E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C786-D3BE-47A3-BB02-CCBA8F38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B284-057A-4015-ADBF-EDF56465F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BE884-F8E3-412D-84C4-1135390B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BBD24-521A-4E05-AE7E-2BDCEA47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87114-28A4-4172-B831-9E75DFBA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A43BE-6A0E-4E64-BF7F-58840DF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8D93D-D668-4DC3-95E7-4C4F1F7F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59E7B-3D00-4C4D-A427-B59F84D2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2CB55-0512-4119-892E-0313A556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E8AA-A172-4344-86C9-5C2D09E4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57FCC-81F9-4C6B-80FA-93615D0D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58A93-C7EE-4CA6-BEEE-FE4AAE87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E090C-1DBC-4585-9941-2F8BB905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03C1E-D6A9-4A4E-B360-A0A44647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D6D83-6E24-41CA-BCFE-0F8A3EE6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E59A-A981-4598-A2D1-DDA59E1E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9921-85DB-4EEB-A590-325628D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5BA2-CC71-44CB-91A0-3FDAD988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62FB-344E-4ACD-9A9D-ACD9006B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988F-6BB9-43B6-8FFE-7C99CE73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6DB9-7250-49E7-B9D8-75F9D9E2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D144-B370-450B-AFF4-1F373E1D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5986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685C-FECD-4C14-A680-23B9480F84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A72B-2261-41E3-83C2-F60CB7763B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9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onceptual Modeling </a:t>
            </a:r>
            <a:br>
              <a:rPr sz="5800"/>
            </a:b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for ETL processe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5280" y="378936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os Vassiliadis, Alkis Simitsis, Spiros Skiadopou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pvassi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im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iros}@dbla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tu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2360" y="5467320"/>
            <a:ext cx="771480" cy="771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5446800"/>
            <a:ext cx="8317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Technical University of Ath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DBS Laborat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dbnet.ece.ntua.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-of Relation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te set of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hasize the fact that a concept is composed of a set of attribute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16720" y="2249640"/>
          <a:ext cx="151128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249640"/>
                    <a:ext cx="1511280" cy="80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F161-747C-46BC-8886-C334BFD391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PARTSUPP {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KEY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SUPPKEY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QTY, C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Ware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W.PARTSUPP {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KEY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SUPPKEY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QTY, C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0BED-C8E2-4258-8B22-2361862840C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16040" y="1600200"/>
          <a:ext cx="591012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600200"/>
                    <a:ext cx="591012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64A7-DC24-426B-9A06-E14D18B9836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te set of input/output attributes, a symb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ions that represent parts, or full modules of code, executing a single t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516720" y="2189160"/>
          <a:ext cx="151272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189160"/>
                    <a:ext cx="15127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57200" y="4076640"/>
            <a:ext cx="64911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ing or data cleaning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e.g., foreign key vio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ormation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e.g., aggre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5628-0580-40ED-839E-D35AAE5222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r Relation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te set of input/output attributes, an appropriate trans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p a set of input attributes to a set of output attributes through a relevant transformati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580000" y="4295880"/>
          <a:ext cx="1584360" cy="12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4295880"/>
                    <a:ext cx="1584360" cy="12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692360" y="4290840"/>
          <a:ext cx="2160360" cy="12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290840"/>
                    <a:ext cx="216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8360" y="5661000"/>
            <a:ext cx="835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f the attributes are semantically and physically compatible, no transformation is required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F54F-53ED-4048-BDE9-1A276E5B84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16040" y="1600200"/>
          <a:ext cx="591012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600200"/>
                    <a:ext cx="591012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8CAE-7AD8-4E34-9D6B-7B2E4B49B46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l tags, exactly as in UML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for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e comments explaining design 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anation of the semantics of the applied 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cing of runtime constr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659640" y="2154240"/>
          <a:ext cx="171108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154240"/>
                    <a:ext cx="171108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9E6F-0297-4514-BF75-98544AEA61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616040" y="1600200"/>
          <a:ext cx="591012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600200"/>
                    <a:ext cx="591012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1FF0E-C2C1-484F-B75A-80FB110DE15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L Constra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te set of attributes, a single trans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ress the fact that the data of a certain concept fulfill several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659640" y="2205000"/>
          <a:ext cx="1584360" cy="10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205000"/>
                    <a:ext cx="158436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D93C-F9AA-41A0-B41C-32CE59B8A2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6040" y="1600200"/>
          <a:ext cx="591012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600200"/>
                    <a:ext cx="591012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6B9E-6603-40ED-86A9-A358A3E60DA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neral Ide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ble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ceptual part of the definition of ETL proces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early stages of a DW pro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ey ide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app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attributes of the data sources to the attributes of the DW table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134D-F7FA-45DA-868F-D74D9F8113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didate Relation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ingle candidate concept, a single target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when a certain DW concept is populated by a finite set of more than one candidate source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ctive Candidate Relation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ertain candidate that has been selected for the population of the target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pecialization of candidate 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148360" y="4797360"/>
          <a:ext cx="3311280" cy="15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4797360"/>
                    <a:ext cx="331128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B39A-AAC9-40D0-A8BF-E7A60E5B7C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27160" y="2147760"/>
          <a:ext cx="7034040" cy="30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147760"/>
                    <a:ext cx="703404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5028-4165-476B-AA2F-F17871ADB75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55640" y="1557360"/>
          <a:ext cx="755964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55964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CEA2-9719-4DB4-B133-4BE7635451D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Instantiation and Specialization 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for the usage of the conceptual model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A02E-DC0E-44E1-AA1F-48AF6B8ED2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stantiation 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&amp;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Specialization Lay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ey issu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e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ication of a small set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eneric construc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capture all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uction of a ‘palette’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equently used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0F6F-E2DA-4BA1-8261-2EA49D3B75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stantiation 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&amp;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Specialization Lay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model l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generic entities, able to represent any ETL scen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es classes: Concept, Attribute, Transformation, ETL Constraint and Relationsh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late l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‘built-in’ specializations of the entities of the Metamodel layer, specifically tailored for the most frequent elements of ETL scen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lay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pecific ETL scen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the entities of the Schema layer are instances of the classes of the Metamodel 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7F3D-744F-4463-9AF1-0775816DEB8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stantiation 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&amp;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Specialization Lay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26920" y="1844640"/>
          <a:ext cx="76345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6345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830C-C814-4D97-8A51-4D00EB95AC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stantiation 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&amp;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Specialization Lay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late lay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 groups of logical transfor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ary transform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nary transform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te transform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groups of physical transfor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er 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 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02CF-E610-4165-8F96-F1750F0264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stantiation 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&amp;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Specialization Lay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t null (N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ary key violation (P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eign key violation (F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ique value (U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main mismatch D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ry transform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gregation (γ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j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applica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rrogate key assignment(S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uple normalization (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uple denormalization (D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transform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ion (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oin (</a:t>
            </a:r>
            <a:r>
              <a:rPr b="0" lang="en-US" sz="1400" spc="-1" strike="noStrike">
                <a:solidFill>
                  <a:srgbClr val="000000"/>
                </a:solidFill>
                <a:latin typeface="MT Extra"/>
                <a:ea typeface="MT Extra"/>
              </a:rPr>
              <a:t>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pdate Det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Δ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UP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 transform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owly changing dimension (Type 1,2,3) (SDC-1/2/3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mat mismatch (F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type conversion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TC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 (σ*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ed union (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BCDIC to ASCII conversion (EB2A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rt file (Sor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 (FT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ress/Decompress (Z/dZ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crypt/Decrypt (Cr/dC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6DD2-D2A1-4148-A0C8-67EDF7BE1B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iation and Specialization 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Methodology for the usage of the conceptual model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E276-7C15-41D6-B73D-8CEED3EFCC4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iation and Specialization 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for the usage of the conceptual model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96A6-FEF6-4AED-8927-4E392D2738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ethod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 of the proper data store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didates and active candidates for the involved data store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ribute mapping between the providers and the consumer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notating the diagram with runtime constraint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C389-85A8-441B-AF6F-5BF00C9A3BC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iation and Specialization 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for the usage of the conceptual model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2E8B-8E00-4FD9-92D5-3ABAD9B5C02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lus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contributions lies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posal of a novel conceptual model which is customized for the tracing of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nter-attribu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relationshi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the respective ETL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 customiz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xtensi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roduction of a '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alet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' of a set of frequently used ETL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F6B4-60FA-49B3-9088-4BB946614B8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n-going/Future 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Arktos I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roject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is aimed toward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th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ual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ical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What-if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f ETL scenari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99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http://www.dblab.ece.ntua.gr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~pvassil/projects/arktos_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921280" y="4724280"/>
            <a:ext cx="2251080" cy="9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952D-688D-4AC0-AA40-FA26CAA04C1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257292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ank you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6AC6-8E45-4325-B8F0-B6317FA58218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715560" y="324648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-up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5487-98F6-4327-85A6-C4D51A0D28C6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27200" y="1665360"/>
          <a:ext cx="76658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665360"/>
                    <a:ext cx="76658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41A2-9C0D-478E-AC8E-6E682C0DC2C3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47640" y="1378080"/>
          <a:ext cx="626436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78080"/>
                    <a:ext cx="626436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DA45-BBAC-4D61-A7B3-C6AEB90EAF2E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The lifecycle of a Data Warehouse and its ETL processes</a:t>
            </a:r>
            <a:r>
              <a:rPr b="0" lang="el-GR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42920" y="1916280"/>
          <a:ext cx="7056360" cy="38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16280"/>
                    <a:ext cx="7056360" cy="38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7EA7-CAFF-473B-9720-DD0436CF0357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5280" y="1557360"/>
            <a:ext cx="8424720" cy="2808360"/>
          </a:xfrm>
          <a:prstGeom prst="rect">
            <a:avLst/>
          </a:prstGeom>
          <a:solidFill>
            <a:srgbClr val="99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51360" y="2543040"/>
            <a:ext cx="371520" cy="31140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56040" y="3914640"/>
            <a:ext cx="371520" cy="31140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21200" y="3914640"/>
            <a:ext cx="371520" cy="31140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18320" y="2543040"/>
            <a:ext cx="371520" cy="31140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83480" y="2543040"/>
            <a:ext cx="371520" cy="31140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9280" y="4508640"/>
            <a:ext cx="3960720" cy="1944720"/>
          </a:xfrm>
          <a:prstGeom prst="rect">
            <a:avLst/>
          </a:prstGeom>
          <a:solidFill>
            <a:srgbClr val="ff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4508640"/>
            <a:ext cx="1152360" cy="1944720"/>
          </a:xfrm>
          <a:prstGeom prst="rect">
            <a:avLst/>
          </a:prstGeom>
          <a:solidFill>
            <a:srgbClr val="cccc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ogical Model </a:t>
            </a: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[DMDW’02]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3866760" y="1865160"/>
            <a:ext cx="55872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3000" y="2170080"/>
            <a:ext cx="6667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62280" y="1724040"/>
            <a:ext cx="96696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UPPKEY=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8" idx="2"/>
            <a:endCxn id="286" idx="1"/>
          </p:cNvCxnSpPr>
          <p:nvPr/>
        </p:nvCxnSpPr>
        <p:spPr>
          <a:xfrm flipH="1">
            <a:off x="4144680" y="1819080"/>
            <a:ext cx="2160" cy="24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 rot="5400000">
            <a:off x="4758120" y="1865880"/>
            <a:ext cx="558720" cy="668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03760" y="2162160"/>
            <a:ext cx="44604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54360" y="1536840"/>
            <a:ext cx="966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2"/>
            <a:endCxn id="290" idx="1"/>
          </p:cNvCxnSpPr>
          <p:nvPr/>
        </p:nvCxnSpPr>
        <p:spPr>
          <a:xfrm>
            <a:off x="5038200" y="185256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 rot="5400000">
            <a:off x="5724720" y="1866960"/>
            <a:ext cx="558720" cy="666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70720" y="2162160"/>
            <a:ext cx="44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2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21320" y="1731960"/>
            <a:ext cx="96516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2"/>
            <a:endCxn id="294" idx="1"/>
          </p:cNvCxnSpPr>
          <p:nvPr/>
        </p:nvCxnSpPr>
        <p:spPr>
          <a:xfrm>
            <a:off x="6005160" y="182736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 rot="5400000">
            <a:off x="6690600" y="1866240"/>
            <a:ext cx="558720" cy="668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89720" y="1731960"/>
            <a:ext cx="9666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99" idx="2"/>
            <a:endCxn id="298" idx="1"/>
          </p:cNvCxnSpPr>
          <p:nvPr/>
        </p:nvCxnSpPr>
        <p:spPr>
          <a:xfrm flipH="1">
            <a:off x="6969960" y="1827360"/>
            <a:ext cx="396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2774880" y="3290760"/>
            <a:ext cx="743040" cy="560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3869280" y="3236040"/>
            <a:ext cx="560520" cy="6696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70280" y="3532320"/>
            <a:ext cx="668520" cy="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66960" y="3103560"/>
            <a:ext cx="96552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UPPKEY=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2"/>
            <a:endCxn id="302" idx="1"/>
          </p:cNvCxnSpPr>
          <p:nvPr/>
        </p:nvCxnSpPr>
        <p:spPr>
          <a:xfrm flipH="1">
            <a:off x="4147920" y="3198600"/>
            <a:ext cx="360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 rot="5400000">
            <a:off x="4760640" y="3236760"/>
            <a:ext cx="560520" cy="668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07000" y="3532320"/>
            <a:ext cx="44460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68760" y="2948040"/>
            <a:ext cx="96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308" idx="2"/>
            <a:endCxn id="306" idx="1"/>
          </p:cNvCxnSpPr>
          <p:nvPr/>
        </p:nvCxnSpPr>
        <p:spPr>
          <a:xfrm flipH="1">
            <a:off x="5041080" y="3284640"/>
            <a:ext cx="1188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 rot="5400000">
            <a:off x="5726520" y="3237480"/>
            <a:ext cx="560520" cy="666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24560" y="3103560"/>
            <a:ext cx="96516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11" idx="2"/>
            <a:endCxn id="310" idx="1"/>
          </p:cNvCxnSpPr>
          <p:nvPr/>
        </p:nvCxnSpPr>
        <p:spPr>
          <a:xfrm>
            <a:off x="6008400" y="319896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 rot="5400000">
            <a:off x="6692400" y="3236760"/>
            <a:ext cx="560520" cy="668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18440" y="3103560"/>
            <a:ext cx="111276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TE=SYS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314" idx="2"/>
            <a:endCxn id="313" idx="1"/>
          </p:cNvCxnSpPr>
          <p:nvPr/>
        </p:nvCxnSpPr>
        <p:spPr>
          <a:xfrm flipH="1">
            <a:off x="6973560" y="3198960"/>
            <a:ext cx="216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6588000" y="3530520"/>
            <a:ext cx="64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D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7648200" y="3236760"/>
            <a:ext cx="560520" cy="668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61440" y="3532320"/>
            <a:ext cx="7556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heckQ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81800" y="3103560"/>
            <a:ext cx="108756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QTY&gt;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"/>
          <p:cNvCxnSpPr>
            <a:stCxn id="319" idx="2"/>
            <a:endCxn id="317" idx="1"/>
          </p:cNvCxnSpPr>
          <p:nvPr/>
        </p:nvCxnSpPr>
        <p:spPr>
          <a:xfrm>
            <a:off x="7926120" y="3198960"/>
            <a:ext cx="396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5400000">
            <a:off x="7905960" y="1996200"/>
            <a:ext cx="56052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51600" y="2301840"/>
            <a:ext cx="446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286" idx="0"/>
            <a:endCxn id="290" idx="3"/>
          </p:cNvCxnSpPr>
          <p:nvPr/>
        </p:nvCxnSpPr>
        <p:spPr>
          <a:xfrm>
            <a:off x="4479840" y="2198160"/>
            <a:ext cx="223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0" idx="0"/>
            <a:endCxn id="294" idx="3"/>
          </p:cNvCxnSpPr>
          <p:nvPr/>
        </p:nvCxnSpPr>
        <p:spPr>
          <a:xfrm>
            <a:off x="5370120" y="219816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4" idx="0"/>
            <a:endCxn id="298" idx="3"/>
          </p:cNvCxnSpPr>
          <p:nvPr/>
        </p:nvCxnSpPr>
        <p:spPr>
          <a:xfrm>
            <a:off x="6337440" y="2198160"/>
            <a:ext cx="29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2" idx="0"/>
            <a:endCxn id="306" idx="3"/>
          </p:cNvCxnSpPr>
          <p:nvPr/>
        </p:nvCxnSpPr>
        <p:spPr>
          <a:xfrm>
            <a:off x="4482720" y="356976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6" idx="0"/>
            <a:endCxn id="310" idx="3"/>
          </p:cNvCxnSpPr>
          <p:nvPr/>
        </p:nvCxnSpPr>
        <p:spPr>
          <a:xfrm>
            <a:off x="5373360" y="3569760"/>
            <a:ext cx="297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0" idx="0"/>
            <a:endCxn id="313" idx="3"/>
          </p:cNvCxnSpPr>
          <p:nvPr/>
        </p:nvCxnSpPr>
        <p:spPr>
          <a:xfrm>
            <a:off x="6339960" y="3569760"/>
            <a:ext cx="297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13" idx="0"/>
            <a:endCxn id="317" idx="3"/>
          </p:cNvCxnSpPr>
          <p:nvPr/>
        </p:nvCxnSpPr>
        <p:spPr>
          <a:xfrm>
            <a:off x="7305840" y="356976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01" idx="4"/>
            <a:endCxn id="302" idx="3"/>
          </p:cNvCxnSpPr>
          <p:nvPr/>
        </p:nvCxnSpPr>
        <p:spPr>
          <a:xfrm flipV="1">
            <a:off x="3517920" y="356940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771640" y="1920960"/>
            <a:ext cx="743040" cy="5587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1" idx="4"/>
            <a:endCxn id="286" idx="3"/>
          </p:cNvCxnSpPr>
          <p:nvPr/>
        </p:nvCxnSpPr>
        <p:spPr>
          <a:xfrm flipV="1">
            <a:off x="3514680" y="219780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4851360" y="2654280"/>
            <a:ext cx="6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98960" y="2381400"/>
            <a:ext cx="67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00760" y="23558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54600" y="4025880"/>
            <a:ext cx="6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5440" y="3751200"/>
            <a:ext cx="66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5440" y="37274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35880" y="2158920"/>
            <a:ext cx="66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2E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32560" y="3530520"/>
            <a:ext cx="66672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NotN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21200" y="4025880"/>
            <a:ext cx="6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70600" y="3751200"/>
            <a:ext cx="66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69160" y="37274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16520" y="2654280"/>
            <a:ext cx="6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67360" y="2381400"/>
            <a:ext cx="66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965920" y="23558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783480" y="2654280"/>
            <a:ext cx="66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31080" y="2381400"/>
            <a:ext cx="6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32520" y="23558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1915200" y="1861200"/>
            <a:ext cx="561960" cy="668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62280" y="2157480"/>
            <a:ext cx="52704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1603440"/>
            <a:ext cx="11890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2"/>
            <a:endCxn id="350" idx="1"/>
          </p:cNvCxnSpPr>
          <p:nvPr/>
        </p:nvCxnSpPr>
        <p:spPr>
          <a:xfrm>
            <a:off x="2193480" y="1790640"/>
            <a:ext cx="25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746280" y="1603440"/>
            <a:ext cx="744480" cy="5601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54" idx="4"/>
            <a:endCxn id="350" idx="3"/>
          </p:cNvCxnSpPr>
          <p:nvPr/>
        </p:nvCxnSpPr>
        <p:spPr>
          <a:xfrm>
            <a:off x="1490400" y="1883880"/>
            <a:ext cx="37044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746280" y="2227320"/>
            <a:ext cx="744480" cy="5601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"/>
          <p:cNvCxnSpPr>
            <a:stCxn id="358" idx="0"/>
            <a:endCxn id="354" idx="2"/>
          </p:cNvCxnSpPr>
          <p:nvPr/>
        </p:nvCxnSpPr>
        <p:spPr>
          <a:xfrm flipH="1" flipV="1">
            <a:off x="745560" y="1883880"/>
            <a:ext cx="1811880" cy="3136320"/>
          </a:xfrm>
          <a:prstGeom prst="bentConnector5">
            <a:avLst>
              <a:gd name="adj1" fmla="val -12519"/>
              <a:gd name="adj2" fmla="val 14269"/>
              <a:gd name="adj3" fmla="val 114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56" idx="4"/>
            <a:endCxn id="350" idx="3"/>
          </p:cNvCxnSpPr>
          <p:nvPr/>
        </p:nvCxnSpPr>
        <p:spPr>
          <a:xfrm flipV="1">
            <a:off x="1490400" y="2195280"/>
            <a:ext cx="37044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5197320" y="4714920"/>
            <a:ext cx="744840" cy="5587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W.PARTSU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7391880" y="4663080"/>
            <a:ext cx="56016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65880" y="4959360"/>
            <a:ext cx="773280" cy="1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88120" y="4473720"/>
            <a:ext cx="9669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KEY,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MIN(CO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63" idx="2"/>
            <a:endCxn id="361" idx="1"/>
          </p:cNvCxnSpPr>
          <p:nvPr/>
        </p:nvCxnSpPr>
        <p:spPr>
          <a:xfrm flipH="1">
            <a:off x="7670520" y="4660560"/>
            <a:ext cx="21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 rot="5400000">
            <a:off x="7391160" y="5586480"/>
            <a:ext cx="56196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65880" y="5883120"/>
            <a:ext cx="773280" cy="1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88120" y="5364000"/>
            <a:ext cx="9669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KEY, MON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VG(CO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>
            <a:stCxn id="367" idx="2"/>
            <a:endCxn id="365" idx="1"/>
          </p:cNvCxnSpPr>
          <p:nvPr/>
        </p:nvCxnSpPr>
        <p:spPr>
          <a:xfrm>
            <a:off x="7671960" y="5549760"/>
            <a:ext cx="1080" cy="23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0" idx="4"/>
            <a:endCxn id="361" idx="3"/>
          </p:cNvCxnSpPr>
          <p:nvPr/>
        </p:nvCxnSpPr>
        <p:spPr>
          <a:xfrm>
            <a:off x="5941800" y="4993920"/>
            <a:ext cx="13942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8304120" y="5703840"/>
            <a:ext cx="371520" cy="4348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"/>
          <p:cNvCxnSpPr>
            <a:stCxn id="365" idx="0"/>
            <a:endCxn id="370" idx="2"/>
          </p:cNvCxnSpPr>
          <p:nvPr/>
        </p:nvCxnSpPr>
        <p:spPr>
          <a:xfrm>
            <a:off x="8005320" y="592092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8304120" y="4780080"/>
            <a:ext cx="371520" cy="4363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61" idx="0"/>
            <a:endCxn id="372" idx="2"/>
          </p:cNvCxnSpPr>
          <p:nvPr/>
        </p:nvCxnSpPr>
        <p:spPr>
          <a:xfrm>
            <a:off x="8005320" y="4997520"/>
            <a:ext cx="29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5192640" y="5635800"/>
            <a:ext cx="743040" cy="5619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6440040" y="5587920"/>
            <a:ext cx="560520" cy="668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86400" y="5883120"/>
            <a:ext cx="444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Wingdings 3"/>
                <a:ea typeface="Wingdings 3"/>
              </a:rPr>
              <a:t>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3640" y="5373720"/>
            <a:ext cx="1089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W.PARTSUPP.DA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2"/>
            <a:endCxn id="375" idx="1"/>
          </p:cNvCxnSpPr>
          <p:nvPr/>
        </p:nvCxnSpPr>
        <p:spPr>
          <a:xfrm>
            <a:off x="6717960" y="5560920"/>
            <a:ext cx="540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0" idx="4"/>
            <a:endCxn id="375" idx="3"/>
          </p:cNvCxnSpPr>
          <p:nvPr/>
        </p:nvCxnSpPr>
        <p:spPr>
          <a:xfrm>
            <a:off x="5941800" y="4994280"/>
            <a:ext cx="4482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4" idx="4"/>
            <a:endCxn id="375" idx="3"/>
          </p:cNvCxnSpPr>
          <p:nvPr/>
        </p:nvCxnSpPr>
        <p:spPr>
          <a:xfrm>
            <a:off x="5935320" y="5916240"/>
            <a:ext cx="4482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65" idx="3"/>
          </p:cNvCxnSpPr>
          <p:nvPr/>
        </p:nvCxnSpPr>
        <p:spPr>
          <a:xfrm>
            <a:off x="7053120" y="5920920"/>
            <a:ext cx="28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 rot="5400000">
            <a:off x="1940400" y="4685400"/>
            <a:ext cx="56052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86040" y="4979880"/>
            <a:ext cx="44604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8960" y="4740120"/>
            <a:ext cx="743040" cy="560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3" idx="4"/>
            <a:endCxn id="358" idx="3"/>
          </p:cNvCxnSpPr>
          <p:nvPr/>
        </p:nvCxnSpPr>
        <p:spPr>
          <a:xfrm flipV="1">
            <a:off x="1331640" y="5019480"/>
            <a:ext cx="55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588960" y="5643720"/>
            <a:ext cx="743040" cy="5601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1940400" y="5588640"/>
            <a:ext cx="56016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86040" y="5884920"/>
            <a:ext cx="44604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"/>
          <p:cNvCxnSpPr>
            <a:stCxn id="385" idx="4"/>
            <a:endCxn id="386" idx="3"/>
          </p:cNvCxnSpPr>
          <p:nvPr/>
        </p:nvCxnSpPr>
        <p:spPr>
          <a:xfrm flipV="1">
            <a:off x="1331640" y="5922720"/>
            <a:ext cx="55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746280" y="2984400"/>
            <a:ext cx="744480" cy="560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5400000">
            <a:off x="1915200" y="3242520"/>
            <a:ext cx="561960" cy="668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62280" y="3538440"/>
            <a:ext cx="52704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89" idx="4"/>
            <a:endCxn id="390" idx="3"/>
          </p:cNvCxnSpPr>
          <p:nvPr/>
        </p:nvCxnSpPr>
        <p:spPr>
          <a:xfrm>
            <a:off x="1490400" y="3263400"/>
            <a:ext cx="37044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746280" y="3608280"/>
            <a:ext cx="744480" cy="560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86" idx="0"/>
            <a:endCxn id="389" idx="2"/>
          </p:cNvCxnSpPr>
          <p:nvPr/>
        </p:nvCxnSpPr>
        <p:spPr>
          <a:xfrm flipH="1" flipV="1">
            <a:off x="745560" y="3265560"/>
            <a:ext cx="1811880" cy="2657880"/>
          </a:xfrm>
          <a:prstGeom prst="bentConnector5">
            <a:avLst>
              <a:gd name="adj1" fmla="val -16037"/>
              <a:gd name="adj2" fmla="val 52871"/>
              <a:gd name="adj3" fmla="val 1097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93" idx="4"/>
            <a:endCxn id="390" idx="3"/>
          </p:cNvCxnSpPr>
          <p:nvPr/>
        </p:nvCxnSpPr>
        <p:spPr>
          <a:xfrm flipV="1">
            <a:off x="1490400" y="3574800"/>
            <a:ext cx="370440" cy="31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1600200" y="2984400"/>
            <a:ext cx="11890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"/>
          <p:cNvCxnSpPr>
            <a:stCxn id="396" idx="2"/>
            <a:endCxn id="390" idx="1"/>
          </p:cNvCxnSpPr>
          <p:nvPr/>
        </p:nvCxnSpPr>
        <p:spPr>
          <a:xfrm>
            <a:off x="2193480" y="3171960"/>
            <a:ext cx="54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0"/>
            <a:endCxn id="301" idx="2"/>
          </p:cNvCxnSpPr>
          <p:nvPr/>
        </p:nvCxnSpPr>
        <p:spPr>
          <a:xfrm flipV="1">
            <a:off x="2532240" y="3571200"/>
            <a:ext cx="243360" cy="5400"/>
          </a:xfrm>
          <a:prstGeom prst="bentConnector3">
            <a:avLst>
              <a:gd name="adj1" fmla="val 49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50" idx="0"/>
            <a:endCxn id="331" idx="2"/>
          </p:cNvCxnSpPr>
          <p:nvPr/>
        </p:nvCxnSpPr>
        <p:spPr>
          <a:xfrm>
            <a:off x="2531880" y="2196720"/>
            <a:ext cx="240120" cy="3960"/>
          </a:xfrm>
          <a:prstGeom prst="bentConnector3">
            <a:avLst>
              <a:gd name="adj1" fmla="val 492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298" idx="0"/>
            <a:endCxn id="321" idx="3"/>
          </p:cNvCxnSpPr>
          <p:nvPr/>
        </p:nvCxnSpPr>
        <p:spPr>
          <a:xfrm>
            <a:off x="7303680" y="2199960"/>
            <a:ext cx="548280" cy="13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17" idx="0"/>
            <a:endCxn id="321" idx="3"/>
          </p:cNvCxnSpPr>
          <p:nvPr/>
        </p:nvCxnSpPr>
        <p:spPr>
          <a:xfrm flipH="1" flipV="1">
            <a:off x="7850880" y="2329920"/>
            <a:ext cx="412200" cy="1242000"/>
          </a:xfrm>
          <a:prstGeom prst="bentConnector5">
            <a:avLst>
              <a:gd name="adj1" fmla="val -53846"/>
              <a:gd name="adj2" fmla="val 49985"/>
              <a:gd name="adj3" fmla="val 1538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21" idx="0"/>
            <a:endCxn id="360" idx="2"/>
          </p:cNvCxnSpPr>
          <p:nvPr/>
        </p:nvCxnSpPr>
        <p:spPr>
          <a:xfrm flipH="1">
            <a:off x="5196600" y="2330280"/>
            <a:ext cx="3326760" cy="2664720"/>
          </a:xfrm>
          <a:prstGeom prst="bentConnector5">
            <a:avLst>
              <a:gd name="adj1" fmla="val -6818"/>
              <a:gd name="adj2" fmla="val 78597"/>
              <a:gd name="adj3" fmla="val 1068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395280" y="6165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59280" y="6165720"/>
            <a:ext cx="40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4076640"/>
            <a:ext cx="80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3CDD-E3D5-421C-8113-AD76757A5F61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tract-Transform-Load (ETL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5280" y="1844280"/>
            <a:ext cx="7867440" cy="4191120"/>
            <a:chOff x="665280" y="1844280"/>
            <a:chExt cx="7867440" cy="4191120"/>
          </a:xfrm>
        </p:grpSpPr>
        <p:sp>
          <p:nvSpPr>
            <p:cNvPr id="99" name=""/>
            <p:cNvSpPr/>
            <p:nvPr/>
          </p:nvSpPr>
          <p:spPr>
            <a:xfrm>
              <a:off x="665280" y="4694400"/>
              <a:ext cx="7867440" cy="1341000"/>
            </a:xfrm>
            <a:prstGeom prst="parallelogram">
              <a:avLst>
                <a:gd name="adj" fmla="val -5983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7880" y="561672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90840" y="519732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53440" y="553284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38840" y="4778280"/>
              <a:ext cx="462600" cy="3351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979000" y="4694040"/>
              <a:ext cx="648000" cy="1341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93960" y="5029920"/>
              <a:ext cx="462600" cy="3351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27000" y="544896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52560" y="536508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89960" y="4778280"/>
              <a:ext cx="462600" cy="3351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108040" y="4694040"/>
              <a:ext cx="647640" cy="1341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48560" y="5113800"/>
              <a:ext cx="832680" cy="50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4560" y="519732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96560" y="561672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81600" y="477828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218640" y="3018240"/>
              <a:ext cx="833040" cy="2095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51680" y="2095920"/>
              <a:ext cx="647640" cy="2682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089960" y="3174480"/>
              <a:ext cx="2437200" cy="2274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552560" y="3174120"/>
              <a:ext cx="1666080" cy="1603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031000" y="3174120"/>
              <a:ext cx="1804680" cy="228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830120" y="3174480"/>
              <a:ext cx="462600" cy="2117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19000" y="3174480"/>
              <a:ext cx="385560" cy="2279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367160" y="3174480"/>
              <a:ext cx="539640" cy="1614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1220400" y="3185640"/>
              <a:ext cx="185040" cy="2430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1560600" y="3174120"/>
              <a:ext cx="307440" cy="2022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822320" y="3174120"/>
              <a:ext cx="601200" cy="235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267280" y="3174120"/>
              <a:ext cx="249120" cy="1603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2747160" y="3174120"/>
              <a:ext cx="333000" cy="1950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280" y="1844640"/>
              <a:ext cx="7867440" cy="1341000"/>
            </a:xfrm>
            <a:prstGeom prst="parallelogram">
              <a:avLst>
                <a:gd name="adj" fmla="val -59831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886480" y="1844280"/>
              <a:ext cx="647640" cy="1341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848560" y="1844280"/>
              <a:ext cx="647640" cy="1341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35360" y="293436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90840" y="276660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2920" y="251532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75880" y="234756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1360" y="217980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6920" y="276660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34480" y="234756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12400" y="201204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75000" y="276660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2560" y="234756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5520" y="201204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00560" y="285048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66640" y="285048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14640" y="192852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793960" y="2095560"/>
              <a:ext cx="92556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053440" y="2179800"/>
              <a:ext cx="1573560" cy="67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38840" y="2431440"/>
              <a:ext cx="120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405800" y="2850120"/>
              <a:ext cx="175860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75880" y="2598840"/>
              <a:ext cx="138816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04920" y="2431440"/>
              <a:ext cx="370080" cy="2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04920" y="24314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2480" y="2095920"/>
              <a:ext cx="74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7960" y="2850480"/>
              <a:ext cx="4626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23000" y="2431440"/>
              <a:ext cx="27756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30640" y="578160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2800" y="57816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8600" y="57816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07840" y="184464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r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76680" y="1844640"/>
              <a:ext cx="83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ns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 Cl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11760" y="184464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E22A-A26C-410C-95BD-1A8FB5B5796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tiv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al neces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, 80% of the development time in a DW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-house development, ad-hoc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related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ront end of the DW has monopolized the research on the conceptual part of DW modeling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us, the design, development and deployment of ETL processes, needs modeling, design and methodological foundations</a:t>
            </a:r>
            <a:r>
              <a:rPr b="0" i="1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3240-62B0-44E4-9704-27EB91ECD7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tiv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8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stages of the DW design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ncepts</a:t>
            </a: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re still fuzz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changing frequentl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ts of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nterview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No ti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a full, clean-cut definition of the DW and the ETL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ll, we c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 the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app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attributes of the data sources to the attributes of the DW t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 </a:t>
            </a: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necessary constraints and transform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ETL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70640" y="3357720"/>
            <a:ext cx="1773360" cy="1377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70920" y="1700280"/>
            <a:ext cx="1873080" cy="11332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6588000" y="5445000"/>
            <a:ext cx="2232000" cy="432000"/>
            <a:chOff x="6588000" y="5445000"/>
            <a:chExt cx="2232000" cy="432000"/>
          </a:xfrm>
        </p:grpSpPr>
        <p:sp>
          <p:nvSpPr>
            <p:cNvPr id="167" name=""/>
            <p:cNvSpPr/>
            <p:nvPr/>
          </p:nvSpPr>
          <p:spPr>
            <a:xfrm>
              <a:off x="7236000" y="566100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88000" y="5518080"/>
              <a:ext cx="648000" cy="358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1.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51640" y="5445000"/>
              <a:ext cx="503280" cy="432000"/>
            </a:xfrm>
            <a:prstGeom prst="hexagon">
              <a:avLst>
                <a:gd name="adj" fmla="val 2912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72360" y="5518080"/>
              <a:ext cx="647640" cy="358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W.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804E-2662-4DBB-8F6D-3BE7436B94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iation and Specialization 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for the usage of the conceptual model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3F10-C055-490C-9F99-F26DDB0226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ities of our mode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-of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for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al Composition of Transfor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didate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D431-C93B-4858-8F23-6146E69E28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59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ame, finite set of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 an entity in the source database or in the D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 role as in ER/dimensional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ranular module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77080" y="3933720"/>
          <a:ext cx="1727280" cy="6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3933720"/>
                    <a:ext cx="172728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877080" y="2205000"/>
          <a:ext cx="172728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205000"/>
                    <a:ext cx="172728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04720" y="5584680"/>
            <a:ext cx="860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 do not employ standard UML notation for concepts and attributes, for the reason that we need to treat attributes as first class citizens of our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C9A9-E834-495C-BD96-36F16720099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2:47:07Z</dcterms:created>
  <dc:creator>Alkis Simitsis</dc:creator>
  <dc:description>asimi@dblab.ntua.gr</dc:description>
  <dc:language>en-US</dc:language>
  <cp:lastModifiedBy>Alkis Simitsis</cp:lastModifiedBy>
  <cp:lastPrinted>2002-11-06T21:01:28Z</cp:lastPrinted>
  <dcterms:modified xsi:type="dcterms:W3CDTF">2002-11-19T12:17:41Z</dcterms:modified>
  <cp:revision>260</cp:revision>
  <dc:subject>Presentation - DOLAP'02</dc:subject>
  <dc:title>Conceptual Modeling  for ETL processes</dc:title>
</cp:coreProperties>
</file>