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0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3E6F7-73A3-4F17-B477-6C057B0403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565CC-D4FE-46DF-BCCC-219675C6F7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C9600-34C7-4CD4-B21B-37EA97EFCD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5E3AE-819A-436F-9E42-32C3F81677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9A1BD-83C3-40E4-B8C4-4D9E49B48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F1CF5-6A6E-43DE-971A-468E3694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87B77-373D-4EDB-8FA3-EB469A5F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9ACD6-BA86-48BC-AE5B-09D17D98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851CE-51D9-479B-85DB-3E05ABB8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35B98-73A6-4BAD-91D1-85C6D9F2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3EA63-02CC-4B29-9B71-4FABDEB4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0FAAA-01E8-4FC0-89EF-A0F0E483F5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EA48B-F24F-4C4D-8F10-AB58BA22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A6EF1-3976-4763-96A6-91E4973F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AD5D5D-4E89-4D6F-931E-2AAE6048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1506A-400E-46E4-BE98-C3BC72842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EAC0A8-DD9F-4A20-89A9-6D24F2BD5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A8EF9-8C2E-4AEB-8867-1C542FF596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3BDF4-A6F5-4068-A26A-1CDAE3790F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194C3-B183-4F5A-A5AE-60A7022842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00D3E-F9A2-4725-8A86-33307AAF5A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15132-22AE-4872-9FD3-AFE882A885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84E3C-75D1-44B7-A51D-11421D1DA6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C6A2E-D352-4483-AEAE-26D9B7F77B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-12600"/>
            <a:ext cx="5778360" cy="2276280"/>
          </a:xfrm>
          <a:custGeom>
            <a:avLst/>
            <a:gdLst/>
            <a:ahLst/>
            <a:rect l="l" t="t" r="r" b="b"/>
            <a:pathLst>
              <a:path w="3640" h="1434">
                <a:moveTo>
                  <a:pt x="0" y="1152"/>
                </a:moveTo>
                <a:cubicBezTo>
                  <a:pt x="112" y="1192"/>
                  <a:pt x="204" y="1434"/>
                  <a:pt x="672" y="1392"/>
                </a:cubicBezTo>
                <a:cubicBezTo>
                  <a:pt x="824" y="1392"/>
                  <a:pt x="880" y="1248"/>
                  <a:pt x="912" y="1152"/>
                </a:cubicBezTo>
                <a:cubicBezTo>
                  <a:pt x="944" y="1056"/>
                  <a:pt x="821" y="910"/>
                  <a:pt x="864" y="816"/>
                </a:cubicBezTo>
                <a:cubicBezTo>
                  <a:pt x="864" y="552"/>
                  <a:pt x="1044" y="582"/>
                  <a:pt x="1170" y="588"/>
                </a:cubicBezTo>
                <a:cubicBezTo>
                  <a:pt x="1386" y="666"/>
                  <a:pt x="1535" y="548"/>
                  <a:pt x="1692" y="546"/>
                </a:cubicBezTo>
                <a:cubicBezTo>
                  <a:pt x="1849" y="544"/>
                  <a:pt x="1944" y="648"/>
                  <a:pt x="2112" y="576"/>
                </a:cubicBezTo>
                <a:cubicBezTo>
                  <a:pt x="2250" y="510"/>
                  <a:pt x="2200" y="448"/>
                  <a:pt x="2208" y="384"/>
                </a:cubicBezTo>
                <a:cubicBezTo>
                  <a:pt x="2220" y="311"/>
                  <a:pt x="2040" y="198"/>
                  <a:pt x="2184" y="138"/>
                </a:cubicBezTo>
                <a:cubicBezTo>
                  <a:pt x="2346" y="60"/>
                  <a:pt x="2500" y="95"/>
                  <a:pt x="2640" y="144"/>
                </a:cubicBezTo>
                <a:cubicBezTo>
                  <a:pt x="2780" y="193"/>
                  <a:pt x="2872" y="424"/>
                  <a:pt x="3024" y="432"/>
                </a:cubicBezTo>
                <a:cubicBezTo>
                  <a:pt x="3176" y="440"/>
                  <a:pt x="3464" y="264"/>
                  <a:pt x="3552" y="192"/>
                </a:cubicBezTo>
                <a:cubicBezTo>
                  <a:pt x="3640" y="120"/>
                  <a:pt x="3552" y="40"/>
                  <a:pt x="3552" y="0"/>
                </a:cubicBezTo>
              </a:path>
            </a:pathLst>
          </a:custGeom>
          <a:noFill/>
          <a:ln w="9360">
            <a:solidFill>
              <a:srgbClr val="d6e9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-12600"/>
            <a:ext cx="3168720" cy="1968480"/>
          </a:xfrm>
          <a:custGeom>
            <a:avLst/>
            <a:gdLst/>
            <a:ahLst/>
            <a:rect l="l" t="t" r="r" b="b"/>
            <a:pathLst>
              <a:path w="1996" h="1240">
                <a:moveTo>
                  <a:pt x="0" y="960"/>
                </a:moveTo>
                <a:cubicBezTo>
                  <a:pt x="56" y="1000"/>
                  <a:pt x="240" y="1160"/>
                  <a:pt x="336" y="1200"/>
                </a:cubicBezTo>
                <a:cubicBezTo>
                  <a:pt x="432" y="1240"/>
                  <a:pt x="516" y="1238"/>
                  <a:pt x="576" y="1200"/>
                </a:cubicBezTo>
                <a:cubicBezTo>
                  <a:pt x="636" y="1162"/>
                  <a:pt x="686" y="1095"/>
                  <a:pt x="696" y="972"/>
                </a:cubicBezTo>
                <a:cubicBezTo>
                  <a:pt x="706" y="849"/>
                  <a:pt x="616" y="578"/>
                  <a:pt x="636" y="462"/>
                </a:cubicBezTo>
                <a:cubicBezTo>
                  <a:pt x="656" y="346"/>
                  <a:pt x="690" y="281"/>
                  <a:pt x="816" y="276"/>
                </a:cubicBezTo>
                <a:cubicBezTo>
                  <a:pt x="942" y="271"/>
                  <a:pt x="1238" y="413"/>
                  <a:pt x="1392" y="432"/>
                </a:cubicBezTo>
                <a:cubicBezTo>
                  <a:pt x="1546" y="451"/>
                  <a:pt x="1643" y="404"/>
                  <a:pt x="1740" y="390"/>
                </a:cubicBezTo>
                <a:cubicBezTo>
                  <a:pt x="1837" y="376"/>
                  <a:pt x="1952" y="413"/>
                  <a:pt x="1974" y="348"/>
                </a:cubicBezTo>
                <a:cubicBezTo>
                  <a:pt x="1996" y="283"/>
                  <a:pt x="1986" y="84"/>
                  <a:pt x="1872" y="0"/>
                </a:cubicBezTo>
              </a:path>
            </a:pathLst>
          </a:custGeom>
          <a:noFill/>
          <a:ln w="9360">
            <a:solidFill>
              <a:srgbClr val="d6e9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2600"/>
            <a:ext cx="2514600" cy="1600200"/>
          </a:xfrm>
          <a:custGeom>
            <a:avLst/>
            <a:gdLst/>
            <a:ahLst/>
            <a:rect l="l" t="t" r="r" b="b"/>
            <a:pathLst>
              <a:path w="1584" h="1008">
                <a:moveTo>
                  <a:pt x="0" y="576"/>
                </a:moveTo>
                <a:cubicBezTo>
                  <a:pt x="56" y="640"/>
                  <a:pt x="256" y="912"/>
                  <a:pt x="336" y="960"/>
                </a:cubicBezTo>
                <a:cubicBezTo>
                  <a:pt x="416" y="1008"/>
                  <a:pt x="483" y="955"/>
                  <a:pt x="480" y="864"/>
                </a:cubicBezTo>
                <a:cubicBezTo>
                  <a:pt x="477" y="773"/>
                  <a:pt x="384" y="618"/>
                  <a:pt x="318" y="414"/>
                </a:cubicBezTo>
                <a:cubicBezTo>
                  <a:pt x="156" y="12"/>
                  <a:pt x="528" y="6"/>
                  <a:pt x="780" y="36"/>
                </a:cubicBezTo>
                <a:cubicBezTo>
                  <a:pt x="1002" y="66"/>
                  <a:pt x="1306" y="198"/>
                  <a:pt x="1440" y="192"/>
                </a:cubicBezTo>
                <a:cubicBezTo>
                  <a:pt x="1574" y="186"/>
                  <a:pt x="1554" y="40"/>
                  <a:pt x="1584" y="0"/>
                </a:cubicBezTo>
              </a:path>
            </a:pathLst>
          </a:custGeom>
          <a:noFill/>
          <a:ln w="9360">
            <a:solidFill>
              <a:srgbClr val="d6e9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359000" y="228600"/>
            <a:ext cx="5956200" cy="2882880"/>
          </a:xfrm>
          <a:custGeom>
            <a:avLst/>
            <a:gdLst/>
            <a:ahLst/>
            <a:rect l="l" t="t" r="r" b="b"/>
            <a:pathLst>
              <a:path w="3752" h="1816">
                <a:moveTo>
                  <a:pt x="248" y="1000"/>
                </a:moveTo>
                <a:cubicBezTo>
                  <a:pt x="280" y="888"/>
                  <a:pt x="200" y="816"/>
                  <a:pt x="200" y="760"/>
                </a:cubicBezTo>
                <a:cubicBezTo>
                  <a:pt x="200" y="704"/>
                  <a:pt x="184" y="688"/>
                  <a:pt x="248" y="664"/>
                </a:cubicBezTo>
                <a:cubicBezTo>
                  <a:pt x="312" y="640"/>
                  <a:pt x="408" y="616"/>
                  <a:pt x="584" y="616"/>
                </a:cubicBezTo>
                <a:cubicBezTo>
                  <a:pt x="760" y="616"/>
                  <a:pt x="1128" y="696"/>
                  <a:pt x="1304" y="664"/>
                </a:cubicBezTo>
                <a:cubicBezTo>
                  <a:pt x="1480" y="632"/>
                  <a:pt x="1528" y="456"/>
                  <a:pt x="1640" y="424"/>
                </a:cubicBezTo>
                <a:cubicBezTo>
                  <a:pt x="1752" y="392"/>
                  <a:pt x="1816" y="472"/>
                  <a:pt x="1976" y="472"/>
                </a:cubicBezTo>
                <a:cubicBezTo>
                  <a:pt x="2136" y="472"/>
                  <a:pt x="2408" y="488"/>
                  <a:pt x="2600" y="424"/>
                </a:cubicBezTo>
                <a:cubicBezTo>
                  <a:pt x="2792" y="360"/>
                  <a:pt x="2968" y="152"/>
                  <a:pt x="3128" y="88"/>
                </a:cubicBezTo>
                <a:cubicBezTo>
                  <a:pt x="3288" y="24"/>
                  <a:pt x="3472" y="0"/>
                  <a:pt x="3560" y="40"/>
                </a:cubicBezTo>
                <a:cubicBezTo>
                  <a:pt x="3648" y="80"/>
                  <a:pt x="3752" y="208"/>
                  <a:pt x="3656" y="328"/>
                </a:cubicBezTo>
                <a:cubicBezTo>
                  <a:pt x="3560" y="448"/>
                  <a:pt x="3184" y="656"/>
                  <a:pt x="2984" y="760"/>
                </a:cubicBezTo>
                <a:cubicBezTo>
                  <a:pt x="2784" y="864"/>
                  <a:pt x="2624" y="840"/>
                  <a:pt x="2456" y="952"/>
                </a:cubicBezTo>
                <a:cubicBezTo>
                  <a:pt x="2288" y="1064"/>
                  <a:pt x="2152" y="1296"/>
                  <a:pt x="1976" y="1432"/>
                </a:cubicBezTo>
                <a:cubicBezTo>
                  <a:pt x="1800" y="1568"/>
                  <a:pt x="1568" y="1720"/>
                  <a:pt x="1400" y="1768"/>
                </a:cubicBezTo>
                <a:cubicBezTo>
                  <a:pt x="1232" y="1816"/>
                  <a:pt x="1152" y="1720"/>
                  <a:pt x="968" y="1720"/>
                </a:cubicBezTo>
                <a:cubicBezTo>
                  <a:pt x="784" y="1720"/>
                  <a:pt x="456" y="1816"/>
                  <a:pt x="296" y="1768"/>
                </a:cubicBezTo>
                <a:cubicBezTo>
                  <a:pt x="136" y="1720"/>
                  <a:pt x="16" y="1560"/>
                  <a:pt x="8" y="1432"/>
                </a:cubicBezTo>
                <a:cubicBezTo>
                  <a:pt x="0" y="1304"/>
                  <a:pt x="216" y="1112"/>
                  <a:pt x="248" y="1000"/>
                </a:cubicBezTo>
                <a:close/>
              </a:path>
            </a:pathLst>
          </a:custGeom>
          <a:noFill/>
          <a:ln w="9360">
            <a:solidFill>
              <a:srgbClr val="d6e9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42960" y="1092240"/>
            <a:ext cx="4095720" cy="1809720"/>
          </a:xfrm>
          <a:custGeom>
            <a:avLst/>
            <a:gdLst/>
            <a:ahLst/>
            <a:rect l="l" t="t" r="r" b="b"/>
            <a:pathLst>
              <a:path w="2580" h="1140">
                <a:moveTo>
                  <a:pt x="36" y="792"/>
                </a:moveTo>
                <a:cubicBezTo>
                  <a:pt x="66" y="666"/>
                  <a:pt x="180" y="544"/>
                  <a:pt x="228" y="456"/>
                </a:cubicBezTo>
                <a:cubicBezTo>
                  <a:pt x="276" y="368"/>
                  <a:pt x="260" y="304"/>
                  <a:pt x="324" y="264"/>
                </a:cubicBezTo>
                <a:cubicBezTo>
                  <a:pt x="388" y="224"/>
                  <a:pt x="484" y="208"/>
                  <a:pt x="612" y="216"/>
                </a:cubicBezTo>
                <a:cubicBezTo>
                  <a:pt x="740" y="224"/>
                  <a:pt x="828" y="330"/>
                  <a:pt x="1092" y="312"/>
                </a:cubicBezTo>
                <a:cubicBezTo>
                  <a:pt x="1422" y="270"/>
                  <a:pt x="1416" y="0"/>
                  <a:pt x="1536" y="60"/>
                </a:cubicBezTo>
                <a:cubicBezTo>
                  <a:pt x="1782" y="204"/>
                  <a:pt x="2256" y="82"/>
                  <a:pt x="2388" y="120"/>
                </a:cubicBezTo>
                <a:cubicBezTo>
                  <a:pt x="2520" y="158"/>
                  <a:pt x="2580" y="198"/>
                  <a:pt x="2328" y="288"/>
                </a:cubicBezTo>
                <a:cubicBezTo>
                  <a:pt x="2094" y="378"/>
                  <a:pt x="2178" y="488"/>
                  <a:pt x="2028" y="612"/>
                </a:cubicBezTo>
                <a:cubicBezTo>
                  <a:pt x="1878" y="736"/>
                  <a:pt x="1576" y="954"/>
                  <a:pt x="1428" y="1032"/>
                </a:cubicBezTo>
                <a:cubicBezTo>
                  <a:pt x="1292" y="1112"/>
                  <a:pt x="1218" y="1140"/>
                  <a:pt x="1140" y="1080"/>
                </a:cubicBezTo>
                <a:cubicBezTo>
                  <a:pt x="918" y="960"/>
                  <a:pt x="508" y="1080"/>
                  <a:pt x="324" y="1032"/>
                </a:cubicBezTo>
                <a:cubicBezTo>
                  <a:pt x="140" y="984"/>
                  <a:pt x="0" y="918"/>
                  <a:pt x="36" y="792"/>
                </a:cubicBezTo>
                <a:close/>
              </a:path>
            </a:pathLst>
          </a:custGeom>
          <a:noFill/>
          <a:ln w="9360">
            <a:solidFill>
              <a:srgbClr val="d6e9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857240" y="1444680"/>
            <a:ext cx="2791080" cy="1104840"/>
          </a:xfrm>
          <a:custGeom>
            <a:avLst/>
            <a:gdLst/>
            <a:ahLst/>
            <a:rect l="l" t="t" r="r" b="b"/>
            <a:pathLst>
              <a:path w="1758" h="696">
                <a:moveTo>
                  <a:pt x="60" y="594"/>
                </a:moveTo>
                <a:cubicBezTo>
                  <a:pt x="0" y="462"/>
                  <a:pt x="48" y="306"/>
                  <a:pt x="126" y="234"/>
                </a:cubicBezTo>
                <a:cubicBezTo>
                  <a:pt x="390" y="30"/>
                  <a:pt x="654" y="378"/>
                  <a:pt x="1182" y="234"/>
                </a:cubicBezTo>
                <a:cubicBezTo>
                  <a:pt x="1414" y="210"/>
                  <a:pt x="1284" y="132"/>
                  <a:pt x="1518" y="90"/>
                </a:cubicBezTo>
                <a:cubicBezTo>
                  <a:pt x="1680" y="0"/>
                  <a:pt x="1758" y="66"/>
                  <a:pt x="1710" y="138"/>
                </a:cubicBezTo>
                <a:cubicBezTo>
                  <a:pt x="1662" y="210"/>
                  <a:pt x="1290" y="372"/>
                  <a:pt x="1230" y="522"/>
                </a:cubicBezTo>
                <a:cubicBezTo>
                  <a:pt x="1134" y="696"/>
                  <a:pt x="945" y="654"/>
                  <a:pt x="750" y="666"/>
                </a:cubicBezTo>
                <a:cubicBezTo>
                  <a:pt x="555" y="678"/>
                  <a:pt x="164" y="666"/>
                  <a:pt x="60" y="594"/>
                </a:cubicBezTo>
                <a:close/>
              </a:path>
            </a:pathLst>
          </a:custGeom>
          <a:noFill/>
          <a:ln w="9360">
            <a:solidFill>
              <a:srgbClr val="d6e9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rot="21300600">
            <a:off x="2057400" y="1968480"/>
            <a:ext cx="1473120" cy="304920"/>
          </a:xfrm>
          <a:custGeom>
            <a:avLst/>
            <a:gdLst/>
            <a:ahLst/>
            <a:rect l="l" t="t" r="r" b="b"/>
            <a:pathLst>
              <a:path w="928" h="192">
                <a:moveTo>
                  <a:pt x="104" y="96"/>
                </a:moveTo>
                <a:cubicBezTo>
                  <a:pt x="0" y="64"/>
                  <a:pt x="48" y="0"/>
                  <a:pt x="152" y="0"/>
                </a:cubicBezTo>
                <a:cubicBezTo>
                  <a:pt x="256" y="0"/>
                  <a:pt x="600" y="80"/>
                  <a:pt x="728" y="96"/>
                </a:cubicBezTo>
                <a:cubicBezTo>
                  <a:pt x="856" y="112"/>
                  <a:pt x="912" y="80"/>
                  <a:pt x="920" y="96"/>
                </a:cubicBezTo>
                <a:cubicBezTo>
                  <a:pt x="928" y="112"/>
                  <a:pt x="912" y="192"/>
                  <a:pt x="776" y="192"/>
                </a:cubicBezTo>
                <a:cubicBezTo>
                  <a:pt x="640" y="192"/>
                  <a:pt x="208" y="128"/>
                  <a:pt x="104" y="96"/>
                </a:cubicBezTo>
                <a:close/>
              </a:path>
            </a:pathLst>
          </a:custGeom>
          <a:noFill/>
          <a:ln w="9360">
            <a:solidFill>
              <a:srgbClr val="d6e9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2514600"/>
            <a:ext cx="9134640" cy="3619440"/>
          </a:xfrm>
          <a:custGeom>
            <a:avLst/>
            <a:gdLst/>
            <a:ahLst/>
            <a:rect l="l" t="t" r="r" b="b"/>
            <a:pathLst>
              <a:path w="5754" h="2280">
                <a:moveTo>
                  <a:pt x="0" y="40"/>
                </a:moveTo>
                <a:cubicBezTo>
                  <a:pt x="56" y="40"/>
                  <a:pt x="216" y="0"/>
                  <a:pt x="336" y="40"/>
                </a:cubicBezTo>
                <a:cubicBezTo>
                  <a:pt x="456" y="80"/>
                  <a:pt x="624" y="168"/>
                  <a:pt x="720" y="280"/>
                </a:cubicBezTo>
                <a:cubicBezTo>
                  <a:pt x="816" y="392"/>
                  <a:pt x="888" y="552"/>
                  <a:pt x="912" y="712"/>
                </a:cubicBezTo>
                <a:cubicBezTo>
                  <a:pt x="936" y="872"/>
                  <a:pt x="856" y="1064"/>
                  <a:pt x="864" y="1240"/>
                </a:cubicBezTo>
                <a:cubicBezTo>
                  <a:pt x="872" y="1416"/>
                  <a:pt x="864" y="1616"/>
                  <a:pt x="960" y="1768"/>
                </a:cubicBezTo>
                <a:cubicBezTo>
                  <a:pt x="1056" y="1920"/>
                  <a:pt x="1240" y="2072"/>
                  <a:pt x="1440" y="2152"/>
                </a:cubicBezTo>
                <a:cubicBezTo>
                  <a:pt x="1640" y="2232"/>
                  <a:pt x="1952" y="2280"/>
                  <a:pt x="2160" y="2248"/>
                </a:cubicBezTo>
                <a:cubicBezTo>
                  <a:pt x="2368" y="2216"/>
                  <a:pt x="2597" y="2256"/>
                  <a:pt x="2688" y="1960"/>
                </a:cubicBezTo>
                <a:cubicBezTo>
                  <a:pt x="2779" y="1664"/>
                  <a:pt x="2578" y="728"/>
                  <a:pt x="2706" y="472"/>
                </a:cubicBezTo>
                <a:cubicBezTo>
                  <a:pt x="2834" y="216"/>
                  <a:pt x="3171" y="384"/>
                  <a:pt x="3456" y="424"/>
                </a:cubicBezTo>
                <a:cubicBezTo>
                  <a:pt x="3741" y="464"/>
                  <a:pt x="4256" y="544"/>
                  <a:pt x="4416" y="712"/>
                </a:cubicBezTo>
                <a:cubicBezTo>
                  <a:pt x="4576" y="880"/>
                  <a:pt x="4364" y="1247"/>
                  <a:pt x="4416" y="1432"/>
                </a:cubicBezTo>
                <a:cubicBezTo>
                  <a:pt x="4468" y="1617"/>
                  <a:pt x="4577" y="1693"/>
                  <a:pt x="4728" y="1822"/>
                </a:cubicBezTo>
                <a:cubicBezTo>
                  <a:pt x="4879" y="1951"/>
                  <a:pt x="5151" y="2258"/>
                  <a:pt x="5322" y="2206"/>
                </a:cubicBezTo>
                <a:cubicBezTo>
                  <a:pt x="5493" y="2154"/>
                  <a:pt x="5664" y="1655"/>
                  <a:pt x="5754" y="1510"/>
                </a:cubicBezTo>
              </a:path>
            </a:pathLst>
          </a:custGeom>
          <a:noFill/>
          <a:ln w="9360">
            <a:solidFill>
              <a:srgbClr val="d6e9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676520" y="3187800"/>
            <a:ext cx="2374920" cy="2324160"/>
          </a:xfrm>
          <a:custGeom>
            <a:avLst/>
            <a:gdLst/>
            <a:ahLst/>
            <a:rect l="l" t="t" r="r" b="b"/>
            <a:pathLst>
              <a:path w="1496" h="1464">
                <a:moveTo>
                  <a:pt x="408" y="16"/>
                </a:moveTo>
                <a:cubicBezTo>
                  <a:pt x="200" y="32"/>
                  <a:pt x="128" y="144"/>
                  <a:pt x="72" y="304"/>
                </a:cubicBezTo>
                <a:cubicBezTo>
                  <a:pt x="16" y="464"/>
                  <a:pt x="0" y="800"/>
                  <a:pt x="72" y="976"/>
                </a:cubicBezTo>
                <a:cubicBezTo>
                  <a:pt x="144" y="1152"/>
                  <a:pt x="328" y="1288"/>
                  <a:pt x="504" y="1360"/>
                </a:cubicBezTo>
                <a:cubicBezTo>
                  <a:pt x="680" y="1432"/>
                  <a:pt x="968" y="1464"/>
                  <a:pt x="1128" y="1408"/>
                </a:cubicBezTo>
                <a:cubicBezTo>
                  <a:pt x="1288" y="1352"/>
                  <a:pt x="1432" y="1224"/>
                  <a:pt x="1464" y="1024"/>
                </a:cubicBezTo>
                <a:cubicBezTo>
                  <a:pt x="1496" y="824"/>
                  <a:pt x="1496" y="376"/>
                  <a:pt x="1320" y="208"/>
                </a:cubicBezTo>
                <a:cubicBezTo>
                  <a:pt x="1144" y="40"/>
                  <a:pt x="616" y="0"/>
                  <a:pt x="408" y="16"/>
                </a:cubicBezTo>
                <a:close/>
              </a:path>
            </a:pathLst>
          </a:custGeom>
          <a:noFill/>
          <a:ln w="9360">
            <a:solidFill>
              <a:srgbClr val="d6e9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158600">
            <a:off x="2057400" y="3416400"/>
            <a:ext cx="1787400" cy="1158840"/>
          </a:xfrm>
          <a:custGeom>
            <a:avLst/>
            <a:gdLst/>
            <a:ahLst/>
            <a:rect l="l" t="t" r="r" b="b"/>
            <a:pathLst>
              <a:path w="1126" h="730">
                <a:moveTo>
                  <a:pt x="940" y="196"/>
                </a:moveTo>
                <a:cubicBezTo>
                  <a:pt x="700" y="100"/>
                  <a:pt x="701" y="40"/>
                  <a:pt x="576" y="20"/>
                </a:cubicBezTo>
                <a:cubicBezTo>
                  <a:pt x="451" y="0"/>
                  <a:pt x="284" y="17"/>
                  <a:pt x="192" y="76"/>
                </a:cubicBezTo>
                <a:cubicBezTo>
                  <a:pt x="100" y="135"/>
                  <a:pt x="56" y="132"/>
                  <a:pt x="24" y="372"/>
                </a:cubicBezTo>
                <a:cubicBezTo>
                  <a:pt x="0" y="730"/>
                  <a:pt x="350" y="637"/>
                  <a:pt x="520" y="670"/>
                </a:cubicBezTo>
                <a:cubicBezTo>
                  <a:pt x="690" y="703"/>
                  <a:pt x="978" y="647"/>
                  <a:pt x="1048" y="568"/>
                </a:cubicBezTo>
                <a:cubicBezTo>
                  <a:pt x="1118" y="489"/>
                  <a:pt x="1126" y="280"/>
                  <a:pt x="940" y="196"/>
                </a:cubicBezTo>
                <a:close/>
              </a:path>
            </a:pathLst>
          </a:custGeom>
          <a:noFill/>
          <a:ln w="9360">
            <a:solidFill>
              <a:srgbClr val="d6e9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4940280" y="-12600"/>
            <a:ext cx="4203720" cy="5387760"/>
          </a:xfrm>
          <a:custGeom>
            <a:avLst/>
            <a:gdLst/>
            <a:ahLst/>
            <a:rect l="l" t="t" r="r" b="b"/>
            <a:pathLst>
              <a:path w="2648" h="3394">
                <a:moveTo>
                  <a:pt x="1496" y="0"/>
                </a:moveTo>
                <a:cubicBezTo>
                  <a:pt x="1520" y="64"/>
                  <a:pt x="1656" y="240"/>
                  <a:pt x="1640" y="384"/>
                </a:cubicBezTo>
                <a:cubicBezTo>
                  <a:pt x="1624" y="528"/>
                  <a:pt x="1584" y="728"/>
                  <a:pt x="1400" y="864"/>
                </a:cubicBezTo>
                <a:cubicBezTo>
                  <a:pt x="1216" y="1000"/>
                  <a:pt x="760" y="1080"/>
                  <a:pt x="536" y="1200"/>
                </a:cubicBezTo>
                <a:cubicBezTo>
                  <a:pt x="312" y="1320"/>
                  <a:pt x="112" y="1472"/>
                  <a:pt x="56" y="1584"/>
                </a:cubicBezTo>
                <a:cubicBezTo>
                  <a:pt x="0" y="1696"/>
                  <a:pt x="32" y="1800"/>
                  <a:pt x="200" y="1872"/>
                </a:cubicBezTo>
                <a:cubicBezTo>
                  <a:pt x="368" y="1944"/>
                  <a:pt x="832" y="1944"/>
                  <a:pt x="1064" y="2016"/>
                </a:cubicBezTo>
                <a:cubicBezTo>
                  <a:pt x="1296" y="2088"/>
                  <a:pt x="1509" y="2150"/>
                  <a:pt x="1592" y="2304"/>
                </a:cubicBezTo>
                <a:cubicBezTo>
                  <a:pt x="1675" y="2458"/>
                  <a:pt x="1474" y="2760"/>
                  <a:pt x="1562" y="2940"/>
                </a:cubicBezTo>
                <a:cubicBezTo>
                  <a:pt x="1650" y="3120"/>
                  <a:pt x="1939" y="3394"/>
                  <a:pt x="2120" y="3384"/>
                </a:cubicBezTo>
                <a:cubicBezTo>
                  <a:pt x="2301" y="3374"/>
                  <a:pt x="2538" y="2985"/>
                  <a:pt x="2648" y="2880"/>
                </a:cubicBezTo>
              </a:path>
            </a:pathLst>
          </a:custGeom>
          <a:noFill/>
          <a:ln w="9360">
            <a:solidFill>
              <a:srgbClr val="d6e9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5562720" y="-12600"/>
            <a:ext cx="3581280" cy="5016240"/>
          </a:xfrm>
          <a:custGeom>
            <a:avLst/>
            <a:gdLst/>
            <a:ahLst/>
            <a:rect l="l" t="t" r="r" b="b"/>
            <a:pathLst>
              <a:path w="2256" h="3160">
                <a:moveTo>
                  <a:pt x="1488" y="0"/>
                </a:moveTo>
                <a:cubicBezTo>
                  <a:pt x="1488" y="88"/>
                  <a:pt x="1552" y="360"/>
                  <a:pt x="1488" y="528"/>
                </a:cubicBezTo>
                <a:cubicBezTo>
                  <a:pt x="1424" y="696"/>
                  <a:pt x="1328" y="848"/>
                  <a:pt x="1104" y="1008"/>
                </a:cubicBezTo>
                <a:cubicBezTo>
                  <a:pt x="880" y="1168"/>
                  <a:pt x="288" y="1360"/>
                  <a:pt x="144" y="1488"/>
                </a:cubicBezTo>
                <a:cubicBezTo>
                  <a:pt x="0" y="1616"/>
                  <a:pt x="88" y="1712"/>
                  <a:pt x="240" y="1776"/>
                </a:cubicBezTo>
                <a:cubicBezTo>
                  <a:pt x="392" y="1840"/>
                  <a:pt x="840" y="1824"/>
                  <a:pt x="1056" y="1872"/>
                </a:cubicBezTo>
                <a:cubicBezTo>
                  <a:pt x="1272" y="1920"/>
                  <a:pt x="1456" y="1968"/>
                  <a:pt x="1536" y="2064"/>
                </a:cubicBezTo>
                <a:cubicBezTo>
                  <a:pt x="1616" y="2160"/>
                  <a:pt x="1568" y="2328"/>
                  <a:pt x="1536" y="2448"/>
                </a:cubicBezTo>
                <a:cubicBezTo>
                  <a:pt x="1504" y="2568"/>
                  <a:pt x="1328" y="2672"/>
                  <a:pt x="1344" y="2784"/>
                </a:cubicBezTo>
                <a:cubicBezTo>
                  <a:pt x="1360" y="2896"/>
                  <a:pt x="1528" y="3080"/>
                  <a:pt x="1632" y="3120"/>
                </a:cubicBezTo>
                <a:cubicBezTo>
                  <a:pt x="1736" y="3160"/>
                  <a:pt x="1872" y="3128"/>
                  <a:pt x="1968" y="3024"/>
                </a:cubicBezTo>
                <a:cubicBezTo>
                  <a:pt x="2064" y="2920"/>
                  <a:pt x="2184" y="2672"/>
                  <a:pt x="2208" y="2496"/>
                </a:cubicBezTo>
                <a:cubicBezTo>
                  <a:pt x="2232" y="2320"/>
                  <a:pt x="2184" y="2120"/>
                  <a:pt x="2112" y="1968"/>
                </a:cubicBezTo>
                <a:cubicBezTo>
                  <a:pt x="2040" y="1816"/>
                  <a:pt x="1824" y="1720"/>
                  <a:pt x="1776" y="1584"/>
                </a:cubicBezTo>
                <a:cubicBezTo>
                  <a:pt x="1728" y="1448"/>
                  <a:pt x="1744" y="1304"/>
                  <a:pt x="1824" y="1152"/>
                </a:cubicBezTo>
                <a:cubicBezTo>
                  <a:pt x="1904" y="1000"/>
                  <a:pt x="2166" y="772"/>
                  <a:pt x="2256" y="672"/>
                </a:cubicBezTo>
              </a:path>
            </a:pathLst>
          </a:custGeom>
          <a:noFill/>
          <a:ln w="9360">
            <a:solidFill>
              <a:srgbClr val="d6e9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6362640" y="1714680"/>
            <a:ext cx="1663920" cy="1104840"/>
          </a:xfrm>
          <a:custGeom>
            <a:avLst/>
            <a:gdLst/>
            <a:ahLst/>
            <a:rect l="l" t="t" r="r" b="b"/>
            <a:pathLst>
              <a:path w="1048" h="696">
                <a:moveTo>
                  <a:pt x="984" y="256"/>
                </a:moveTo>
                <a:cubicBezTo>
                  <a:pt x="960" y="152"/>
                  <a:pt x="992" y="32"/>
                  <a:pt x="840" y="16"/>
                </a:cubicBezTo>
                <a:cubicBezTo>
                  <a:pt x="736" y="0"/>
                  <a:pt x="624" y="104"/>
                  <a:pt x="552" y="160"/>
                </a:cubicBezTo>
                <a:cubicBezTo>
                  <a:pt x="465" y="208"/>
                  <a:pt x="480" y="240"/>
                  <a:pt x="320" y="304"/>
                </a:cubicBezTo>
                <a:cubicBezTo>
                  <a:pt x="168" y="368"/>
                  <a:pt x="0" y="512"/>
                  <a:pt x="600" y="592"/>
                </a:cubicBezTo>
                <a:cubicBezTo>
                  <a:pt x="696" y="640"/>
                  <a:pt x="920" y="696"/>
                  <a:pt x="984" y="640"/>
                </a:cubicBezTo>
                <a:cubicBezTo>
                  <a:pt x="1048" y="584"/>
                  <a:pt x="984" y="336"/>
                  <a:pt x="984" y="256"/>
                </a:cubicBezTo>
                <a:close/>
              </a:path>
            </a:pathLst>
          </a:custGeom>
          <a:noFill/>
          <a:ln w="9360">
            <a:solidFill>
              <a:srgbClr val="d6e9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8123400" y="-12600"/>
            <a:ext cx="868320" cy="1104840"/>
          </a:xfrm>
          <a:custGeom>
            <a:avLst/>
            <a:gdLst/>
            <a:ahLst/>
            <a:rect l="l" t="t" r="r" b="b"/>
            <a:pathLst>
              <a:path w="547" h="696">
                <a:moveTo>
                  <a:pt x="19" y="0"/>
                </a:moveTo>
                <a:cubicBezTo>
                  <a:pt x="19" y="88"/>
                  <a:pt x="0" y="415"/>
                  <a:pt x="19" y="528"/>
                </a:cubicBezTo>
                <a:cubicBezTo>
                  <a:pt x="38" y="641"/>
                  <a:pt x="75" y="664"/>
                  <a:pt x="131" y="680"/>
                </a:cubicBezTo>
                <a:cubicBezTo>
                  <a:pt x="187" y="696"/>
                  <a:pt x="294" y="673"/>
                  <a:pt x="355" y="624"/>
                </a:cubicBezTo>
                <a:cubicBezTo>
                  <a:pt x="416" y="575"/>
                  <a:pt x="467" y="488"/>
                  <a:pt x="499" y="384"/>
                </a:cubicBezTo>
                <a:cubicBezTo>
                  <a:pt x="531" y="280"/>
                  <a:pt x="537" y="80"/>
                  <a:pt x="547" y="0"/>
                </a:cubicBezTo>
              </a:path>
            </a:pathLst>
          </a:custGeom>
          <a:noFill/>
          <a:ln w="9360">
            <a:solidFill>
              <a:srgbClr val="d6e9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0" y="3213000"/>
            <a:ext cx="3149640" cy="3645000"/>
          </a:xfrm>
          <a:custGeom>
            <a:avLst/>
            <a:gdLst/>
            <a:ahLst/>
            <a:rect l="l" t="t" r="r" b="b"/>
            <a:pathLst>
              <a:path w="1984" h="2296">
                <a:moveTo>
                  <a:pt x="0" y="32"/>
                </a:moveTo>
                <a:cubicBezTo>
                  <a:pt x="56" y="32"/>
                  <a:pt x="237" y="0"/>
                  <a:pt x="336" y="32"/>
                </a:cubicBezTo>
                <a:cubicBezTo>
                  <a:pt x="435" y="64"/>
                  <a:pt x="532" y="119"/>
                  <a:pt x="592" y="224"/>
                </a:cubicBezTo>
                <a:cubicBezTo>
                  <a:pt x="652" y="329"/>
                  <a:pt x="684" y="497"/>
                  <a:pt x="696" y="664"/>
                </a:cubicBezTo>
                <a:cubicBezTo>
                  <a:pt x="708" y="831"/>
                  <a:pt x="644" y="1037"/>
                  <a:pt x="664" y="1224"/>
                </a:cubicBezTo>
                <a:cubicBezTo>
                  <a:pt x="684" y="1411"/>
                  <a:pt x="739" y="1633"/>
                  <a:pt x="816" y="1784"/>
                </a:cubicBezTo>
                <a:cubicBezTo>
                  <a:pt x="893" y="1935"/>
                  <a:pt x="933" y="2043"/>
                  <a:pt x="1128" y="2128"/>
                </a:cubicBezTo>
                <a:cubicBezTo>
                  <a:pt x="1323" y="2213"/>
                  <a:pt x="1806" y="2261"/>
                  <a:pt x="1984" y="2296"/>
                </a:cubicBezTo>
              </a:path>
            </a:pathLst>
          </a:custGeom>
          <a:noFill/>
          <a:ln w="9360">
            <a:solidFill>
              <a:srgbClr val="d6e9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0" y="3809880"/>
            <a:ext cx="1295280" cy="3035520"/>
          </a:xfrm>
          <a:custGeom>
            <a:avLst/>
            <a:gdLst/>
            <a:ahLst/>
            <a:rect l="l" t="t" r="r" b="b"/>
            <a:pathLst>
              <a:path w="816" h="1912">
                <a:moveTo>
                  <a:pt x="0" y="280"/>
                </a:moveTo>
                <a:cubicBezTo>
                  <a:pt x="144" y="0"/>
                  <a:pt x="323" y="177"/>
                  <a:pt x="384" y="280"/>
                </a:cubicBezTo>
                <a:cubicBezTo>
                  <a:pt x="488" y="440"/>
                  <a:pt x="344" y="688"/>
                  <a:pt x="368" y="896"/>
                </a:cubicBezTo>
                <a:cubicBezTo>
                  <a:pt x="392" y="1104"/>
                  <a:pt x="453" y="1359"/>
                  <a:pt x="528" y="1528"/>
                </a:cubicBezTo>
                <a:cubicBezTo>
                  <a:pt x="603" y="1697"/>
                  <a:pt x="756" y="1832"/>
                  <a:pt x="816" y="1912"/>
                </a:cubicBezTo>
              </a:path>
            </a:pathLst>
          </a:custGeom>
          <a:noFill/>
          <a:ln w="9360">
            <a:solidFill>
              <a:srgbClr val="d6e9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267080" y="5124600"/>
            <a:ext cx="4889520" cy="1720800"/>
          </a:xfrm>
          <a:custGeom>
            <a:avLst/>
            <a:gdLst/>
            <a:ahLst/>
            <a:rect l="l" t="t" r="r" b="b"/>
            <a:pathLst>
              <a:path w="3080" h="1084">
                <a:moveTo>
                  <a:pt x="0" y="1084"/>
                </a:moveTo>
                <a:cubicBezTo>
                  <a:pt x="71" y="1059"/>
                  <a:pt x="317" y="1064"/>
                  <a:pt x="424" y="932"/>
                </a:cubicBezTo>
                <a:cubicBezTo>
                  <a:pt x="531" y="800"/>
                  <a:pt x="539" y="444"/>
                  <a:pt x="640" y="292"/>
                </a:cubicBezTo>
                <a:cubicBezTo>
                  <a:pt x="741" y="140"/>
                  <a:pt x="883" y="40"/>
                  <a:pt x="1032" y="20"/>
                </a:cubicBezTo>
                <a:cubicBezTo>
                  <a:pt x="1181" y="0"/>
                  <a:pt x="1364" y="75"/>
                  <a:pt x="1536" y="172"/>
                </a:cubicBezTo>
                <a:cubicBezTo>
                  <a:pt x="1708" y="269"/>
                  <a:pt x="1920" y="476"/>
                  <a:pt x="2064" y="604"/>
                </a:cubicBezTo>
                <a:cubicBezTo>
                  <a:pt x="2208" y="732"/>
                  <a:pt x="2231" y="860"/>
                  <a:pt x="2400" y="940"/>
                </a:cubicBezTo>
                <a:cubicBezTo>
                  <a:pt x="2569" y="1020"/>
                  <a:pt x="2939" y="1054"/>
                  <a:pt x="3080" y="1084"/>
                </a:cubicBezTo>
              </a:path>
            </a:pathLst>
          </a:custGeom>
          <a:noFill/>
          <a:ln w="9360">
            <a:solidFill>
              <a:srgbClr val="d6e9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pic>
        <p:nvPicPr>
          <p:cNvPr id="19" name="Topbanx" descr=""/>
          <p:cNvPicPr/>
          <p:nvPr/>
        </p:nvPicPr>
        <p:blipFill>
          <a:blip r:embed="rId2"/>
          <a:srcRect l="31927" t="5317" r="0" b="4258"/>
          <a:stretch/>
        </p:blipFill>
        <p:spPr>
          <a:xfrm>
            <a:off x="0" y="0"/>
            <a:ext cx="515880" cy="6858000"/>
          </a:xfrm>
          <a:prstGeom prst="rect">
            <a:avLst/>
          </a:prstGeom>
          <a:ln w="0">
            <a:noFill/>
          </a:ln>
        </p:spPr>
      </p:pic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172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172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ftr" idx="1"/>
          </p:nvPr>
        </p:nvSpPr>
        <p:spPr>
          <a:xfrm>
            <a:off x="609480" y="6365880"/>
            <a:ext cx="792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172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172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sldNum" idx="2"/>
          </p:nvPr>
        </p:nvSpPr>
        <p:spPr>
          <a:xfrm>
            <a:off x="7162560" y="636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172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68A9-4C4B-4904-977B-325DCDDE11FA}" type="slidenum">
              <a:rPr b="0" lang="el-GR" sz="1400" spc="-1" strike="noStrike">
                <a:solidFill>
                  <a:srgbClr val="00172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61" name=""/>
            <p:cNvSpPr/>
            <p:nvPr/>
          </p:nvSpPr>
          <p:spPr>
            <a:xfrm>
              <a:off x="0" y="0"/>
              <a:ext cx="9144000" cy="21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2133720"/>
              <a:ext cx="9144000" cy="4724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-12600"/>
              <a:ext cx="5778360" cy="2276280"/>
            </a:xfrm>
            <a:custGeom>
              <a:avLst/>
              <a:gdLst/>
              <a:ahLst/>
              <a:rect l="l" t="t" r="r" b="b"/>
              <a:pathLst>
                <a:path w="3640" h="1434">
                  <a:moveTo>
                    <a:pt x="0" y="1152"/>
                  </a:moveTo>
                  <a:cubicBezTo>
                    <a:pt x="112" y="1192"/>
                    <a:pt x="204" y="1434"/>
                    <a:pt x="672" y="1392"/>
                  </a:cubicBezTo>
                  <a:cubicBezTo>
                    <a:pt x="824" y="1392"/>
                    <a:pt x="880" y="1248"/>
                    <a:pt x="912" y="1152"/>
                  </a:cubicBezTo>
                  <a:cubicBezTo>
                    <a:pt x="944" y="1056"/>
                    <a:pt x="821" y="910"/>
                    <a:pt x="864" y="816"/>
                  </a:cubicBezTo>
                  <a:cubicBezTo>
                    <a:pt x="864" y="552"/>
                    <a:pt x="1044" y="582"/>
                    <a:pt x="1170" y="588"/>
                  </a:cubicBezTo>
                  <a:cubicBezTo>
                    <a:pt x="1386" y="666"/>
                    <a:pt x="1535" y="548"/>
                    <a:pt x="1692" y="546"/>
                  </a:cubicBezTo>
                  <a:cubicBezTo>
                    <a:pt x="1849" y="544"/>
                    <a:pt x="1944" y="648"/>
                    <a:pt x="2112" y="576"/>
                  </a:cubicBezTo>
                  <a:cubicBezTo>
                    <a:pt x="2250" y="510"/>
                    <a:pt x="2200" y="448"/>
                    <a:pt x="2208" y="384"/>
                  </a:cubicBezTo>
                  <a:cubicBezTo>
                    <a:pt x="2220" y="311"/>
                    <a:pt x="2040" y="198"/>
                    <a:pt x="2184" y="138"/>
                  </a:cubicBezTo>
                  <a:cubicBezTo>
                    <a:pt x="2346" y="60"/>
                    <a:pt x="2500" y="95"/>
                    <a:pt x="2640" y="144"/>
                  </a:cubicBezTo>
                  <a:cubicBezTo>
                    <a:pt x="2780" y="193"/>
                    <a:pt x="2872" y="424"/>
                    <a:pt x="3024" y="432"/>
                  </a:cubicBezTo>
                  <a:cubicBezTo>
                    <a:pt x="3176" y="440"/>
                    <a:pt x="3464" y="264"/>
                    <a:pt x="3552" y="192"/>
                  </a:cubicBezTo>
                  <a:cubicBezTo>
                    <a:pt x="3640" y="120"/>
                    <a:pt x="3552" y="40"/>
                    <a:pt x="3552" y="0"/>
                  </a:cubicBezTo>
                </a:path>
              </a:pathLst>
            </a:custGeom>
            <a:noFill/>
            <a:ln w="9360">
              <a:solidFill>
                <a:srgbClr val="d6e9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-12600"/>
              <a:ext cx="3168720" cy="1968480"/>
            </a:xfrm>
            <a:custGeom>
              <a:avLst/>
              <a:gdLst/>
              <a:ahLst/>
              <a:rect l="l" t="t" r="r" b="b"/>
              <a:pathLst>
                <a:path w="1996" h="1240">
                  <a:moveTo>
                    <a:pt x="0" y="960"/>
                  </a:moveTo>
                  <a:cubicBezTo>
                    <a:pt x="56" y="1000"/>
                    <a:pt x="240" y="1160"/>
                    <a:pt x="336" y="1200"/>
                  </a:cubicBezTo>
                  <a:cubicBezTo>
                    <a:pt x="432" y="1240"/>
                    <a:pt x="516" y="1238"/>
                    <a:pt x="576" y="1200"/>
                  </a:cubicBezTo>
                  <a:cubicBezTo>
                    <a:pt x="636" y="1162"/>
                    <a:pt x="686" y="1095"/>
                    <a:pt x="696" y="972"/>
                  </a:cubicBezTo>
                  <a:cubicBezTo>
                    <a:pt x="706" y="849"/>
                    <a:pt x="616" y="578"/>
                    <a:pt x="636" y="462"/>
                  </a:cubicBezTo>
                  <a:cubicBezTo>
                    <a:pt x="656" y="346"/>
                    <a:pt x="690" y="281"/>
                    <a:pt x="816" y="276"/>
                  </a:cubicBezTo>
                  <a:cubicBezTo>
                    <a:pt x="942" y="271"/>
                    <a:pt x="1238" y="413"/>
                    <a:pt x="1392" y="432"/>
                  </a:cubicBezTo>
                  <a:cubicBezTo>
                    <a:pt x="1546" y="451"/>
                    <a:pt x="1643" y="404"/>
                    <a:pt x="1740" y="390"/>
                  </a:cubicBezTo>
                  <a:cubicBezTo>
                    <a:pt x="1837" y="376"/>
                    <a:pt x="1952" y="413"/>
                    <a:pt x="1974" y="348"/>
                  </a:cubicBezTo>
                  <a:cubicBezTo>
                    <a:pt x="1996" y="283"/>
                    <a:pt x="1986" y="84"/>
                    <a:pt x="1872" y="0"/>
                  </a:cubicBezTo>
                </a:path>
              </a:pathLst>
            </a:custGeom>
            <a:noFill/>
            <a:ln w="9360">
              <a:solidFill>
                <a:srgbClr val="d6e9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-12600"/>
              <a:ext cx="2514600" cy="1600200"/>
            </a:xfrm>
            <a:custGeom>
              <a:avLst/>
              <a:gdLst/>
              <a:ahLst/>
              <a:rect l="l" t="t" r="r" b="b"/>
              <a:pathLst>
                <a:path w="1584" h="1008">
                  <a:moveTo>
                    <a:pt x="0" y="576"/>
                  </a:moveTo>
                  <a:cubicBezTo>
                    <a:pt x="56" y="640"/>
                    <a:pt x="256" y="912"/>
                    <a:pt x="336" y="960"/>
                  </a:cubicBezTo>
                  <a:cubicBezTo>
                    <a:pt x="416" y="1008"/>
                    <a:pt x="483" y="955"/>
                    <a:pt x="480" y="864"/>
                  </a:cubicBezTo>
                  <a:cubicBezTo>
                    <a:pt x="477" y="773"/>
                    <a:pt x="384" y="618"/>
                    <a:pt x="318" y="414"/>
                  </a:cubicBezTo>
                  <a:cubicBezTo>
                    <a:pt x="156" y="12"/>
                    <a:pt x="528" y="6"/>
                    <a:pt x="780" y="36"/>
                  </a:cubicBezTo>
                  <a:cubicBezTo>
                    <a:pt x="1002" y="66"/>
                    <a:pt x="1306" y="198"/>
                    <a:pt x="1440" y="192"/>
                  </a:cubicBezTo>
                  <a:cubicBezTo>
                    <a:pt x="1574" y="186"/>
                    <a:pt x="1554" y="40"/>
                    <a:pt x="1584" y="0"/>
                  </a:cubicBezTo>
                </a:path>
              </a:pathLst>
            </a:custGeom>
            <a:noFill/>
            <a:ln w="9360">
              <a:solidFill>
                <a:srgbClr val="d6e9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359000" y="228600"/>
              <a:ext cx="5956200" cy="2882880"/>
            </a:xfrm>
            <a:custGeom>
              <a:avLst/>
              <a:gdLst/>
              <a:ahLst/>
              <a:rect l="l" t="t" r="r" b="b"/>
              <a:pathLst>
                <a:path w="3752" h="1816">
                  <a:moveTo>
                    <a:pt x="248" y="1000"/>
                  </a:moveTo>
                  <a:cubicBezTo>
                    <a:pt x="280" y="888"/>
                    <a:pt x="200" y="816"/>
                    <a:pt x="200" y="760"/>
                  </a:cubicBezTo>
                  <a:cubicBezTo>
                    <a:pt x="200" y="704"/>
                    <a:pt x="184" y="688"/>
                    <a:pt x="248" y="664"/>
                  </a:cubicBezTo>
                  <a:cubicBezTo>
                    <a:pt x="312" y="640"/>
                    <a:pt x="408" y="616"/>
                    <a:pt x="584" y="616"/>
                  </a:cubicBezTo>
                  <a:cubicBezTo>
                    <a:pt x="760" y="616"/>
                    <a:pt x="1128" y="696"/>
                    <a:pt x="1304" y="664"/>
                  </a:cubicBezTo>
                  <a:cubicBezTo>
                    <a:pt x="1480" y="632"/>
                    <a:pt x="1528" y="456"/>
                    <a:pt x="1640" y="424"/>
                  </a:cubicBezTo>
                  <a:cubicBezTo>
                    <a:pt x="1752" y="392"/>
                    <a:pt x="1816" y="472"/>
                    <a:pt x="1976" y="472"/>
                  </a:cubicBezTo>
                  <a:cubicBezTo>
                    <a:pt x="2136" y="472"/>
                    <a:pt x="2408" y="488"/>
                    <a:pt x="2600" y="424"/>
                  </a:cubicBezTo>
                  <a:cubicBezTo>
                    <a:pt x="2792" y="360"/>
                    <a:pt x="2968" y="152"/>
                    <a:pt x="3128" y="88"/>
                  </a:cubicBezTo>
                  <a:cubicBezTo>
                    <a:pt x="3288" y="24"/>
                    <a:pt x="3472" y="0"/>
                    <a:pt x="3560" y="40"/>
                  </a:cubicBezTo>
                  <a:cubicBezTo>
                    <a:pt x="3648" y="80"/>
                    <a:pt x="3752" y="208"/>
                    <a:pt x="3656" y="328"/>
                  </a:cubicBezTo>
                  <a:cubicBezTo>
                    <a:pt x="3560" y="448"/>
                    <a:pt x="3184" y="656"/>
                    <a:pt x="2984" y="760"/>
                  </a:cubicBezTo>
                  <a:cubicBezTo>
                    <a:pt x="2784" y="864"/>
                    <a:pt x="2624" y="840"/>
                    <a:pt x="2456" y="952"/>
                  </a:cubicBezTo>
                  <a:cubicBezTo>
                    <a:pt x="2288" y="1064"/>
                    <a:pt x="2152" y="1296"/>
                    <a:pt x="1976" y="1432"/>
                  </a:cubicBezTo>
                  <a:cubicBezTo>
                    <a:pt x="1800" y="1568"/>
                    <a:pt x="1568" y="1720"/>
                    <a:pt x="1400" y="1768"/>
                  </a:cubicBezTo>
                  <a:cubicBezTo>
                    <a:pt x="1232" y="1816"/>
                    <a:pt x="1152" y="1720"/>
                    <a:pt x="968" y="1720"/>
                  </a:cubicBezTo>
                  <a:cubicBezTo>
                    <a:pt x="784" y="1720"/>
                    <a:pt x="456" y="1816"/>
                    <a:pt x="296" y="1768"/>
                  </a:cubicBezTo>
                  <a:cubicBezTo>
                    <a:pt x="136" y="1720"/>
                    <a:pt x="16" y="1560"/>
                    <a:pt x="8" y="1432"/>
                  </a:cubicBezTo>
                  <a:cubicBezTo>
                    <a:pt x="0" y="1304"/>
                    <a:pt x="216" y="1112"/>
                    <a:pt x="248" y="1000"/>
                  </a:cubicBezTo>
                  <a:close/>
                </a:path>
              </a:pathLst>
            </a:custGeom>
            <a:noFill/>
            <a:ln w="9360">
              <a:solidFill>
                <a:srgbClr val="d6e9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542960" y="1092240"/>
              <a:ext cx="4095720" cy="1809720"/>
            </a:xfrm>
            <a:custGeom>
              <a:avLst/>
              <a:gdLst/>
              <a:ahLst/>
              <a:rect l="l" t="t" r="r" b="b"/>
              <a:pathLst>
                <a:path w="2580" h="1140">
                  <a:moveTo>
                    <a:pt x="36" y="792"/>
                  </a:moveTo>
                  <a:cubicBezTo>
                    <a:pt x="66" y="666"/>
                    <a:pt x="180" y="544"/>
                    <a:pt x="228" y="456"/>
                  </a:cubicBezTo>
                  <a:cubicBezTo>
                    <a:pt x="276" y="368"/>
                    <a:pt x="260" y="304"/>
                    <a:pt x="324" y="264"/>
                  </a:cubicBezTo>
                  <a:cubicBezTo>
                    <a:pt x="388" y="224"/>
                    <a:pt x="484" y="208"/>
                    <a:pt x="612" y="216"/>
                  </a:cubicBezTo>
                  <a:cubicBezTo>
                    <a:pt x="740" y="224"/>
                    <a:pt x="828" y="330"/>
                    <a:pt x="1092" y="312"/>
                  </a:cubicBezTo>
                  <a:cubicBezTo>
                    <a:pt x="1422" y="270"/>
                    <a:pt x="1416" y="0"/>
                    <a:pt x="1536" y="60"/>
                  </a:cubicBezTo>
                  <a:cubicBezTo>
                    <a:pt x="1782" y="204"/>
                    <a:pt x="2256" y="82"/>
                    <a:pt x="2388" y="120"/>
                  </a:cubicBezTo>
                  <a:cubicBezTo>
                    <a:pt x="2520" y="158"/>
                    <a:pt x="2580" y="198"/>
                    <a:pt x="2328" y="288"/>
                  </a:cubicBezTo>
                  <a:cubicBezTo>
                    <a:pt x="2094" y="378"/>
                    <a:pt x="2178" y="488"/>
                    <a:pt x="2028" y="612"/>
                  </a:cubicBezTo>
                  <a:cubicBezTo>
                    <a:pt x="1878" y="736"/>
                    <a:pt x="1576" y="954"/>
                    <a:pt x="1428" y="1032"/>
                  </a:cubicBezTo>
                  <a:cubicBezTo>
                    <a:pt x="1292" y="1112"/>
                    <a:pt x="1218" y="1140"/>
                    <a:pt x="1140" y="1080"/>
                  </a:cubicBezTo>
                  <a:cubicBezTo>
                    <a:pt x="918" y="960"/>
                    <a:pt x="508" y="1080"/>
                    <a:pt x="324" y="1032"/>
                  </a:cubicBezTo>
                  <a:cubicBezTo>
                    <a:pt x="140" y="984"/>
                    <a:pt x="0" y="918"/>
                    <a:pt x="36" y="792"/>
                  </a:cubicBezTo>
                  <a:close/>
                </a:path>
              </a:pathLst>
            </a:custGeom>
            <a:noFill/>
            <a:ln w="9360">
              <a:solidFill>
                <a:srgbClr val="d6e9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857240" y="1444680"/>
              <a:ext cx="2791080" cy="1104840"/>
            </a:xfrm>
            <a:custGeom>
              <a:avLst/>
              <a:gdLst/>
              <a:ahLst/>
              <a:rect l="l" t="t" r="r" b="b"/>
              <a:pathLst>
                <a:path w="1758" h="696">
                  <a:moveTo>
                    <a:pt x="60" y="594"/>
                  </a:moveTo>
                  <a:cubicBezTo>
                    <a:pt x="0" y="462"/>
                    <a:pt x="48" y="306"/>
                    <a:pt x="126" y="234"/>
                  </a:cubicBezTo>
                  <a:cubicBezTo>
                    <a:pt x="390" y="30"/>
                    <a:pt x="654" y="378"/>
                    <a:pt x="1182" y="234"/>
                  </a:cubicBezTo>
                  <a:cubicBezTo>
                    <a:pt x="1414" y="210"/>
                    <a:pt x="1284" y="132"/>
                    <a:pt x="1518" y="90"/>
                  </a:cubicBezTo>
                  <a:cubicBezTo>
                    <a:pt x="1680" y="0"/>
                    <a:pt x="1758" y="66"/>
                    <a:pt x="1710" y="138"/>
                  </a:cubicBezTo>
                  <a:cubicBezTo>
                    <a:pt x="1662" y="210"/>
                    <a:pt x="1290" y="372"/>
                    <a:pt x="1230" y="522"/>
                  </a:cubicBezTo>
                  <a:cubicBezTo>
                    <a:pt x="1134" y="696"/>
                    <a:pt x="945" y="654"/>
                    <a:pt x="750" y="666"/>
                  </a:cubicBezTo>
                  <a:cubicBezTo>
                    <a:pt x="555" y="678"/>
                    <a:pt x="164" y="666"/>
                    <a:pt x="60" y="594"/>
                  </a:cubicBezTo>
                  <a:close/>
                </a:path>
              </a:pathLst>
            </a:custGeom>
            <a:noFill/>
            <a:ln w="9360">
              <a:solidFill>
                <a:srgbClr val="d6e9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21300600">
              <a:off x="2057400" y="1968480"/>
              <a:ext cx="1473120" cy="304920"/>
            </a:xfrm>
            <a:custGeom>
              <a:avLst/>
              <a:gdLst/>
              <a:ahLst/>
              <a:rect l="l" t="t" r="r" b="b"/>
              <a:pathLst>
                <a:path w="928" h="192">
                  <a:moveTo>
                    <a:pt x="104" y="96"/>
                  </a:moveTo>
                  <a:cubicBezTo>
                    <a:pt x="0" y="64"/>
                    <a:pt x="48" y="0"/>
                    <a:pt x="152" y="0"/>
                  </a:cubicBezTo>
                  <a:cubicBezTo>
                    <a:pt x="256" y="0"/>
                    <a:pt x="600" y="80"/>
                    <a:pt x="728" y="96"/>
                  </a:cubicBezTo>
                  <a:cubicBezTo>
                    <a:pt x="856" y="112"/>
                    <a:pt x="912" y="80"/>
                    <a:pt x="920" y="96"/>
                  </a:cubicBezTo>
                  <a:cubicBezTo>
                    <a:pt x="928" y="112"/>
                    <a:pt x="912" y="192"/>
                    <a:pt x="776" y="192"/>
                  </a:cubicBezTo>
                  <a:cubicBezTo>
                    <a:pt x="640" y="192"/>
                    <a:pt x="208" y="128"/>
                    <a:pt x="104" y="96"/>
                  </a:cubicBezTo>
                  <a:close/>
                </a:path>
              </a:pathLst>
            </a:custGeom>
            <a:noFill/>
            <a:ln w="9360">
              <a:solidFill>
                <a:srgbClr val="d6e9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2514600"/>
              <a:ext cx="9134640" cy="3619440"/>
            </a:xfrm>
            <a:custGeom>
              <a:avLst/>
              <a:gdLst/>
              <a:ahLst/>
              <a:rect l="l" t="t" r="r" b="b"/>
              <a:pathLst>
                <a:path w="5754" h="2280">
                  <a:moveTo>
                    <a:pt x="0" y="40"/>
                  </a:moveTo>
                  <a:cubicBezTo>
                    <a:pt x="56" y="40"/>
                    <a:pt x="216" y="0"/>
                    <a:pt x="336" y="40"/>
                  </a:cubicBezTo>
                  <a:cubicBezTo>
                    <a:pt x="456" y="80"/>
                    <a:pt x="624" y="168"/>
                    <a:pt x="720" y="280"/>
                  </a:cubicBezTo>
                  <a:cubicBezTo>
                    <a:pt x="816" y="392"/>
                    <a:pt x="888" y="552"/>
                    <a:pt x="912" y="712"/>
                  </a:cubicBezTo>
                  <a:cubicBezTo>
                    <a:pt x="936" y="872"/>
                    <a:pt x="856" y="1064"/>
                    <a:pt x="864" y="1240"/>
                  </a:cubicBezTo>
                  <a:cubicBezTo>
                    <a:pt x="872" y="1416"/>
                    <a:pt x="864" y="1616"/>
                    <a:pt x="960" y="1768"/>
                  </a:cubicBezTo>
                  <a:cubicBezTo>
                    <a:pt x="1056" y="1920"/>
                    <a:pt x="1240" y="2072"/>
                    <a:pt x="1440" y="2152"/>
                  </a:cubicBezTo>
                  <a:cubicBezTo>
                    <a:pt x="1640" y="2232"/>
                    <a:pt x="1952" y="2280"/>
                    <a:pt x="2160" y="2248"/>
                  </a:cubicBezTo>
                  <a:cubicBezTo>
                    <a:pt x="2368" y="2216"/>
                    <a:pt x="2597" y="2256"/>
                    <a:pt x="2688" y="1960"/>
                  </a:cubicBezTo>
                  <a:cubicBezTo>
                    <a:pt x="2779" y="1664"/>
                    <a:pt x="2578" y="728"/>
                    <a:pt x="2706" y="472"/>
                  </a:cubicBezTo>
                  <a:cubicBezTo>
                    <a:pt x="2834" y="216"/>
                    <a:pt x="3171" y="384"/>
                    <a:pt x="3456" y="424"/>
                  </a:cubicBezTo>
                  <a:cubicBezTo>
                    <a:pt x="3741" y="464"/>
                    <a:pt x="4256" y="544"/>
                    <a:pt x="4416" y="712"/>
                  </a:cubicBezTo>
                  <a:cubicBezTo>
                    <a:pt x="4576" y="880"/>
                    <a:pt x="4364" y="1247"/>
                    <a:pt x="4416" y="1432"/>
                  </a:cubicBezTo>
                  <a:cubicBezTo>
                    <a:pt x="4468" y="1617"/>
                    <a:pt x="4577" y="1693"/>
                    <a:pt x="4728" y="1822"/>
                  </a:cubicBezTo>
                  <a:cubicBezTo>
                    <a:pt x="4879" y="1951"/>
                    <a:pt x="5151" y="2258"/>
                    <a:pt x="5322" y="2206"/>
                  </a:cubicBezTo>
                  <a:cubicBezTo>
                    <a:pt x="5493" y="2154"/>
                    <a:pt x="5664" y="1655"/>
                    <a:pt x="5754" y="1510"/>
                  </a:cubicBezTo>
                </a:path>
              </a:pathLst>
            </a:custGeom>
            <a:noFill/>
            <a:ln w="9360">
              <a:solidFill>
                <a:srgbClr val="d6e9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76520" y="3187800"/>
              <a:ext cx="2374920" cy="2324160"/>
            </a:xfrm>
            <a:custGeom>
              <a:avLst/>
              <a:gdLst/>
              <a:ahLst/>
              <a:rect l="l" t="t" r="r" b="b"/>
              <a:pathLst>
                <a:path w="1496" h="1464">
                  <a:moveTo>
                    <a:pt x="408" y="16"/>
                  </a:moveTo>
                  <a:cubicBezTo>
                    <a:pt x="200" y="32"/>
                    <a:pt x="128" y="144"/>
                    <a:pt x="72" y="304"/>
                  </a:cubicBezTo>
                  <a:cubicBezTo>
                    <a:pt x="16" y="464"/>
                    <a:pt x="0" y="800"/>
                    <a:pt x="72" y="976"/>
                  </a:cubicBezTo>
                  <a:cubicBezTo>
                    <a:pt x="144" y="1152"/>
                    <a:pt x="328" y="1288"/>
                    <a:pt x="504" y="1360"/>
                  </a:cubicBezTo>
                  <a:cubicBezTo>
                    <a:pt x="680" y="1432"/>
                    <a:pt x="968" y="1464"/>
                    <a:pt x="1128" y="1408"/>
                  </a:cubicBezTo>
                  <a:cubicBezTo>
                    <a:pt x="1288" y="1352"/>
                    <a:pt x="1432" y="1224"/>
                    <a:pt x="1464" y="1024"/>
                  </a:cubicBezTo>
                  <a:cubicBezTo>
                    <a:pt x="1496" y="824"/>
                    <a:pt x="1496" y="376"/>
                    <a:pt x="1320" y="208"/>
                  </a:cubicBezTo>
                  <a:cubicBezTo>
                    <a:pt x="1144" y="40"/>
                    <a:pt x="616" y="0"/>
                    <a:pt x="408" y="16"/>
                  </a:cubicBezTo>
                  <a:close/>
                </a:path>
              </a:pathLst>
            </a:custGeom>
            <a:noFill/>
            <a:ln w="9360">
              <a:solidFill>
                <a:srgbClr val="d6e9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158600">
              <a:off x="2057400" y="3416400"/>
              <a:ext cx="1787400" cy="1158840"/>
            </a:xfrm>
            <a:custGeom>
              <a:avLst/>
              <a:gdLst/>
              <a:ahLst/>
              <a:rect l="l" t="t" r="r" b="b"/>
              <a:pathLst>
                <a:path w="1126" h="730">
                  <a:moveTo>
                    <a:pt x="940" y="196"/>
                  </a:moveTo>
                  <a:cubicBezTo>
                    <a:pt x="700" y="100"/>
                    <a:pt x="701" y="40"/>
                    <a:pt x="576" y="20"/>
                  </a:cubicBezTo>
                  <a:cubicBezTo>
                    <a:pt x="451" y="0"/>
                    <a:pt x="284" y="17"/>
                    <a:pt x="192" y="76"/>
                  </a:cubicBezTo>
                  <a:cubicBezTo>
                    <a:pt x="100" y="135"/>
                    <a:pt x="56" y="132"/>
                    <a:pt x="24" y="372"/>
                  </a:cubicBezTo>
                  <a:cubicBezTo>
                    <a:pt x="0" y="730"/>
                    <a:pt x="350" y="637"/>
                    <a:pt x="520" y="670"/>
                  </a:cubicBezTo>
                  <a:cubicBezTo>
                    <a:pt x="690" y="703"/>
                    <a:pt x="978" y="647"/>
                    <a:pt x="1048" y="568"/>
                  </a:cubicBezTo>
                  <a:cubicBezTo>
                    <a:pt x="1118" y="489"/>
                    <a:pt x="1126" y="280"/>
                    <a:pt x="940" y="196"/>
                  </a:cubicBezTo>
                  <a:close/>
                </a:path>
              </a:pathLst>
            </a:custGeom>
            <a:noFill/>
            <a:ln w="9360">
              <a:solidFill>
                <a:srgbClr val="d6e9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40280" y="-12600"/>
              <a:ext cx="4203720" cy="5387760"/>
            </a:xfrm>
            <a:custGeom>
              <a:avLst/>
              <a:gdLst/>
              <a:ahLst/>
              <a:rect l="l" t="t" r="r" b="b"/>
              <a:pathLst>
                <a:path w="2648" h="3394">
                  <a:moveTo>
                    <a:pt x="1496" y="0"/>
                  </a:moveTo>
                  <a:cubicBezTo>
                    <a:pt x="1520" y="64"/>
                    <a:pt x="1656" y="240"/>
                    <a:pt x="1640" y="384"/>
                  </a:cubicBezTo>
                  <a:cubicBezTo>
                    <a:pt x="1624" y="528"/>
                    <a:pt x="1584" y="728"/>
                    <a:pt x="1400" y="864"/>
                  </a:cubicBezTo>
                  <a:cubicBezTo>
                    <a:pt x="1216" y="1000"/>
                    <a:pt x="760" y="1080"/>
                    <a:pt x="536" y="1200"/>
                  </a:cubicBezTo>
                  <a:cubicBezTo>
                    <a:pt x="312" y="1320"/>
                    <a:pt x="112" y="1472"/>
                    <a:pt x="56" y="1584"/>
                  </a:cubicBezTo>
                  <a:cubicBezTo>
                    <a:pt x="0" y="1696"/>
                    <a:pt x="32" y="1800"/>
                    <a:pt x="200" y="1872"/>
                  </a:cubicBezTo>
                  <a:cubicBezTo>
                    <a:pt x="368" y="1944"/>
                    <a:pt x="832" y="1944"/>
                    <a:pt x="1064" y="2016"/>
                  </a:cubicBezTo>
                  <a:cubicBezTo>
                    <a:pt x="1296" y="2088"/>
                    <a:pt x="1509" y="2150"/>
                    <a:pt x="1592" y="2304"/>
                  </a:cubicBezTo>
                  <a:cubicBezTo>
                    <a:pt x="1675" y="2458"/>
                    <a:pt x="1474" y="2760"/>
                    <a:pt x="1562" y="2940"/>
                  </a:cubicBezTo>
                  <a:cubicBezTo>
                    <a:pt x="1650" y="3120"/>
                    <a:pt x="1939" y="3394"/>
                    <a:pt x="2120" y="3384"/>
                  </a:cubicBezTo>
                  <a:cubicBezTo>
                    <a:pt x="2301" y="3374"/>
                    <a:pt x="2538" y="2985"/>
                    <a:pt x="2648" y="2880"/>
                  </a:cubicBezTo>
                </a:path>
              </a:pathLst>
            </a:custGeom>
            <a:noFill/>
            <a:ln w="9360">
              <a:solidFill>
                <a:srgbClr val="d6e9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562720" y="-12600"/>
              <a:ext cx="3581280" cy="5016240"/>
            </a:xfrm>
            <a:custGeom>
              <a:avLst/>
              <a:gdLst/>
              <a:ahLst/>
              <a:rect l="l" t="t" r="r" b="b"/>
              <a:pathLst>
                <a:path w="2256" h="3160">
                  <a:moveTo>
                    <a:pt x="1488" y="0"/>
                  </a:moveTo>
                  <a:cubicBezTo>
                    <a:pt x="1488" y="88"/>
                    <a:pt x="1552" y="360"/>
                    <a:pt x="1488" y="528"/>
                  </a:cubicBezTo>
                  <a:cubicBezTo>
                    <a:pt x="1424" y="696"/>
                    <a:pt x="1328" y="848"/>
                    <a:pt x="1104" y="1008"/>
                  </a:cubicBezTo>
                  <a:cubicBezTo>
                    <a:pt x="880" y="1168"/>
                    <a:pt x="288" y="1360"/>
                    <a:pt x="144" y="1488"/>
                  </a:cubicBezTo>
                  <a:cubicBezTo>
                    <a:pt x="0" y="1616"/>
                    <a:pt x="88" y="1712"/>
                    <a:pt x="240" y="1776"/>
                  </a:cubicBezTo>
                  <a:cubicBezTo>
                    <a:pt x="392" y="1840"/>
                    <a:pt x="840" y="1824"/>
                    <a:pt x="1056" y="1872"/>
                  </a:cubicBezTo>
                  <a:cubicBezTo>
                    <a:pt x="1272" y="1920"/>
                    <a:pt x="1456" y="1968"/>
                    <a:pt x="1536" y="2064"/>
                  </a:cubicBezTo>
                  <a:cubicBezTo>
                    <a:pt x="1616" y="2160"/>
                    <a:pt x="1568" y="2328"/>
                    <a:pt x="1536" y="2448"/>
                  </a:cubicBezTo>
                  <a:cubicBezTo>
                    <a:pt x="1504" y="2568"/>
                    <a:pt x="1328" y="2672"/>
                    <a:pt x="1344" y="2784"/>
                  </a:cubicBezTo>
                  <a:cubicBezTo>
                    <a:pt x="1360" y="2896"/>
                    <a:pt x="1528" y="3080"/>
                    <a:pt x="1632" y="3120"/>
                  </a:cubicBezTo>
                  <a:cubicBezTo>
                    <a:pt x="1736" y="3160"/>
                    <a:pt x="1872" y="3128"/>
                    <a:pt x="1968" y="3024"/>
                  </a:cubicBezTo>
                  <a:cubicBezTo>
                    <a:pt x="2064" y="2920"/>
                    <a:pt x="2184" y="2672"/>
                    <a:pt x="2208" y="2496"/>
                  </a:cubicBezTo>
                  <a:cubicBezTo>
                    <a:pt x="2232" y="2320"/>
                    <a:pt x="2184" y="2120"/>
                    <a:pt x="2112" y="1968"/>
                  </a:cubicBezTo>
                  <a:cubicBezTo>
                    <a:pt x="2040" y="1816"/>
                    <a:pt x="1824" y="1720"/>
                    <a:pt x="1776" y="1584"/>
                  </a:cubicBezTo>
                  <a:cubicBezTo>
                    <a:pt x="1728" y="1448"/>
                    <a:pt x="1744" y="1304"/>
                    <a:pt x="1824" y="1152"/>
                  </a:cubicBezTo>
                  <a:cubicBezTo>
                    <a:pt x="1904" y="1000"/>
                    <a:pt x="2166" y="772"/>
                    <a:pt x="2256" y="672"/>
                  </a:cubicBezTo>
                </a:path>
              </a:pathLst>
            </a:custGeom>
            <a:noFill/>
            <a:ln w="9360">
              <a:solidFill>
                <a:srgbClr val="d6e9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362640" y="1714680"/>
              <a:ext cx="1663920" cy="1104840"/>
            </a:xfrm>
            <a:custGeom>
              <a:avLst/>
              <a:gdLst/>
              <a:ahLst/>
              <a:rect l="l" t="t" r="r" b="b"/>
              <a:pathLst>
                <a:path w="1048" h="696">
                  <a:moveTo>
                    <a:pt x="984" y="256"/>
                  </a:moveTo>
                  <a:cubicBezTo>
                    <a:pt x="960" y="152"/>
                    <a:pt x="992" y="32"/>
                    <a:pt x="840" y="16"/>
                  </a:cubicBezTo>
                  <a:cubicBezTo>
                    <a:pt x="736" y="0"/>
                    <a:pt x="624" y="104"/>
                    <a:pt x="552" y="160"/>
                  </a:cubicBezTo>
                  <a:cubicBezTo>
                    <a:pt x="465" y="208"/>
                    <a:pt x="480" y="240"/>
                    <a:pt x="320" y="304"/>
                  </a:cubicBezTo>
                  <a:cubicBezTo>
                    <a:pt x="168" y="368"/>
                    <a:pt x="0" y="512"/>
                    <a:pt x="600" y="592"/>
                  </a:cubicBezTo>
                  <a:cubicBezTo>
                    <a:pt x="696" y="640"/>
                    <a:pt x="920" y="696"/>
                    <a:pt x="984" y="640"/>
                  </a:cubicBezTo>
                  <a:cubicBezTo>
                    <a:pt x="1048" y="584"/>
                    <a:pt x="984" y="336"/>
                    <a:pt x="984" y="256"/>
                  </a:cubicBezTo>
                  <a:close/>
                </a:path>
              </a:pathLst>
            </a:custGeom>
            <a:noFill/>
            <a:ln w="9360">
              <a:solidFill>
                <a:srgbClr val="d6e9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123400" y="-12600"/>
              <a:ext cx="868320" cy="1104840"/>
            </a:xfrm>
            <a:custGeom>
              <a:avLst/>
              <a:gdLst/>
              <a:ahLst/>
              <a:rect l="l" t="t" r="r" b="b"/>
              <a:pathLst>
                <a:path w="547" h="696">
                  <a:moveTo>
                    <a:pt x="19" y="0"/>
                  </a:moveTo>
                  <a:cubicBezTo>
                    <a:pt x="19" y="88"/>
                    <a:pt x="0" y="415"/>
                    <a:pt x="19" y="528"/>
                  </a:cubicBezTo>
                  <a:cubicBezTo>
                    <a:pt x="38" y="641"/>
                    <a:pt x="75" y="664"/>
                    <a:pt x="131" y="680"/>
                  </a:cubicBezTo>
                  <a:cubicBezTo>
                    <a:pt x="187" y="696"/>
                    <a:pt x="294" y="673"/>
                    <a:pt x="355" y="624"/>
                  </a:cubicBezTo>
                  <a:cubicBezTo>
                    <a:pt x="416" y="575"/>
                    <a:pt x="467" y="488"/>
                    <a:pt x="499" y="384"/>
                  </a:cubicBezTo>
                  <a:cubicBezTo>
                    <a:pt x="531" y="280"/>
                    <a:pt x="537" y="80"/>
                    <a:pt x="547" y="0"/>
                  </a:cubicBezTo>
                </a:path>
              </a:pathLst>
            </a:custGeom>
            <a:noFill/>
            <a:ln w="9360">
              <a:solidFill>
                <a:srgbClr val="d6e9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3213000"/>
              <a:ext cx="3149640" cy="3645000"/>
            </a:xfrm>
            <a:custGeom>
              <a:avLst/>
              <a:gdLst/>
              <a:ahLst/>
              <a:rect l="l" t="t" r="r" b="b"/>
              <a:pathLst>
                <a:path w="1984" h="2296">
                  <a:moveTo>
                    <a:pt x="0" y="32"/>
                  </a:moveTo>
                  <a:cubicBezTo>
                    <a:pt x="56" y="32"/>
                    <a:pt x="237" y="0"/>
                    <a:pt x="336" y="32"/>
                  </a:cubicBezTo>
                  <a:cubicBezTo>
                    <a:pt x="435" y="64"/>
                    <a:pt x="532" y="119"/>
                    <a:pt x="592" y="224"/>
                  </a:cubicBezTo>
                  <a:cubicBezTo>
                    <a:pt x="652" y="329"/>
                    <a:pt x="684" y="497"/>
                    <a:pt x="696" y="664"/>
                  </a:cubicBezTo>
                  <a:cubicBezTo>
                    <a:pt x="708" y="831"/>
                    <a:pt x="644" y="1037"/>
                    <a:pt x="664" y="1224"/>
                  </a:cubicBezTo>
                  <a:cubicBezTo>
                    <a:pt x="684" y="1411"/>
                    <a:pt x="739" y="1633"/>
                    <a:pt x="816" y="1784"/>
                  </a:cubicBezTo>
                  <a:cubicBezTo>
                    <a:pt x="893" y="1935"/>
                    <a:pt x="933" y="2043"/>
                    <a:pt x="1128" y="2128"/>
                  </a:cubicBezTo>
                  <a:cubicBezTo>
                    <a:pt x="1323" y="2213"/>
                    <a:pt x="1806" y="2261"/>
                    <a:pt x="1984" y="2296"/>
                  </a:cubicBezTo>
                </a:path>
              </a:pathLst>
            </a:custGeom>
            <a:noFill/>
            <a:ln w="9360">
              <a:solidFill>
                <a:srgbClr val="d6e9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3809880"/>
              <a:ext cx="1295280" cy="3035520"/>
            </a:xfrm>
            <a:custGeom>
              <a:avLst/>
              <a:gdLst/>
              <a:ahLst/>
              <a:rect l="l" t="t" r="r" b="b"/>
              <a:pathLst>
                <a:path w="816" h="1912">
                  <a:moveTo>
                    <a:pt x="0" y="280"/>
                  </a:moveTo>
                  <a:cubicBezTo>
                    <a:pt x="144" y="0"/>
                    <a:pt x="323" y="177"/>
                    <a:pt x="384" y="280"/>
                  </a:cubicBezTo>
                  <a:cubicBezTo>
                    <a:pt x="488" y="440"/>
                    <a:pt x="344" y="688"/>
                    <a:pt x="368" y="896"/>
                  </a:cubicBezTo>
                  <a:cubicBezTo>
                    <a:pt x="392" y="1104"/>
                    <a:pt x="453" y="1359"/>
                    <a:pt x="528" y="1528"/>
                  </a:cubicBezTo>
                  <a:cubicBezTo>
                    <a:pt x="603" y="1697"/>
                    <a:pt x="756" y="1832"/>
                    <a:pt x="816" y="1912"/>
                  </a:cubicBezTo>
                </a:path>
              </a:pathLst>
            </a:custGeom>
            <a:noFill/>
            <a:ln w="9360">
              <a:solidFill>
                <a:srgbClr val="d6e9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7080" y="5124600"/>
              <a:ext cx="4889520" cy="1720800"/>
            </a:xfrm>
            <a:custGeom>
              <a:avLst/>
              <a:gdLst/>
              <a:ahLst/>
              <a:rect l="l" t="t" r="r" b="b"/>
              <a:pathLst>
                <a:path w="3080" h="1084">
                  <a:moveTo>
                    <a:pt x="0" y="1084"/>
                  </a:moveTo>
                  <a:cubicBezTo>
                    <a:pt x="71" y="1059"/>
                    <a:pt x="317" y="1064"/>
                    <a:pt x="424" y="932"/>
                  </a:cubicBezTo>
                  <a:cubicBezTo>
                    <a:pt x="531" y="800"/>
                    <a:pt x="539" y="444"/>
                    <a:pt x="640" y="292"/>
                  </a:cubicBezTo>
                  <a:cubicBezTo>
                    <a:pt x="741" y="140"/>
                    <a:pt x="883" y="40"/>
                    <a:pt x="1032" y="20"/>
                  </a:cubicBezTo>
                  <a:cubicBezTo>
                    <a:pt x="1181" y="0"/>
                    <a:pt x="1364" y="75"/>
                    <a:pt x="1536" y="172"/>
                  </a:cubicBezTo>
                  <a:cubicBezTo>
                    <a:pt x="1708" y="269"/>
                    <a:pt x="1920" y="476"/>
                    <a:pt x="2064" y="604"/>
                  </a:cubicBezTo>
                  <a:cubicBezTo>
                    <a:pt x="2208" y="732"/>
                    <a:pt x="2231" y="860"/>
                    <a:pt x="2400" y="940"/>
                  </a:cubicBezTo>
                  <a:cubicBezTo>
                    <a:pt x="2569" y="1020"/>
                    <a:pt x="2939" y="1054"/>
                    <a:pt x="3080" y="1084"/>
                  </a:cubicBezTo>
                </a:path>
              </a:pathLst>
            </a:custGeom>
            <a:noFill/>
            <a:ln w="9360">
              <a:solidFill>
                <a:srgbClr val="d6e9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pic>
          <p:nvPicPr>
            <p:cNvPr id="80" name="Topbanx" descr="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380880" y="3352680"/>
              <a:ext cx="426744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685800" y="3429000"/>
            <a:ext cx="1676520" cy="0"/>
          </a:xfrm>
          <a:prstGeom prst="line">
            <a:avLst/>
          </a:prstGeom>
          <a:ln w="9360">
            <a:solidFill>
              <a:srgbClr val="00172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762120" y="3352680"/>
            <a:ext cx="457200" cy="457200"/>
            <a:chOff x="762120" y="3352680"/>
            <a:chExt cx="457200" cy="457200"/>
          </a:xfrm>
        </p:grpSpPr>
        <p:sp>
          <p:nvSpPr>
            <p:cNvPr id="84" name=""/>
            <p:cNvSpPr/>
            <p:nvPr/>
          </p:nvSpPr>
          <p:spPr>
            <a:xfrm>
              <a:off x="838080" y="3429000"/>
              <a:ext cx="381240" cy="380880"/>
            </a:xfrm>
            <a:prstGeom prst="line">
              <a:avLst/>
            </a:prstGeom>
            <a:ln w="9360">
              <a:solidFill>
                <a:srgbClr val="00172e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62120" y="3352680"/>
              <a:ext cx="185760" cy="185760"/>
            </a:xfrm>
            <a:prstGeom prst="ellipse">
              <a:avLst/>
            </a:prstGeom>
            <a:noFill/>
            <a:ln w="93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6858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172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172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4"/>
          </p:nvPr>
        </p:nvSpPr>
        <p:spPr>
          <a:xfrm>
            <a:off x="3124080" y="6342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172e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172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5"/>
          </p:nvPr>
        </p:nvSpPr>
        <p:spPr>
          <a:xfrm>
            <a:off x="70866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172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2806-94B2-4EE3-A570-5C9ED0225748}" type="slidenum">
              <a:rPr b="0" lang="el-GR" sz="1400" spc="-1" strike="noStrike">
                <a:solidFill>
                  <a:srgbClr val="00172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172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172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520" y="1294920"/>
            <a:ext cx="62485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odeling ETL Activities as Graphs</a:t>
            </a:r>
            <a:r>
              <a:rPr b="0" lang="en-GB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440" y="4038480"/>
            <a:ext cx="8077320" cy="1981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anos Vassiliadis, Alkis Simitsis, Spiros Skiadopou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National Technical University of Ath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{pvassil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asimi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spiros}@dbn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ec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ntua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g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33640" y="5181480"/>
            <a:ext cx="77148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ctivit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23960" y="1676520"/>
            <a:ext cx="769608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Input Schem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Output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Rejections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Parameter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Output/Rejection Operational Seman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4724280" y="685800"/>
            <a:ext cx="4038480" cy="2527200"/>
            <a:chOff x="4724280" y="685800"/>
            <a:chExt cx="4038480" cy="2527200"/>
          </a:xfrm>
        </p:grpSpPr>
        <p:sp>
          <p:nvSpPr>
            <p:cNvPr id="345" name=""/>
            <p:cNvSpPr/>
            <p:nvPr/>
          </p:nvSpPr>
          <p:spPr>
            <a:xfrm>
              <a:off x="6188040" y="1397160"/>
              <a:ext cx="1292400" cy="1143000"/>
            </a:xfrm>
            <a:custGeom>
              <a:avLst/>
              <a:gdLst/>
              <a:ahLst/>
              <a:rect l="l" t="t" r="r" b="b"/>
              <a:pathLst>
                <a:path w="912" h="861">
                  <a:moveTo>
                    <a:pt x="912" y="430"/>
                  </a:moveTo>
                  <a:lnTo>
                    <a:pt x="1" y="0"/>
                  </a:lnTo>
                  <a:lnTo>
                    <a:pt x="0" y="861"/>
                  </a:lnTo>
                  <a:lnTo>
                    <a:pt x="912" y="430"/>
                  </a:lnTo>
                  <a:close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979880" y="1643040"/>
              <a:ext cx="1197000" cy="276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4979520" y="2155680"/>
              <a:ext cx="1197000" cy="513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6859080" y="2260440"/>
              <a:ext cx="1800" cy="304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62440" y="960480"/>
              <a:ext cx="460440" cy="63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56280" y="1538280"/>
              <a:ext cx="120600" cy="136440"/>
            </a:xfrm>
            <a:custGeom>
              <a:avLst/>
              <a:gdLst/>
              <a:ahLst/>
              <a:rect l="l" t="t" r="r" b="b"/>
              <a:pathLst>
                <a:path w="76" h="86">
                  <a:moveTo>
                    <a:pt x="76" y="86"/>
                  </a:moveTo>
                  <a:lnTo>
                    <a:pt x="0" y="46"/>
                  </a:lnTo>
                  <a:lnTo>
                    <a:pt x="4" y="44"/>
                  </a:lnTo>
                  <a:lnTo>
                    <a:pt x="9" y="43"/>
                  </a:lnTo>
                  <a:lnTo>
                    <a:pt x="13" y="42"/>
                  </a:lnTo>
                  <a:lnTo>
                    <a:pt x="17" y="40"/>
                  </a:lnTo>
                  <a:lnTo>
                    <a:pt x="21" y="39"/>
                  </a:lnTo>
                  <a:lnTo>
                    <a:pt x="26" y="36"/>
                  </a:lnTo>
                  <a:lnTo>
                    <a:pt x="30" y="34"/>
                  </a:lnTo>
                  <a:lnTo>
                    <a:pt x="34" y="32"/>
                  </a:lnTo>
                  <a:lnTo>
                    <a:pt x="39" y="29"/>
                  </a:lnTo>
                  <a:lnTo>
                    <a:pt x="42" y="26"/>
                  </a:lnTo>
                  <a:lnTo>
                    <a:pt x="46" y="23"/>
                  </a:lnTo>
                  <a:lnTo>
                    <a:pt x="49" y="19"/>
                  </a:lnTo>
                  <a:lnTo>
                    <a:pt x="52" y="16"/>
                  </a:lnTo>
                  <a:lnTo>
                    <a:pt x="54" y="11"/>
                  </a:lnTo>
                  <a:lnTo>
                    <a:pt x="57" y="9"/>
                  </a:lnTo>
                  <a:lnTo>
                    <a:pt x="60" y="4"/>
                  </a:lnTo>
                  <a:lnTo>
                    <a:pt x="63" y="0"/>
                  </a:lnTo>
                  <a:lnTo>
                    <a:pt x="7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7696080" y="1486080"/>
              <a:ext cx="1066680" cy="761760"/>
              <a:chOff x="7696080" y="1486080"/>
              <a:chExt cx="1066680" cy="761760"/>
            </a:xfrm>
          </p:grpSpPr>
          <p:sp>
            <p:nvSpPr>
              <p:cNvPr id="352" name=""/>
              <p:cNvSpPr/>
              <p:nvPr/>
            </p:nvSpPr>
            <p:spPr>
              <a:xfrm>
                <a:off x="7696080" y="1486080"/>
                <a:ext cx="1066680" cy="761760"/>
              </a:xfrm>
              <a:prstGeom prst="can">
                <a:avLst>
                  <a:gd name="adj" fmla="val 25000"/>
                </a:avLst>
              </a:prstGeom>
              <a:solidFill>
                <a:srgbClr val="ffcc99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952760" y="1760400"/>
                <a:ext cx="555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utput</a:t>
                </a:r>
                <a:endParaRPr b="0" lang="en-US" sz="1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6245640" y="1676520"/>
              <a:ext cx="60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ctivity</a:t>
              </a:r>
              <a:endParaRPr b="0" lang="en-US" sz="1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518080" y="685800"/>
              <a:ext cx="118764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ameters</a:t>
              </a:r>
              <a:endParaRPr b="0" lang="en-US" sz="1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467480" y="1968480"/>
              <a:ext cx="228600" cy="0"/>
            </a:xfrm>
            <a:prstGeom prst="line">
              <a:avLst/>
            </a:prstGeom>
            <a:ln w="9360">
              <a:solidFill>
                <a:srgbClr val="00172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4724280" y="1346040"/>
              <a:ext cx="1066680" cy="762120"/>
              <a:chOff x="4724280" y="1346040"/>
              <a:chExt cx="1066680" cy="762120"/>
            </a:xfrm>
          </p:grpSpPr>
          <p:sp>
            <p:nvSpPr>
              <p:cNvPr id="358" name=""/>
              <p:cNvSpPr/>
              <p:nvPr/>
            </p:nvSpPr>
            <p:spPr>
              <a:xfrm>
                <a:off x="4724280" y="1346040"/>
                <a:ext cx="1066680" cy="762120"/>
              </a:xfrm>
              <a:prstGeom prst="can">
                <a:avLst>
                  <a:gd name="adj" fmla="val 25000"/>
                </a:avLst>
              </a:prstGeom>
              <a:solidFill>
                <a:srgbClr val="ffcc99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980960" y="1620720"/>
                <a:ext cx="5616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n</a:t>
                </a:r>
                <a:r>
                  <a:rPr b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put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 1</a:t>
                </a:r>
                <a:endParaRPr b="0" lang="en-US" sz="1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4724280" y="2184480"/>
              <a:ext cx="1066680" cy="761760"/>
              <a:chOff x="4724280" y="2184480"/>
              <a:chExt cx="1066680" cy="761760"/>
            </a:xfrm>
          </p:grpSpPr>
          <p:sp>
            <p:nvSpPr>
              <p:cNvPr id="361" name=""/>
              <p:cNvSpPr/>
              <p:nvPr/>
            </p:nvSpPr>
            <p:spPr>
              <a:xfrm>
                <a:off x="4724280" y="2184480"/>
                <a:ext cx="1066680" cy="761760"/>
              </a:xfrm>
              <a:prstGeom prst="can">
                <a:avLst>
                  <a:gd name="adj" fmla="val 25000"/>
                </a:avLst>
              </a:prstGeom>
              <a:solidFill>
                <a:srgbClr val="ffcc99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980960" y="2458800"/>
                <a:ext cx="5616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n</a:t>
                </a:r>
                <a:r>
                  <a:rPr b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put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 2</a:t>
                </a:r>
                <a:endParaRPr b="0" lang="en-US" sz="1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6400800" y="2565360"/>
              <a:ext cx="1066680" cy="647640"/>
            </a:xfrm>
            <a:prstGeom prst="flowChartMultidocument">
              <a:avLst/>
            </a:prstGeom>
            <a:solidFill>
              <a:srgbClr val="91c6d1"/>
            </a:solidFill>
            <a:ln w="93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jected </a:t>
              </a:r>
              <a:endParaRPr b="0" lang="en-US" sz="1400" spc="-1" strike="noStrike">
                <a:solidFill>
                  <a:srgbClr val="00172e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ows</a:t>
              </a:r>
              <a:endParaRPr b="0" lang="en-US" sz="1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pic>
        <p:nvPicPr>
          <p:cNvPr id="364" name="" descr=""/>
          <p:cNvPicPr/>
          <p:nvPr/>
        </p:nvPicPr>
        <p:blipFill>
          <a:blip r:embed="rId7"/>
          <a:srcRect l="23339" t="23622" r="23339" b="23055"/>
          <a:stretch/>
        </p:blipFill>
        <p:spPr>
          <a:xfrm>
            <a:off x="6248520" y="19051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Vassiliadis,A.Simitsis,S.Skiadopoulos. Modeling ETL Activities as Graphs. DMDW'02 Toronto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9340B-CE9A-40FB-8113-F125FB814F6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lationship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723960" y="1676520"/>
            <a:ext cx="769608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nce-Of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-Of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tor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r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ived Provid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5715000" y="2438280"/>
            <a:ext cx="1750680" cy="303840"/>
            <a:chOff x="5715000" y="2438280"/>
            <a:chExt cx="1750680" cy="303840"/>
          </a:xfrm>
        </p:grpSpPr>
        <p:sp>
          <p:nvSpPr>
            <p:cNvPr id="368" name=""/>
            <p:cNvSpPr/>
            <p:nvPr/>
          </p:nvSpPr>
          <p:spPr>
            <a:xfrm>
              <a:off x="5715000" y="2438280"/>
              <a:ext cx="569160" cy="30384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cxnSp>
          <p:nvCxnSpPr>
            <p:cNvPr id="369" name=""/>
            <p:cNvCxnSpPr>
              <a:stCxn id="368" idx="3"/>
            </p:cNvCxnSpPr>
            <p:nvPr/>
          </p:nvCxnSpPr>
          <p:spPr>
            <a:xfrm>
              <a:off x="6283800" y="2589840"/>
              <a:ext cx="11822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</p:grpSp>
      <p:sp>
        <p:nvSpPr>
          <p:cNvPr id="370" name=""/>
          <p:cNvSpPr/>
          <p:nvPr/>
        </p:nvSpPr>
        <p:spPr>
          <a:xfrm>
            <a:off x="5791320" y="3733920"/>
            <a:ext cx="1676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715000" y="320040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791320" y="4572000"/>
            <a:ext cx="16761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91320" y="19810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Vassiliadis,A.Simitsis,S.Skiadopoulos. Modeling ETL Activities as Graphs. DMDW'02 Toronto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5EDD6-89C6-4935-88A4-B7C0F629DA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art-Of Relationship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990720" y="1355040"/>
            <a:ext cx="7126200" cy="5122080"/>
            <a:chOff x="990720" y="1355040"/>
            <a:chExt cx="7126200" cy="5122080"/>
          </a:xfrm>
        </p:grpSpPr>
        <p:sp>
          <p:nvSpPr>
            <p:cNvPr id="376" name=""/>
            <p:cNvSpPr/>
            <p:nvPr/>
          </p:nvSpPr>
          <p:spPr>
            <a:xfrm>
              <a:off x="6818400" y="2008080"/>
              <a:ext cx="0" cy="411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184880" y="1644480"/>
              <a:ext cx="33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222800" y="1644480"/>
              <a:ext cx="33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62640" y="1644480"/>
              <a:ext cx="0" cy="245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954160" y="1644480"/>
              <a:ext cx="0" cy="201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954160" y="1644480"/>
              <a:ext cx="50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92560" y="1604880"/>
              <a:ext cx="253800" cy="8892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22800" y="1603440"/>
              <a:ext cx="255600" cy="9036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23280" y="1644480"/>
              <a:ext cx="0" cy="245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916600" y="1644480"/>
              <a:ext cx="0" cy="201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916600" y="1644480"/>
              <a:ext cx="50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254640" y="1604880"/>
              <a:ext cx="254160" cy="8892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184880" y="1603440"/>
              <a:ext cx="255600" cy="9036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2637000" y="1905120"/>
              <a:ext cx="715680" cy="436320"/>
              <a:chOff x="2637000" y="1905120"/>
              <a:chExt cx="715680" cy="436320"/>
            </a:xfrm>
          </p:grpSpPr>
          <p:sp>
            <p:nvSpPr>
              <p:cNvPr id="390" name=""/>
              <p:cNvSpPr/>
              <p:nvPr/>
            </p:nvSpPr>
            <p:spPr>
              <a:xfrm>
                <a:off x="2653560" y="1905120"/>
                <a:ext cx="592920" cy="436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637000" y="2059560"/>
                <a:ext cx="715680" cy="19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PKE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2443320" y="3219480"/>
              <a:ext cx="1100160" cy="438120"/>
              <a:chOff x="2443320" y="3219480"/>
              <a:chExt cx="1100160" cy="438120"/>
            </a:xfrm>
          </p:grpSpPr>
          <p:sp>
            <p:nvSpPr>
              <p:cNvPr id="393" name=""/>
              <p:cNvSpPr/>
              <p:nvPr/>
            </p:nvSpPr>
            <p:spPr>
              <a:xfrm>
                <a:off x="2667240" y="3219480"/>
                <a:ext cx="592560" cy="438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443320" y="3336120"/>
                <a:ext cx="1100160" cy="2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DATE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2637000" y="2341440"/>
              <a:ext cx="715680" cy="439920"/>
              <a:chOff x="2637000" y="2341440"/>
              <a:chExt cx="715680" cy="439920"/>
            </a:xfrm>
          </p:grpSpPr>
          <p:sp>
            <p:nvSpPr>
              <p:cNvPr id="396" name=""/>
              <p:cNvSpPr/>
              <p:nvPr/>
            </p:nvSpPr>
            <p:spPr>
              <a:xfrm>
                <a:off x="2653560" y="2341440"/>
                <a:ext cx="592920" cy="439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637000" y="2497320"/>
                <a:ext cx="715680" cy="19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QT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2637000" y="2781360"/>
              <a:ext cx="760320" cy="438120"/>
              <a:chOff x="2637000" y="2781360"/>
              <a:chExt cx="760320" cy="438120"/>
            </a:xfrm>
          </p:grpSpPr>
          <p:sp>
            <p:nvSpPr>
              <p:cNvPr id="399" name=""/>
              <p:cNvSpPr/>
              <p:nvPr/>
            </p:nvSpPr>
            <p:spPr>
              <a:xfrm>
                <a:off x="2653560" y="2781360"/>
                <a:ext cx="591480" cy="438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637000" y="2936520"/>
                <a:ext cx="760320" cy="1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COST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4268880" y="3659040"/>
              <a:ext cx="716040" cy="436680"/>
              <a:chOff x="4268880" y="3659040"/>
              <a:chExt cx="716040" cy="436680"/>
            </a:xfrm>
          </p:grpSpPr>
          <p:sp>
            <p:nvSpPr>
              <p:cNvPr id="402" name=""/>
              <p:cNvSpPr/>
              <p:nvPr/>
            </p:nvSpPr>
            <p:spPr>
              <a:xfrm>
                <a:off x="4285440" y="3659040"/>
                <a:ext cx="593280" cy="436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268880" y="3813840"/>
                <a:ext cx="716040" cy="19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SUPPKE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4249800" y="1906560"/>
              <a:ext cx="714240" cy="436680"/>
              <a:chOff x="4249800" y="1906560"/>
              <a:chExt cx="714240" cy="436680"/>
            </a:xfrm>
          </p:grpSpPr>
          <p:sp>
            <p:nvSpPr>
              <p:cNvPr id="405" name=""/>
              <p:cNvSpPr/>
              <p:nvPr/>
            </p:nvSpPr>
            <p:spPr>
              <a:xfrm>
                <a:off x="4266360" y="1906560"/>
                <a:ext cx="591840" cy="436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249800" y="2061000"/>
                <a:ext cx="71424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PKE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4054320" y="3220920"/>
              <a:ext cx="1100160" cy="438120"/>
              <a:chOff x="4054320" y="3220920"/>
              <a:chExt cx="1100160" cy="438120"/>
            </a:xfrm>
          </p:grpSpPr>
          <p:sp>
            <p:nvSpPr>
              <p:cNvPr id="408" name=""/>
              <p:cNvSpPr/>
              <p:nvPr/>
            </p:nvSpPr>
            <p:spPr>
              <a:xfrm>
                <a:off x="4278240" y="3220920"/>
                <a:ext cx="592560" cy="438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054320" y="3337560"/>
                <a:ext cx="1100160" cy="2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DATE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4249800" y="2343240"/>
              <a:ext cx="714240" cy="439560"/>
              <a:chOff x="4249800" y="2343240"/>
              <a:chExt cx="714240" cy="439560"/>
            </a:xfrm>
          </p:grpSpPr>
          <p:sp>
            <p:nvSpPr>
              <p:cNvPr id="411" name=""/>
              <p:cNvSpPr/>
              <p:nvPr/>
            </p:nvSpPr>
            <p:spPr>
              <a:xfrm>
                <a:off x="4266360" y="2343240"/>
                <a:ext cx="591840" cy="439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249800" y="2498760"/>
                <a:ext cx="714240" cy="19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QT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4249800" y="2782800"/>
              <a:ext cx="760320" cy="438120"/>
              <a:chOff x="4249800" y="2782800"/>
              <a:chExt cx="760320" cy="438120"/>
            </a:xfrm>
          </p:grpSpPr>
          <p:sp>
            <p:nvSpPr>
              <p:cNvPr id="414" name=""/>
              <p:cNvSpPr/>
              <p:nvPr/>
            </p:nvSpPr>
            <p:spPr>
              <a:xfrm>
                <a:off x="4266360" y="2782800"/>
                <a:ext cx="591480" cy="438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249800" y="2937960"/>
                <a:ext cx="760320" cy="1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COST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5597640" y="1905120"/>
              <a:ext cx="715680" cy="436320"/>
              <a:chOff x="5597640" y="1905120"/>
              <a:chExt cx="715680" cy="436320"/>
            </a:xfrm>
          </p:grpSpPr>
          <p:sp>
            <p:nvSpPr>
              <p:cNvPr id="417" name=""/>
              <p:cNvSpPr/>
              <p:nvPr/>
            </p:nvSpPr>
            <p:spPr>
              <a:xfrm>
                <a:off x="5614200" y="1905120"/>
                <a:ext cx="592920" cy="436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597640" y="2059560"/>
                <a:ext cx="715680" cy="19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PKE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5405400" y="3219480"/>
              <a:ext cx="1100160" cy="438120"/>
              <a:chOff x="5405400" y="3219480"/>
              <a:chExt cx="1100160" cy="438120"/>
            </a:xfrm>
          </p:grpSpPr>
          <p:sp>
            <p:nvSpPr>
              <p:cNvPr id="420" name=""/>
              <p:cNvSpPr/>
              <p:nvPr/>
            </p:nvSpPr>
            <p:spPr>
              <a:xfrm>
                <a:off x="5629320" y="3219480"/>
                <a:ext cx="592560" cy="438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405400" y="3336120"/>
                <a:ext cx="1100160" cy="2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DATE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5597640" y="2341440"/>
              <a:ext cx="715680" cy="439920"/>
              <a:chOff x="5597640" y="2341440"/>
              <a:chExt cx="715680" cy="439920"/>
            </a:xfrm>
          </p:grpSpPr>
          <p:sp>
            <p:nvSpPr>
              <p:cNvPr id="423" name=""/>
              <p:cNvSpPr/>
              <p:nvPr/>
            </p:nvSpPr>
            <p:spPr>
              <a:xfrm>
                <a:off x="5614200" y="2341440"/>
                <a:ext cx="592920" cy="439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597640" y="2497320"/>
                <a:ext cx="715680" cy="19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QT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5597640" y="2781360"/>
              <a:ext cx="761760" cy="438120"/>
              <a:chOff x="5597640" y="2781360"/>
              <a:chExt cx="761760" cy="438120"/>
            </a:xfrm>
          </p:grpSpPr>
          <p:sp>
            <p:nvSpPr>
              <p:cNvPr id="426" name=""/>
              <p:cNvSpPr/>
              <p:nvPr/>
            </p:nvSpPr>
            <p:spPr>
              <a:xfrm>
                <a:off x="5614200" y="2781360"/>
                <a:ext cx="592560" cy="438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597640" y="2936520"/>
                <a:ext cx="761760" cy="1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COST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7230960" y="3659040"/>
              <a:ext cx="716040" cy="436680"/>
              <a:chOff x="7230960" y="3659040"/>
              <a:chExt cx="716040" cy="436680"/>
            </a:xfrm>
          </p:grpSpPr>
          <p:sp>
            <p:nvSpPr>
              <p:cNvPr id="429" name=""/>
              <p:cNvSpPr/>
              <p:nvPr/>
            </p:nvSpPr>
            <p:spPr>
              <a:xfrm>
                <a:off x="7247520" y="3659040"/>
                <a:ext cx="593280" cy="436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230960" y="3813840"/>
                <a:ext cx="716040" cy="19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SUPPKE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7210440" y="1906560"/>
              <a:ext cx="714240" cy="436680"/>
              <a:chOff x="7210440" y="1906560"/>
              <a:chExt cx="714240" cy="436680"/>
            </a:xfrm>
          </p:grpSpPr>
          <p:sp>
            <p:nvSpPr>
              <p:cNvPr id="432" name=""/>
              <p:cNvSpPr/>
              <p:nvPr/>
            </p:nvSpPr>
            <p:spPr>
              <a:xfrm>
                <a:off x="7227000" y="1906560"/>
                <a:ext cx="591840" cy="436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210440" y="2061000"/>
                <a:ext cx="71424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PKE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7016760" y="3220920"/>
              <a:ext cx="1100160" cy="438120"/>
              <a:chOff x="7016760" y="3220920"/>
              <a:chExt cx="1100160" cy="438120"/>
            </a:xfrm>
          </p:grpSpPr>
          <p:sp>
            <p:nvSpPr>
              <p:cNvPr id="435" name=""/>
              <p:cNvSpPr/>
              <p:nvPr/>
            </p:nvSpPr>
            <p:spPr>
              <a:xfrm>
                <a:off x="7240680" y="3220920"/>
                <a:ext cx="592560" cy="438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016760" y="3337560"/>
                <a:ext cx="1100160" cy="2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DATE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7210440" y="2343240"/>
              <a:ext cx="714240" cy="439560"/>
              <a:chOff x="7210440" y="2343240"/>
              <a:chExt cx="714240" cy="439560"/>
            </a:xfrm>
          </p:grpSpPr>
          <p:sp>
            <p:nvSpPr>
              <p:cNvPr id="438" name=""/>
              <p:cNvSpPr/>
              <p:nvPr/>
            </p:nvSpPr>
            <p:spPr>
              <a:xfrm>
                <a:off x="7227000" y="2343240"/>
                <a:ext cx="591840" cy="439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210440" y="2498760"/>
                <a:ext cx="714240" cy="19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QT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7210440" y="2782800"/>
              <a:ext cx="763560" cy="438120"/>
              <a:chOff x="7210440" y="2782800"/>
              <a:chExt cx="763560" cy="438120"/>
            </a:xfrm>
          </p:grpSpPr>
          <p:sp>
            <p:nvSpPr>
              <p:cNvPr id="441" name=""/>
              <p:cNvSpPr/>
              <p:nvPr/>
            </p:nvSpPr>
            <p:spPr>
              <a:xfrm>
                <a:off x="7227360" y="2782800"/>
                <a:ext cx="594000" cy="438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210440" y="2937960"/>
                <a:ext cx="763560" cy="1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COST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5624640" y="3659040"/>
              <a:ext cx="715680" cy="436680"/>
              <a:chOff x="5624640" y="3659040"/>
              <a:chExt cx="715680" cy="436680"/>
            </a:xfrm>
          </p:grpSpPr>
          <p:sp>
            <p:nvSpPr>
              <p:cNvPr id="444" name=""/>
              <p:cNvSpPr/>
              <p:nvPr/>
            </p:nvSpPr>
            <p:spPr>
              <a:xfrm>
                <a:off x="5641200" y="3659040"/>
                <a:ext cx="592920" cy="436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624640" y="3813840"/>
                <a:ext cx="715680" cy="19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SUPPKE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7230960" y="4095720"/>
              <a:ext cx="716040" cy="439920"/>
              <a:chOff x="7230960" y="4095720"/>
              <a:chExt cx="716040" cy="439920"/>
            </a:xfrm>
          </p:grpSpPr>
          <p:sp>
            <p:nvSpPr>
              <p:cNvPr id="447" name=""/>
              <p:cNvSpPr/>
              <p:nvPr/>
            </p:nvSpPr>
            <p:spPr>
              <a:xfrm>
                <a:off x="7247520" y="4095720"/>
                <a:ext cx="593280" cy="439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230960" y="4251600"/>
                <a:ext cx="716040" cy="19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SKE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3546000" y="1366200"/>
              <a:ext cx="696600" cy="578880"/>
              <a:chOff x="3546000" y="1366200"/>
              <a:chExt cx="696600" cy="578880"/>
            </a:xfrm>
          </p:grpSpPr>
          <p:sp>
            <p:nvSpPr>
              <p:cNvPr id="450" name=""/>
              <p:cNvSpPr/>
              <p:nvPr/>
            </p:nvSpPr>
            <p:spPr>
              <a:xfrm rot="5394000">
                <a:off x="3605040" y="1307880"/>
                <a:ext cx="577800" cy="695520"/>
              </a:xfrm>
              <a:prstGeom prst="triangle">
                <a:avLst>
                  <a:gd name="adj" fmla="val 48384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546360" y="1541520"/>
                <a:ext cx="65268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AddSPK1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6508440" y="1355040"/>
              <a:ext cx="698040" cy="582120"/>
              <a:chOff x="6508440" y="1355040"/>
              <a:chExt cx="698040" cy="582120"/>
            </a:xfrm>
          </p:grpSpPr>
          <p:sp>
            <p:nvSpPr>
              <p:cNvPr id="453" name=""/>
              <p:cNvSpPr/>
              <p:nvPr/>
            </p:nvSpPr>
            <p:spPr>
              <a:xfrm rot="5394000">
                <a:off x="6566760" y="1297440"/>
                <a:ext cx="581040" cy="696960"/>
              </a:xfrm>
              <a:prstGeom prst="triangle">
                <a:avLst>
                  <a:gd name="adj" fmla="val 48384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508800" y="1531440"/>
                <a:ext cx="65376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SK1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3139920" y="1494000"/>
              <a:ext cx="33984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IN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61040" y="1482840"/>
              <a:ext cx="33804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IN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299120" y="1494000"/>
              <a:ext cx="33948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OUT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176960" y="1482840"/>
              <a:ext cx="33840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OUT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168720" y="3848040"/>
              <a:ext cx="761760" cy="4381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Add_ const1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527200" y="4656240"/>
              <a:ext cx="760680" cy="261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in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627360" y="4656240"/>
              <a:ext cx="760320" cy="261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out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3203640" y="4479840"/>
              <a:ext cx="33984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 flipV="1">
              <a:off x="3543480" y="4479840"/>
              <a:ext cx="59040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 rot="5400000">
              <a:off x="3473280" y="4325760"/>
              <a:ext cx="193680" cy="11412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795840" y="5511960"/>
              <a:ext cx="761760" cy="61416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grpSp>
          <p:nvGrpSpPr>
            <p:cNvPr id="466" name=""/>
            <p:cNvGrpSpPr/>
            <p:nvPr/>
          </p:nvGrpSpPr>
          <p:grpSpPr>
            <a:xfrm>
              <a:off x="4896000" y="5164200"/>
              <a:ext cx="715680" cy="436680"/>
              <a:chOff x="4896000" y="5164200"/>
              <a:chExt cx="715680" cy="436680"/>
            </a:xfrm>
          </p:grpSpPr>
          <p:sp>
            <p:nvSpPr>
              <p:cNvPr id="467" name=""/>
              <p:cNvSpPr/>
              <p:nvPr/>
            </p:nvSpPr>
            <p:spPr>
              <a:xfrm>
                <a:off x="4912560" y="5164200"/>
                <a:ext cx="592920" cy="436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896000" y="5318640"/>
                <a:ext cx="71568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PKE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4896000" y="6040440"/>
              <a:ext cx="715680" cy="436680"/>
              <a:chOff x="4896000" y="6040440"/>
              <a:chExt cx="715680" cy="436680"/>
            </a:xfrm>
          </p:grpSpPr>
          <p:sp>
            <p:nvSpPr>
              <p:cNvPr id="470" name=""/>
              <p:cNvSpPr/>
              <p:nvPr/>
            </p:nvSpPr>
            <p:spPr>
              <a:xfrm>
                <a:off x="4912560" y="6040440"/>
                <a:ext cx="592920" cy="436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896000" y="6194880"/>
                <a:ext cx="71568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SK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4896000" y="5600880"/>
              <a:ext cx="715680" cy="439560"/>
              <a:chOff x="4896000" y="5600880"/>
              <a:chExt cx="715680" cy="439560"/>
            </a:xfrm>
          </p:grpSpPr>
          <p:sp>
            <p:nvSpPr>
              <p:cNvPr id="473" name=""/>
              <p:cNvSpPr/>
              <p:nvPr/>
            </p:nvSpPr>
            <p:spPr>
              <a:xfrm>
                <a:off x="4912560" y="5600880"/>
                <a:ext cx="592920" cy="439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896000" y="5756400"/>
                <a:ext cx="715680" cy="19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SOURCE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sp>
          <p:nvSpPr>
            <p:cNvPr id="475" name=""/>
            <p:cNvSpPr/>
            <p:nvPr/>
          </p:nvSpPr>
          <p:spPr>
            <a:xfrm>
              <a:off x="3828960" y="5773680"/>
              <a:ext cx="72396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LOOKUP_PS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119640" y="5248440"/>
              <a:ext cx="760680" cy="26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LU_PKEY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127920" y="6040440"/>
              <a:ext cx="761760" cy="26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LU_SKEY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119640" y="4549680"/>
              <a:ext cx="760680" cy="262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PKEY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119640" y="4897440"/>
              <a:ext cx="760680" cy="266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SOURCE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rot="16200000">
              <a:off x="3709800" y="1871640"/>
              <a:ext cx="193680" cy="11412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16200000">
              <a:off x="6719040" y="1870920"/>
              <a:ext cx="193680" cy="11592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809880" y="2036880"/>
              <a:ext cx="0" cy="18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881520" y="1832040"/>
              <a:ext cx="33804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PAR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964200" y="1832040"/>
              <a:ext cx="33984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PAR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127920" y="5600880"/>
              <a:ext cx="917280" cy="261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LU_SOURCE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557600" y="5803920"/>
              <a:ext cx="254160" cy="8892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4811760" y="5511960"/>
              <a:ext cx="16992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811760" y="5862600"/>
              <a:ext cx="122040" cy="34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811760" y="586260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990720" y="4022640"/>
              <a:ext cx="761760" cy="61452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076400" y="4286160"/>
              <a:ext cx="63324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DS.PS1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grpSp>
          <p:nvGrpSpPr>
            <p:cNvPr id="492" name=""/>
            <p:cNvGrpSpPr/>
            <p:nvPr/>
          </p:nvGrpSpPr>
          <p:grpSpPr>
            <a:xfrm>
              <a:off x="1343160" y="1905120"/>
              <a:ext cx="714240" cy="436320"/>
              <a:chOff x="1343160" y="1905120"/>
              <a:chExt cx="714240" cy="436320"/>
            </a:xfrm>
          </p:grpSpPr>
          <p:sp>
            <p:nvSpPr>
              <p:cNvPr id="493" name=""/>
              <p:cNvSpPr/>
              <p:nvPr/>
            </p:nvSpPr>
            <p:spPr>
              <a:xfrm>
                <a:off x="1359720" y="1905120"/>
                <a:ext cx="591840" cy="436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343160" y="2059560"/>
                <a:ext cx="714240" cy="19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PKE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sp>
          <p:nvSpPr>
            <p:cNvPr id="495" name=""/>
            <p:cNvSpPr/>
            <p:nvPr/>
          </p:nvSpPr>
          <p:spPr>
            <a:xfrm flipV="1">
              <a:off x="1087560" y="2252160"/>
              <a:ext cx="423720" cy="35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092240" y="2606760"/>
              <a:ext cx="338040" cy="96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087560" y="2604960"/>
              <a:ext cx="2584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087560" y="2604960"/>
              <a:ext cx="342720" cy="35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grpSp>
          <p:nvGrpSpPr>
            <p:cNvPr id="499" name=""/>
            <p:cNvGrpSpPr/>
            <p:nvPr/>
          </p:nvGrpSpPr>
          <p:grpSpPr>
            <a:xfrm>
              <a:off x="1147680" y="2868480"/>
              <a:ext cx="1100160" cy="438120"/>
              <a:chOff x="1147680" y="2868480"/>
              <a:chExt cx="1100160" cy="438120"/>
            </a:xfrm>
          </p:grpSpPr>
          <p:sp>
            <p:nvSpPr>
              <p:cNvPr id="500" name=""/>
              <p:cNvSpPr/>
              <p:nvPr/>
            </p:nvSpPr>
            <p:spPr>
              <a:xfrm>
                <a:off x="1371600" y="2868480"/>
                <a:ext cx="592200" cy="438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147680" y="2985120"/>
                <a:ext cx="1100160" cy="2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COST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1346040" y="3322800"/>
              <a:ext cx="714600" cy="436320"/>
              <a:chOff x="1346040" y="3322800"/>
              <a:chExt cx="714600" cy="436320"/>
            </a:xfrm>
          </p:grpSpPr>
          <p:sp>
            <p:nvSpPr>
              <p:cNvPr id="503" name=""/>
              <p:cNvSpPr/>
              <p:nvPr/>
            </p:nvSpPr>
            <p:spPr>
              <a:xfrm>
                <a:off x="1362600" y="3322800"/>
                <a:ext cx="591840" cy="436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346040" y="3477240"/>
                <a:ext cx="714600" cy="19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DATE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1343160" y="2432160"/>
              <a:ext cx="760320" cy="436320"/>
              <a:chOff x="1343160" y="2432160"/>
              <a:chExt cx="760320" cy="436320"/>
            </a:xfrm>
          </p:grpSpPr>
          <p:sp>
            <p:nvSpPr>
              <p:cNvPr id="506" name=""/>
              <p:cNvSpPr/>
              <p:nvPr/>
            </p:nvSpPr>
            <p:spPr>
              <a:xfrm>
                <a:off x="1359720" y="2432160"/>
                <a:ext cx="591480" cy="436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343160" y="2586600"/>
                <a:ext cx="760320" cy="19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QT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sp>
          <p:nvSpPr>
            <p:cNvPr id="508" name=""/>
            <p:cNvSpPr/>
            <p:nvPr/>
          </p:nvSpPr>
          <p:spPr>
            <a:xfrm>
              <a:off x="1076400" y="2620800"/>
              <a:ext cx="0" cy="131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16200000">
              <a:off x="972000" y="3958200"/>
              <a:ext cx="193680" cy="11268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Vassiliadis,A.Simitsis,S.Skiadopoulos. Modeling ETL Activities as Graphs. DMDW'02 Toronto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C54FB-C3F8-4022-BB99-E5B9C79E53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gulator Relationship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990720" y="1355040"/>
            <a:ext cx="7125840" cy="5121720"/>
            <a:chOff x="990720" y="1355040"/>
            <a:chExt cx="7125840" cy="5121720"/>
          </a:xfrm>
        </p:grpSpPr>
        <p:sp>
          <p:nvSpPr>
            <p:cNvPr id="512" name=""/>
            <p:cNvSpPr/>
            <p:nvPr/>
          </p:nvSpPr>
          <p:spPr>
            <a:xfrm>
              <a:off x="6818040" y="2007360"/>
              <a:ext cx="0" cy="411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184880" y="1644120"/>
              <a:ext cx="33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222800" y="1644120"/>
              <a:ext cx="34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563000" y="1644120"/>
              <a:ext cx="0" cy="245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954160" y="1644120"/>
              <a:ext cx="0" cy="201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54160" y="1644120"/>
              <a:ext cx="50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292200" y="1605240"/>
              <a:ext cx="253440" cy="8748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222800" y="1603800"/>
              <a:ext cx="254880" cy="8892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523280" y="1644120"/>
              <a:ext cx="0" cy="245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916240" y="1644120"/>
              <a:ext cx="0" cy="201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916240" y="1644120"/>
              <a:ext cx="50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255000" y="1605240"/>
              <a:ext cx="253080" cy="8748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184880" y="1603800"/>
              <a:ext cx="254880" cy="8892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2637360" y="1904760"/>
              <a:ext cx="714960" cy="436680"/>
              <a:chOff x="2637360" y="1904760"/>
              <a:chExt cx="714960" cy="436680"/>
            </a:xfrm>
          </p:grpSpPr>
          <p:sp>
            <p:nvSpPr>
              <p:cNvPr id="526" name=""/>
              <p:cNvSpPr/>
              <p:nvPr/>
            </p:nvSpPr>
            <p:spPr>
              <a:xfrm>
                <a:off x="2653920" y="1904760"/>
                <a:ext cx="592200" cy="436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637360" y="2059200"/>
                <a:ext cx="71496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PKE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2442600" y="3219480"/>
              <a:ext cx="1099800" cy="438480"/>
              <a:chOff x="2442600" y="3219480"/>
              <a:chExt cx="1099800" cy="438480"/>
            </a:xfrm>
          </p:grpSpPr>
          <p:sp>
            <p:nvSpPr>
              <p:cNvPr id="529" name=""/>
              <p:cNvSpPr/>
              <p:nvPr/>
            </p:nvSpPr>
            <p:spPr>
              <a:xfrm>
                <a:off x="2666520" y="3219480"/>
                <a:ext cx="592200" cy="438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442600" y="3336120"/>
                <a:ext cx="1099800" cy="2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DATE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2637360" y="2341800"/>
              <a:ext cx="714960" cy="438480"/>
              <a:chOff x="2637360" y="2341800"/>
              <a:chExt cx="714960" cy="438480"/>
            </a:xfrm>
          </p:grpSpPr>
          <p:sp>
            <p:nvSpPr>
              <p:cNvPr id="532" name=""/>
              <p:cNvSpPr/>
              <p:nvPr/>
            </p:nvSpPr>
            <p:spPr>
              <a:xfrm>
                <a:off x="2653920" y="2341800"/>
                <a:ext cx="592200" cy="438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637360" y="2496960"/>
                <a:ext cx="714960" cy="1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QT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2637360" y="2780280"/>
              <a:ext cx="759960" cy="438840"/>
              <a:chOff x="2637360" y="2780280"/>
              <a:chExt cx="759960" cy="438840"/>
            </a:xfrm>
          </p:grpSpPr>
          <p:sp>
            <p:nvSpPr>
              <p:cNvPr id="535" name=""/>
              <p:cNvSpPr/>
              <p:nvPr/>
            </p:nvSpPr>
            <p:spPr>
              <a:xfrm>
                <a:off x="2653920" y="2780280"/>
                <a:ext cx="591120" cy="438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637360" y="2935800"/>
                <a:ext cx="75996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COST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4269600" y="3659040"/>
              <a:ext cx="714600" cy="437040"/>
              <a:chOff x="4269600" y="3659040"/>
              <a:chExt cx="714600" cy="437040"/>
            </a:xfrm>
          </p:grpSpPr>
          <p:sp>
            <p:nvSpPr>
              <p:cNvPr id="538" name=""/>
              <p:cNvSpPr/>
              <p:nvPr/>
            </p:nvSpPr>
            <p:spPr>
              <a:xfrm>
                <a:off x="4286160" y="3659040"/>
                <a:ext cx="591840" cy="43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269600" y="3813840"/>
                <a:ext cx="71460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SUPPKE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4249440" y="1906200"/>
              <a:ext cx="714600" cy="437040"/>
              <a:chOff x="4249440" y="1906200"/>
              <a:chExt cx="714600" cy="437040"/>
            </a:xfrm>
          </p:grpSpPr>
          <p:sp>
            <p:nvSpPr>
              <p:cNvPr id="541" name=""/>
              <p:cNvSpPr/>
              <p:nvPr/>
            </p:nvSpPr>
            <p:spPr>
              <a:xfrm>
                <a:off x="4266000" y="1906200"/>
                <a:ext cx="591840" cy="43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249440" y="2061000"/>
                <a:ext cx="71460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PKE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4054320" y="3220560"/>
              <a:ext cx="1099800" cy="438480"/>
              <a:chOff x="4054320" y="3220560"/>
              <a:chExt cx="1099800" cy="438480"/>
            </a:xfrm>
          </p:grpSpPr>
          <p:sp>
            <p:nvSpPr>
              <p:cNvPr id="544" name=""/>
              <p:cNvSpPr/>
              <p:nvPr/>
            </p:nvSpPr>
            <p:spPr>
              <a:xfrm>
                <a:off x="4278240" y="3220560"/>
                <a:ext cx="592200" cy="438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054320" y="3337200"/>
                <a:ext cx="1099800" cy="2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DATE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4249440" y="2343600"/>
              <a:ext cx="714600" cy="439560"/>
              <a:chOff x="4249440" y="2343600"/>
              <a:chExt cx="714600" cy="439560"/>
            </a:xfrm>
          </p:grpSpPr>
          <p:sp>
            <p:nvSpPr>
              <p:cNvPr id="547" name=""/>
              <p:cNvSpPr/>
              <p:nvPr/>
            </p:nvSpPr>
            <p:spPr>
              <a:xfrm>
                <a:off x="4266000" y="2343600"/>
                <a:ext cx="591840" cy="439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249440" y="2499120"/>
                <a:ext cx="714600" cy="19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QT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4249440" y="2783160"/>
              <a:ext cx="759960" cy="437040"/>
              <a:chOff x="4249440" y="2783160"/>
              <a:chExt cx="759960" cy="437040"/>
            </a:xfrm>
          </p:grpSpPr>
          <p:sp>
            <p:nvSpPr>
              <p:cNvPr id="550" name=""/>
              <p:cNvSpPr/>
              <p:nvPr/>
            </p:nvSpPr>
            <p:spPr>
              <a:xfrm>
                <a:off x="4266000" y="2783160"/>
                <a:ext cx="591120" cy="43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249440" y="2937960"/>
                <a:ext cx="75996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COST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5598000" y="1904760"/>
              <a:ext cx="714960" cy="436680"/>
              <a:chOff x="5598000" y="1904760"/>
              <a:chExt cx="714960" cy="436680"/>
            </a:xfrm>
          </p:grpSpPr>
          <p:sp>
            <p:nvSpPr>
              <p:cNvPr id="553" name=""/>
              <p:cNvSpPr/>
              <p:nvPr/>
            </p:nvSpPr>
            <p:spPr>
              <a:xfrm>
                <a:off x="5614560" y="1904760"/>
                <a:ext cx="592200" cy="436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598000" y="2059200"/>
                <a:ext cx="71496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PKE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5404680" y="3219480"/>
              <a:ext cx="1099800" cy="438480"/>
              <a:chOff x="5404680" y="3219480"/>
              <a:chExt cx="1099800" cy="438480"/>
            </a:xfrm>
          </p:grpSpPr>
          <p:sp>
            <p:nvSpPr>
              <p:cNvPr id="556" name=""/>
              <p:cNvSpPr/>
              <p:nvPr/>
            </p:nvSpPr>
            <p:spPr>
              <a:xfrm>
                <a:off x="5628600" y="3219480"/>
                <a:ext cx="592200" cy="438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404680" y="3336120"/>
                <a:ext cx="1099800" cy="2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DATE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5598000" y="2341800"/>
              <a:ext cx="714960" cy="438480"/>
              <a:chOff x="5598000" y="2341800"/>
              <a:chExt cx="714960" cy="438480"/>
            </a:xfrm>
          </p:grpSpPr>
          <p:sp>
            <p:nvSpPr>
              <p:cNvPr id="559" name=""/>
              <p:cNvSpPr/>
              <p:nvPr/>
            </p:nvSpPr>
            <p:spPr>
              <a:xfrm>
                <a:off x="5614560" y="2341800"/>
                <a:ext cx="592200" cy="438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598000" y="2496960"/>
                <a:ext cx="714960" cy="1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QT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5598000" y="2780280"/>
              <a:ext cx="761400" cy="438840"/>
              <a:chOff x="5598000" y="2780280"/>
              <a:chExt cx="761400" cy="438840"/>
            </a:xfrm>
          </p:grpSpPr>
          <p:sp>
            <p:nvSpPr>
              <p:cNvPr id="562" name=""/>
              <p:cNvSpPr/>
              <p:nvPr/>
            </p:nvSpPr>
            <p:spPr>
              <a:xfrm>
                <a:off x="5614560" y="2780280"/>
                <a:ext cx="592200" cy="438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598000" y="2935800"/>
                <a:ext cx="76140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COST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7231680" y="3659040"/>
              <a:ext cx="714600" cy="437040"/>
              <a:chOff x="7231680" y="3659040"/>
              <a:chExt cx="714600" cy="437040"/>
            </a:xfrm>
          </p:grpSpPr>
          <p:sp>
            <p:nvSpPr>
              <p:cNvPr id="565" name=""/>
              <p:cNvSpPr/>
              <p:nvPr/>
            </p:nvSpPr>
            <p:spPr>
              <a:xfrm>
                <a:off x="7248240" y="3659040"/>
                <a:ext cx="591840" cy="43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231680" y="3813840"/>
                <a:ext cx="71460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SUPPKE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7209720" y="1906200"/>
              <a:ext cx="714960" cy="437040"/>
              <a:chOff x="7209720" y="1906200"/>
              <a:chExt cx="714960" cy="437040"/>
            </a:xfrm>
          </p:grpSpPr>
          <p:sp>
            <p:nvSpPr>
              <p:cNvPr id="568" name=""/>
              <p:cNvSpPr/>
              <p:nvPr/>
            </p:nvSpPr>
            <p:spPr>
              <a:xfrm>
                <a:off x="7226280" y="1906200"/>
                <a:ext cx="592200" cy="43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209720" y="2061000"/>
                <a:ext cx="71496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PKE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7016760" y="3220560"/>
              <a:ext cx="1099800" cy="438480"/>
              <a:chOff x="7016760" y="3220560"/>
              <a:chExt cx="1099800" cy="438480"/>
            </a:xfrm>
          </p:grpSpPr>
          <p:sp>
            <p:nvSpPr>
              <p:cNvPr id="571" name=""/>
              <p:cNvSpPr/>
              <p:nvPr/>
            </p:nvSpPr>
            <p:spPr>
              <a:xfrm>
                <a:off x="7240680" y="3220560"/>
                <a:ext cx="592200" cy="438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016760" y="3337200"/>
                <a:ext cx="1099800" cy="2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DATE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7209720" y="2343600"/>
              <a:ext cx="714960" cy="439560"/>
              <a:chOff x="7209720" y="2343600"/>
              <a:chExt cx="714960" cy="439560"/>
            </a:xfrm>
          </p:grpSpPr>
          <p:sp>
            <p:nvSpPr>
              <p:cNvPr id="574" name=""/>
              <p:cNvSpPr/>
              <p:nvPr/>
            </p:nvSpPr>
            <p:spPr>
              <a:xfrm>
                <a:off x="7226280" y="2343600"/>
                <a:ext cx="592200" cy="439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209720" y="2499120"/>
                <a:ext cx="714960" cy="19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QT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7209720" y="2783160"/>
              <a:ext cx="763560" cy="437040"/>
              <a:chOff x="7209720" y="2783160"/>
              <a:chExt cx="763560" cy="437040"/>
            </a:xfrm>
          </p:grpSpPr>
          <p:sp>
            <p:nvSpPr>
              <p:cNvPr id="577" name=""/>
              <p:cNvSpPr/>
              <p:nvPr/>
            </p:nvSpPr>
            <p:spPr>
              <a:xfrm>
                <a:off x="7226640" y="2783160"/>
                <a:ext cx="594000" cy="43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209720" y="2937960"/>
                <a:ext cx="76356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COST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5624640" y="3659040"/>
              <a:ext cx="714600" cy="437040"/>
              <a:chOff x="5624640" y="3659040"/>
              <a:chExt cx="714600" cy="437040"/>
            </a:xfrm>
          </p:grpSpPr>
          <p:sp>
            <p:nvSpPr>
              <p:cNvPr id="580" name=""/>
              <p:cNvSpPr/>
              <p:nvPr/>
            </p:nvSpPr>
            <p:spPr>
              <a:xfrm>
                <a:off x="5641200" y="3659040"/>
                <a:ext cx="591840" cy="43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624640" y="3813840"/>
                <a:ext cx="71460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SUPPKE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7231680" y="4096440"/>
              <a:ext cx="714600" cy="438480"/>
              <a:chOff x="7231680" y="4096440"/>
              <a:chExt cx="714600" cy="438480"/>
            </a:xfrm>
          </p:grpSpPr>
          <p:sp>
            <p:nvSpPr>
              <p:cNvPr id="583" name=""/>
              <p:cNvSpPr/>
              <p:nvPr/>
            </p:nvSpPr>
            <p:spPr>
              <a:xfrm>
                <a:off x="7248240" y="4096440"/>
                <a:ext cx="591840" cy="438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231680" y="4251600"/>
                <a:ext cx="714600" cy="1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SKE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3545280" y="1365480"/>
              <a:ext cx="696240" cy="578520"/>
              <a:chOff x="3545280" y="1365480"/>
              <a:chExt cx="696240" cy="578520"/>
            </a:xfrm>
          </p:grpSpPr>
          <p:sp>
            <p:nvSpPr>
              <p:cNvPr id="586" name=""/>
              <p:cNvSpPr/>
              <p:nvPr/>
            </p:nvSpPr>
            <p:spPr>
              <a:xfrm rot="5394000">
                <a:off x="3604320" y="1307160"/>
                <a:ext cx="577440" cy="695160"/>
              </a:xfrm>
              <a:prstGeom prst="triangle">
                <a:avLst>
                  <a:gd name="adj" fmla="val 48384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546000" y="1540800"/>
                <a:ext cx="6519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AddSPK1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6507360" y="1355040"/>
              <a:ext cx="697680" cy="581040"/>
              <a:chOff x="6507360" y="1355040"/>
              <a:chExt cx="697680" cy="581040"/>
            </a:xfrm>
          </p:grpSpPr>
          <p:sp>
            <p:nvSpPr>
              <p:cNvPr id="589" name=""/>
              <p:cNvSpPr/>
              <p:nvPr/>
            </p:nvSpPr>
            <p:spPr>
              <a:xfrm rot="5394000">
                <a:off x="6566040" y="1297080"/>
                <a:ext cx="579960" cy="696600"/>
              </a:xfrm>
              <a:prstGeom prst="triangle">
                <a:avLst>
                  <a:gd name="adj" fmla="val 48384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508080" y="1531080"/>
                <a:ext cx="653400" cy="24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SK1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3139200" y="1493280"/>
              <a:ext cx="33984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IN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161400" y="1482120"/>
              <a:ext cx="33804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IN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299480" y="1493280"/>
              <a:ext cx="33804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OUT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176600" y="1482120"/>
              <a:ext cx="33804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OUT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169080" y="3848040"/>
              <a:ext cx="761400" cy="4384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Add_ const1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527200" y="4656600"/>
              <a:ext cx="759960" cy="261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in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627720" y="4656600"/>
              <a:ext cx="759960" cy="261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out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3204000" y="4479480"/>
              <a:ext cx="338040" cy="17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 flipV="1">
              <a:off x="3542400" y="4479120"/>
              <a:ext cx="591480" cy="17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 rot="5400000">
              <a:off x="3474000" y="4324680"/>
              <a:ext cx="192600" cy="11484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795840" y="5511960"/>
              <a:ext cx="761400" cy="61380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grpSp>
          <p:nvGrpSpPr>
            <p:cNvPr id="602" name=""/>
            <p:cNvGrpSpPr/>
            <p:nvPr/>
          </p:nvGrpSpPr>
          <p:grpSpPr>
            <a:xfrm>
              <a:off x="4896360" y="5163840"/>
              <a:ext cx="714600" cy="437040"/>
              <a:chOff x="4896360" y="5163840"/>
              <a:chExt cx="714600" cy="437040"/>
            </a:xfrm>
          </p:grpSpPr>
          <p:sp>
            <p:nvSpPr>
              <p:cNvPr id="603" name=""/>
              <p:cNvSpPr/>
              <p:nvPr/>
            </p:nvSpPr>
            <p:spPr>
              <a:xfrm>
                <a:off x="4912920" y="5163840"/>
                <a:ext cx="591840" cy="43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896360" y="5318640"/>
                <a:ext cx="71460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PKE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4896360" y="6039720"/>
              <a:ext cx="714600" cy="437040"/>
              <a:chOff x="4896360" y="6039720"/>
              <a:chExt cx="714600" cy="437040"/>
            </a:xfrm>
          </p:grpSpPr>
          <p:sp>
            <p:nvSpPr>
              <p:cNvPr id="606" name=""/>
              <p:cNvSpPr/>
              <p:nvPr/>
            </p:nvSpPr>
            <p:spPr>
              <a:xfrm>
                <a:off x="4912920" y="6039720"/>
                <a:ext cx="591840" cy="43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896360" y="6194520"/>
                <a:ext cx="71460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SK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4896360" y="5601240"/>
              <a:ext cx="714600" cy="438480"/>
              <a:chOff x="4896360" y="5601240"/>
              <a:chExt cx="714600" cy="438480"/>
            </a:xfrm>
          </p:grpSpPr>
          <p:sp>
            <p:nvSpPr>
              <p:cNvPr id="609" name=""/>
              <p:cNvSpPr/>
              <p:nvPr/>
            </p:nvSpPr>
            <p:spPr>
              <a:xfrm>
                <a:off x="4912920" y="5601240"/>
                <a:ext cx="591840" cy="438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896360" y="5756400"/>
                <a:ext cx="71460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SOURCE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3829320" y="5773680"/>
              <a:ext cx="72324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LOOKUP_PS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119640" y="5248800"/>
              <a:ext cx="759960" cy="26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LU_PKEY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127920" y="6039720"/>
              <a:ext cx="761760" cy="261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LU_SKEY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119640" y="4550040"/>
              <a:ext cx="759960" cy="261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PKEY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119640" y="4897800"/>
              <a:ext cx="759960" cy="26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SOURCE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rot="16200000">
              <a:off x="3709800" y="1870920"/>
              <a:ext cx="194040" cy="11484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16200000">
              <a:off x="6718320" y="1870560"/>
              <a:ext cx="194040" cy="11520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520" y="2037240"/>
              <a:ext cx="0" cy="18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880800" y="1831680"/>
              <a:ext cx="338040" cy="1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PAR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964920" y="1831680"/>
              <a:ext cx="338040" cy="1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PAR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127920" y="5601240"/>
              <a:ext cx="916920" cy="261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LU_SOURCE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695680" y="5163840"/>
              <a:ext cx="338040" cy="261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urier New"/>
                </a:rPr>
                <a:t>1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864160" y="4897800"/>
              <a:ext cx="0" cy="2656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504840" y="2184120"/>
              <a:ext cx="0" cy="23655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191280" y="2184120"/>
              <a:ext cx="3380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11200" y="4111200"/>
              <a:ext cx="0" cy="963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5911200" y="5074920"/>
              <a:ext cx="1699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557600" y="5803560"/>
              <a:ext cx="253440" cy="8892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4811400" y="5511960"/>
              <a:ext cx="16992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811400" y="5862960"/>
              <a:ext cx="123120" cy="34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811400" y="5862960"/>
              <a:ext cx="84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487840" y="5336280"/>
              <a:ext cx="593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487840" y="5736240"/>
              <a:ext cx="6764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487840" y="6212160"/>
              <a:ext cx="593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990720" y="4021920"/>
              <a:ext cx="761400" cy="61416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075680" y="4286880"/>
              <a:ext cx="63288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DS.PS1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grpSp>
          <p:nvGrpSpPr>
            <p:cNvPr id="637" name=""/>
            <p:cNvGrpSpPr/>
            <p:nvPr/>
          </p:nvGrpSpPr>
          <p:grpSpPr>
            <a:xfrm>
              <a:off x="1342080" y="1904760"/>
              <a:ext cx="714960" cy="436680"/>
              <a:chOff x="1342080" y="1904760"/>
              <a:chExt cx="714960" cy="436680"/>
            </a:xfrm>
          </p:grpSpPr>
          <p:sp>
            <p:nvSpPr>
              <p:cNvPr id="638" name=""/>
              <p:cNvSpPr/>
              <p:nvPr/>
            </p:nvSpPr>
            <p:spPr>
              <a:xfrm>
                <a:off x="1358640" y="1904760"/>
                <a:ext cx="592200" cy="436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342080" y="2059200"/>
                <a:ext cx="71496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PKE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sp>
          <p:nvSpPr>
            <p:cNvPr id="640" name=""/>
            <p:cNvSpPr/>
            <p:nvPr/>
          </p:nvSpPr>
          <p:spPr>
            <a:xfrm flipV="1">
              <a:off x="1086840" y="2252880"/>
              <a:ext cx="423720" cy="35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92240" y="2606760"/>
              <a:ext cx="338040" cy="96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086840" y="2604960"/>
              <a:ext cx="258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086840" y="2604960"/>
              <a:ext cx="343440" cy="35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grpSp>
          <p:nvGrpSpPr>
            <p:cNvPr id="644" name=""/>
            <p:cNvGrpSpPr/>
            <p:nvPr/>
          </p:nvGrpSpPr>
          <p:grpSpPr>
            <a:xfrm>
              <a:off x="1146960" y="2868120"/>
              <a:ext cx="1100160" cy="438480"/>
              <a:chOff x="1146960" y="2868120"/>
              <a:chExt cx="1100160" cy="438480"/>
            </a:xfrm>
          </p:grpSpPr>
          <p:sp>
            <p:nvSpPr>
              <p:cNvPr id="645" name=""/>
              <p:cNvSpPr/>
              <p:nvPr/>
            </p:nvSpPr>
            <p:spPr>
              <a:xfrm>
                <a:off x="1370880" y="2868120"/>
                <a:ext cx="592200" cy="438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146960" y="2984760"/>
                <a:ext cx="1100160" cy="2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COST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1345680" y="3321720"/>
              <a:ext cx="714960" cy="436680"/>
              <a:chOff x="1345680" y="3321720"/>
              <a:chExt cx="714960" cy="436680"/>
            </a:xfrm>
          </p:grpSpPr>
          <p:sp>
            <p:nvSpPr>
              <p:cNvPr id="648" name=""/>
              <p:cNvSpPr/>
              <p:nvPr/>
            </p:nvSpPr>
            <p:spPr>
              <a:xfrm>
                <a:off x="1362240" y="3321720"/>
                <a:ext cx="592200" cy="436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345680" y="3476520"/>
                <a:ext cx="714960" cy="19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DATE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1342080" y="2431080"/>
              <a:ext cx="761400" cy="437040"/>
              <a:chOff x="1342080" y="2431080"/>
              <a:chExt cx="761400" cy="437040"/>
            </a:xfrm>
          </p:grpSpPr>
          <p:sp>
            <p:nvSpPr>
              <p:cNvPr id="651" name=""/>
              <p:cNvSpPr/>
              <p:nvPr/>
            </p:nvSpPr>
            <p:spPr>
              <a:xfrm>
                <a:off x="1358640" y="2431080"/>
                <a:ext cx="592200" cy="43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342080" y="2585880"/>
                <a:ext cx="76140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QT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sp>
          <p:nvSpPr>
            <p:cNvPr id="653" name=""/>
            <p:cNvSpPr/>
            <p:nvPr/>
          </p:nvSpPr>
          <p:spPr>
            <a:xfrm>
              <a:off x="1075680" y="2621160"/>
              <a:ext cx="0" cy="131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6200000">
              <a:off x="972360" y="3957480"/>
              <a:ext cx="192600" cy="11340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452840" y="4111200"/>
              <a:ext cx="0" cy="963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4197600" y="5074920"/>
              <a:ext cx="2548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4197600" y="4897440"/>
              <a:ext cx="0" cy="1767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854760" y="61261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7388280" y="4549680"/>
              <a:ext cx="0" cy="1575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Vassiliadis,A.Simitsis,S.Skiadopoulos. Modeling ETL Activities as Graphs. DMDW'02 Toronto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9A4EE-F82D-492F-AB52-7A599E5694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ovider Relationship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990720" y="1355040"/>
            <a:ext cx="7921080" cy="5121720"/>
            <a:chOff x="990720" y="1355040"/>
            <a:chExt cx="7921080" cy="5121720"/>
          </a:xfrm>
        </p:grpSpPr>
        <p:sp>
          <p:nvSpPr>
            <p:cNvPr id="662" name=""/>
            <p:cNvSpPr/>
            <p:nvPr/>
          </p:nvSpPr>
          <p:spPr>
            <a:xfrm>
              <a:off x="6818040" y="2007360"/>
              <a:ext cx="0" cy="411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184880" y="1644120"/>
              <a:ext cx="33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222440" y="1644120"/>
              <a:ext cx="34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63000" y="1644120"/>
              <a:ext cx="0" cy="245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953800" y="1644120"/>
              <a:ext cx="0" cy="201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953800" y="1644120"/>
              <a:ext cx="50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292200" y="1605240"/>
              <a:ext cx="253440" cy="8748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222440" y="1603800"/>
              <a:ext cx="254880" cy="8892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523280" y="1644120"/>
              <a:ext cx="0" cy="245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16240" y="1644120"/>
              <a:ext cx="0" cy="201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916240" y="1644120"/>
              <a:ext cx="50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255000" y="1605240"/>
              <a:ext cx="253080" cy="8748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84880" y="1603800"/>
              <a:ext cx="254880" cy="8892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grpSp>
          <p:nvGrpSpPr>
            <p:cNvPr id="675" name=""/>
            <p:cNvGrpSpPr/>
            <p:nvPr/>
          </p:nvGrpSpPr>
          <p:grpSpPr>
            <a:xfrm>
              <a:off x="2637360" y="1904760"/>
              <a:ext cx="714960" cy="436680"/>
              <a:chOff x="2637360" y="1904760"/>
              <a:chExt cx="714960" cy="436680"/>
            </a:xfrm>
          </p:grpSpPr>
          <p:sp>
            <p:nvSpPr>
              <p:cNvPr id="676" name=""/>
              <p:cNvSpPr/>
              <p:nvPr/>
            </p:nvSpPr>
            <p:spPr>
              <a:xfrm>
                <a:off x="2653920" y="1904760"/>
                <a:ext cx="592200" cy="436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637360" y="2059200"/>
                <a:ext cx="71496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PKE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2442600" y="3219480"/>
              <a:ext cx="1099800" cy="438480"/>
              <a:chOff x="2442600" y="3219480"/>
              <a:chExt cx="1099800" cy="438480"/>
            </a:xfrm>
          </p:grpSpPr>
          <p:sp>
            <p:nvSpPr>
              <p:cNvPr id="679" name=""/>
              <p:cNvSpPr/>
              <p:nvPr/>
            </p:nvSpPr>
            <p:spPr>
              <a:xfrm>
                <a:off x="2666520" y="3219480"/>
                <a:ext cx="592200" cy="438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442600" y="3336120"/>
                <a:ext cx="1099800" cy="2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DATE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2637360" y="2341800"/>
              <a:ext cx="714960" cy="438480"/>
              <a:chOff x="2637360" y="2341800"/>
              <a:chExt cx="714960" cy="438480"/>
            </a:xfrm>
          </p:grpSpPr>
          <p:sp>
            <p:nvSpPr>
              <p:cNvPr id="682" name=""/>
              <p:cNvSpPr/>
              <p:nvPr/>
            </p:nvSpPr>
            <p:spPr>
              <a:xfrm>
                <a:off x="2653920" y="2341800"/>
                <a:ext cx="592200" cy="438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637360" y="2496960"/>
                <a:ext cx="714960" cy="1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QT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2637360" y="2780280"/>
              <a:ext cx="759960" cy="438840"/>
              <a:chOff x="2637360" y="2780280"/>
              <a:chExt cx="759960" cy="438840"/>
            </a:xfrm>
          </p:grpSpPr>
          <p:sp>
            <p:nvSpPr>
              <p:cNvPr id="685" name=""/>
              <p:cNvSpPr/>
              <p:nvPr/>
            </p:nvSpPr>
            <p:spPr>
              <a:xfrm>
                <a:off x="2653920" y="2780280"/>
                <a:ext cx="591120" cy="438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637360" y="2935800"/>
                <a:ext cx="75996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COST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4269600" y="3659040"/>
              <a:ext cx="714600" cy="437040"/>
              <a:chOff x="4269600" y="3659040"/>
              <a:chExt cx="714600" cy="437040"/>
            </a:xfrm>
          </p:grpSpPr>
          <p:sp>
            <p:nvSpPr>
              <p:cNvPr id="688" name=""/>
              <p:cNvSpPr/>
              <p:nvPr/>
            </p:nvSpPr>
            <p:spPr>
              <a:xfrm>
                <a:off x="4286160" y="3659040"/>
                <a:ext cx="591840" cy="43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4269600" y="3813840"/>
                <a:ext cx="71460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SUPPKE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4249440" y="1906200"/>
              <a:ext cx="714600" cy="437040"/>
              <a:chOff x="4249440" y="1906200"/>
              <a:chExt cx="714600" cy="437040"/>
            </a:xfrm>
          </p:grpSpPr>
          <p:sp>
            <p:nvSpPr>
              <p:cNvPr id="691" name=""/>
              <p:cNvSpPr/>
              <p:nvPr/>
            </p:nvSpPr>
            <p:spPr>
              <a:xfrm>
                <a:off x="4266000" y="1906200"/>
                <a:ext cx="591840" cy="43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249440" y="2061000"/>
                <a:ext cx="71460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PKE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693" name=""/>
            <p:cNvGrpSpPr/>
            <p:nvPr/>
          </p:nvGrpSpPr>
          <p:grpSpPr>
            <a:xfrm>
              <a:off x="4054320" y="3220560"/>
              <a:ext cx="1099800" cy="438480"/>
              <a:chOff x="4054320" y="3220560"/>
              <a:chExt cx="1099800" cy="438480"/>
            </a:xfrm>
          </p:grpSpPr>
          <p:sp>
            <p:nvSpPr>
              <p:cNvPr id="694" name=""/>
              <p:cNvSpPr/>
              <p:nvPr/>
            </p:nvSpPr>
            <p:spPr>
              <a:xfrm>
                <a:off x="4278240" y="3220560"/>
                <a:ext cx="592200" cy="438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4054320" y="3337200"/>
                <a:ext cx="1099800" cy="2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DATE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4249440" y="2343600"/>
              <a:ext cx="714600" cy="439560"/>
              <a:chOff x="4249440" y="2343600"/>
              <a:chExt cx="714600" cy="439560"/>
            </a:xfrm>
          </p:grpSpPr>
          <p:sp>
            <p:nvSpPr>
              <p:cNvPr id="697" name=""/>
              <p:cNvSpPr/>
              <p:nvPr/>
            </p:nvSpPr>
            <p:spPr>
              <a:xfrm>
                <a:off x="4266000" y="2343600"/>
                <a:ext cx="591840" cy="439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249440" y="2499120"/>
                <a:ext cx="714600" cy="19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QT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"/>
            <p:cNvGrpSpPr/>
            <p:nvPr/>
          </p:nvGrpSpPr>
          <p:grpSpPr>
            <a:xfrm>
              <a:off x="4249440" y="2783160"/>
              <a:ext cx="759960" cy="437040"/>
              <a:chOff x="4249440" y="2783160"/>
              <a:chExt cx="759960" cy="437040"/>
            </a:xfrm>
          </p:grpSpPr>
          <p:sp>
            <p:nvSpPr>
              <p:cNvPr id="700" name=""/>
              <p:cNvSpPr/>
              <p:nvPr/>
            </p:nvSpPr>
            <p:spPr>
              <a:xfrm>
                <a:off x="4266000" y="2783160"/>
                <a:ext cx="591120" cy="43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4249440" y="2937960"/>
                <a:ext cx="75996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COST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702" name=""/>
            <p:cNvGrpSpPr/>
            <p:nvPr/>
          </p:nvGrpSpPr>
          <p:grpSpPr>
            <a:xfrm>
              <a:off x="5598000" y="1904760"/>
              <a:ext cx="714960" cy="436680"/>
              <a:chOff x="5598000" y="1904760"/>
              <a:chExt cx="714960" cy="436680"/>
            </a:xfrm>
          </p:grpSpPr>
          <p:sp>
            <p:nvSpPr>
              <p:cNvPr id="703" name=""/>
              <p:cNvSpPr/>
              <p:nvPr/>
            </p:nvSpPr>
            <p:spPr>
              <a:xfrm>
                <a:off x="5614560" y="1904760"/>
                <a:ext cx="592200" cy="436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598000" y="2059200"/>
                <a:ext cx="71496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PKE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705" name=""/>
            <p:cNvGrpSpPr/>
            <p:nvPr/>
          </p:nvGrpSpPr>
          <p:grpSpPr>
            <a:xfrm>
              <a:off x="5404680" y="3219480"/>
              <a:ext cx="1099800" cy="438480"/>
              <a:chOff x="5404680" y="3219480"/>
              <a:chExt cx="1099800" cy="438480"/>
            </a:xfrm>
          </p:grpSpPr>
          <p:sp>
            <p:nvSpPr>
              <p:cNvPr id="706" name=""/>
              <p:cNvSpPr/>
              <p:nvPr/>
            </p:nvSpPr>
            <p:spPr>
              <a:xfrm>
                <a:off x="5628600" y="3219480"/>
                <a:ext cx="592200" cy="438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404680" y="3336120"/>
                <a:ext cx="1099800" cy="2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DATE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5598000" y="2341800"/>
              <a:ext cx="714960" cy="438480"/>
              <a:chOff x="5598000" y="2341800"/>
              <a:chExt cx="714960" cy="438480"/>
            </a:xfrm>
          </p:grpSpPr>
          <p:sp>
            <p:nvSpPr>
              <p:cNvPr id="709" name=""/>
              <p:cNvSpPr/>
              <p:nvPr/>
            </p:nvSpPr>
            <p:spPr>
              <a:xfrm>
                <a:off x="5614560" y="2341800"/>
                <a:ext cx="592200" cy="438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598000" y="2496960"/>
                <a:ext cx="714960" cy="1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QT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5598000" y="2780280"/>
              <a:ext cx="761400" cy="438840"/>
              <a:chOff x="5598000" y="2780280"/>
              <a:chExt cx="761400" cy="438840"/>
            </a:xfrm>
          </p:grpSpPr>
          <p:sp>
            <p:nvSpPr>
              <p:cNvPr id="712" name=""/>
              <p:cNvSpPr/>
              <p:nvPr/>
            </p:nvSpPr>
            <p:spPr>
              <a:xfrm>
                <a:off x="5614560" y="2780280"/>
                <a:ext cx="592200" cy="438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598000" y="2935800"/>
                <a:ext cx="76140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COST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714" name=""/>
            <p:cNvGrpSpPr/>
            <p:nvPr/>
          </p:nvGrpSpPr>
          <p:grpSpPr>
            <a:xfrm>
              <a:off x="7231680" y="3659040"/>
              <a:ext cx="714600" cy="437040"/>
              <a:chOff x="7231680" y="3659040"/>
              <a:chExt cx="714600" cy="437040"/>
            </a:xfrm>
          </p:grpSpPr>
          <p:sp>
            <p:nvSpPr>
              <p:cNvPr id="715" name=""/>
              <p:cNvSpPr/>
              <p:nvPr/>
            </p:nvSpPr>
            <p:spPr>
              <a:xfrm>
                <a:off x="7248240" y="3659040"/>
                <a:ext cx="591840" cy="43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231680" y="3813840"/>
                <a:ext cx="71460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SUPPKE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717" name=""/>
            <p:cNvGrpSpPr/>
            <p:nvPr/>
          </p:nvGrpSpPr>
          <p:grpSpPr>
            <a:xfrm>
              <a:off x="7209720" y="1906200"/>
              <a:ext cx="714960" cy="437040"/>
              <a:chOff x="7209720" y="1906200"/>
              <a:chExt cx="714960" cy="437040"/>
            </a:xfrm>
          </p:grpSpPr>
          <p:sp>
            <p:nvSpPr>
              <p:cNvPr id="718" name=""/>
              <p:cNvSpPr/>
              <p:nvPr/>
            </p:nvSpPr>
            <p:spPr>
              <a:xfrm>
                <a:off x="7226280" y="1906200"/>
                <a:ext cx="592200" cy="43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209720" y="2061000"/>
                <a:ext cx="71496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PKE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7016400" y="3220560"/>
              <a:ext cx="1099800" cy="438480"/>
              <a:chOff x="7016400" y="3220560"/>
              <a:chExt cx="1099800" cy="438480"/>
            </a:xfrm>
          </p:grpSpPr>
          <p:sp>
            <p:nvSpPr>
              <p:cNvPr id="721" name=""/>
              <p:cNvSpPr/>
              <p:nvPr/>
            </p:nvSpPr>
            <p:spPr>
              <a:xfrm>
                <a:off x="7240320" y="3220560"/>
                <a:ext cx="592200" cy="438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016400" y="3337200"/>
                <a:ext cx="1099800" cy="2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DATE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7209720" y="2343600"/>
              <a:ext cx="714960" cy="439560"/>
              <a:chOff x="7209720" y="2343600"/>
              <a:chExt cx="714960" cy="439560"/>
            </a:xfrm>
          </p:grpSpPr>
          <p:sp>
            <p:nvSpPr>
              <p:cNvPr id="724" name=""/>
              <p:cNvSpPr/>
              <p:nvPr/>
            </p:nvSpPr>
            <p:spPr>
              <a:xfrm>
                <a:off x="7226280" y="2343600"/>
                <a:ext cx="592200" cy="439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209720" y="2499120"/>
                <a:ext cx="714960" cy="19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QT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7209720" y="2783160"/>
              <a:ext cx="763560" cy="437040"/>
              <a:chOff x="7209720" y="2783160"/>
              <a:chExt cx="763560" cy="437040"/>
            </a:xfrm>
          </p:grpSpPr>
          <p:sp>
            <p:nvSpPr>
              <p:cNvPr id="727" name=""/>
              <p:cNvSpPr/>
              <p:nvPr/>
            </p:nvSpPr>
            <p:spPr>
              <a:xfrm>
                <a:off x="7226640" y="2783160"/>
                <a:ext cx="594000" cy="43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209720" y="2937960"/>
                <a:ext cx="76356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COST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5624640" y="3659040"/>
              <a:ext cx="714600" cy="437040"/>
              <a:chOff x="5624640" y="3659040"/>
              <a:chExt cx="714600" cy="437040"/>
            </a:xfrm>
          </p:grpSpPr>
          <p:sp>
            <p:nvSpPr>
              <p:cNvPr id="730" name=""/>
              <p:cNvSpPr/>
              <p:nvPr/>
            </p:nvSpPr>
            <p:spPr>
              <a:xfrm>
                <a:off x="5641200" y="3659040"/>
                <a:ext cx="591840" cy="43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624640" y="3813840"/>
                <a:ext cx="71460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SUPPKE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732" name=""/>
            <p:cNvGrpSpPr/>
            <p:nvPr/>
          </p:nvGrpSpPr>
          <p:grpSpPr>
            <a:xfrm>
              <a:off x="7231680" y="4096440"/>
              <a:ext cx="714600" cy="438480"/>
              <a:chOff x="7231680" y="4096440"/>
              <a:chExt cx="714600" cy="438480"/>
            </a:xfrm>
          </p:grpSpPr>
          <p:sp>
            <p:nvSpPr>
              <p:cNvPr id="733" name=""/>
              <p:cNvSpPr/>
              <p:nvPr/>
            </p:nvSpPr>
            <p:spPr>
              <a:xfrm>
                <a:off x="7248240" y="4096440"/>
                <a:ext cx="591840" cy="438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231680" y="4251600"/>
                <a:ext cx="714600" cy="1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SKE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735" name=""/>
            <p:cNvGrpSpPr/>
            <p:nvPr/>
          </p:nvGrpSpPr>
          <p:grpSpPr>
            <a:xfrm>
              <a:off x="3545280" y="1365480"/>
              <a:ext cx="696240" cy="578520"/>
              <a:chOff x="3545280" y="1365480"/>
              <a:chExt cx="696240" cy="578520"/>
            </a:xfrm>
          </p:grpSpPr>
          <p:sp>
            <p:nvSpPr>
              <p:cNvPr id="736" name=""/>
              <p:cNvSpPr/>
              <p:nvPr/>
            </p:nvSpPr>
            <p:spPr>
              <a:xfrm rot="5394000">
                <a:off x="3604320" y="1307160"/>
                <a:ext cx="577440" cy="695160"/>
              </a:xfrm>
              <a:prstGeom prst="triangle">
                <a:avLst>
                  <a:gd name="adj" fmla="val 48384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3546000" y="1540800"/>
                <a:ext cx="6519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AddSPK1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738" name=""/>
            <p:cNvGrpSpPr/>
            <p:nvPr/>
          </p:nvGrpSpPr>
          <p:grpSpPr>
            <a:xfrm>
              <a:off x="6507360" y="1355040"/>
              <a:ext cx="697680" cy="581040"/>
              <a:chOff x="6507360" y="1355040"/>
              <a:chExt cx="697680" cy="581040"/>
            </a:xfrm>
          </p:grpSpPr>
          <p:sp>
            <p:nvSpPr>
              <p:cNvPr id="739" name=""/>
              <p:cNvSpPr/>
              <p:nvPr/>
            </p:nvSpPr>
            <p:spPr>
              <a:xfrm rot="5394000">
                <a:off x="6566040" y="1297080"/>
                <a:ext cx="579960" cy="696600"/>
              </a:xfrm>
              <a:prstGeom prst="triangle">
                <a:avLst>
                  <a:gd name="adj" fmla="val 48384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6508080" y="1531080"/>
                <a:ext cx="653400" cy="24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SK1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sp>
          <p:nvSpPr>
            <p:cNvPr id="741" name=""/>
            <p:cNvSpPr/>
            <p:nvPr/>
          </p:nvSpPr>
          <p:spPr>
            <a:xfrm>
              <a:off x="3139200" y="1493280"/>
              <a:ext cx="33984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IN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161400" y="1482120"/>
              <a:ext cx="33804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IN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299480" y="1493280"/>
              <a:ext cx="33804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OUT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176600" y="1482120"/>
              <a:ext cx="33804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OUT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169080" y="3848040"/>
              <a:ext cx="761400" cy="4384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Add_ const1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527200" y="4656600"/>
              <a:ext cx="759960" cy="261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in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627720" y="4656600"/>
              <a:ext cx="759960" cy="261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out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3204000" y="4479480"/>
              <a:ext cx="338040" cy="17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 flipV="1">
              <a:off x="3542040" y="4479120"/>
              <a:ext cx="591480" cy="17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 rot="5400000">
              <a:off x="3473640" y="4324680"/>
              <a:ext cx="192600" cy="11484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795840" y="5511960"/>
              <a:ext cx="761400" cy="61380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grpSp>
          <p:nvGrpSpPr>
            <p:cNvPr id="752" name=""/>
            <p:cNvGrpSpPr/>
            <p:nvPr/>
          </p:nvGrpSpPr>
          <p:grpSpPr>
            <a:xfrm>
              <a:off x="4896360" y="5163840"/>
              <a:ext cx="714600" cy="437040"/>
              <a:chOff x="4896360" y="5163840"/>
              <a:chExt cx="714600" cy="437040"/>
            </a:xfrm>
          </p:grpSpPr>
          <p:sp>
            <p:nvSpPr>
              <p:cNvPr id="753" name=""/>
              <p:cNvSpPr/>
              <p:nvPr/>
            </p:nvSpPr>
            <p:spPr>
              <a:xfrm>
                <a:off x="4912920" y="5163840"/>
                <a:ext cx="591840" cy="43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896360" y="5318640"/>
                <a:ext cx="71460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PKE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"/>
            <p:cNvGrpSpPr/>
            <p:nvPr/>
          </p:nvGrpSpPr>
          <p:grpSpPr>
            <a:xfrm>
              <a:off x="4896360" y="6039720"/>
              <a:ext cx="714600" cy="437040"/>
              <a:chOff x="4896360" y="6039720"/>
              <a:chExt cx="714600" cy="437040"/>
            </a:xfrm>
          </p:grpSpPr>
          <p:sp>
            <p:nvSpPr>
              <p:cNvPr id="756" name=""/>
              <p:cNvSpPr/>
              <p:nvPr/>
            </p:nvSpPr>
            <p:spPr>
              <a:xfrm>
                <a:off x="4912920" y="6039720"/>
                <a:ext cx="591840" cy="43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4896360" y="6194520"/>
                <a:ext cx="71460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SK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4896360" y="5601240"/>
              <a:ext cx="714600" cy="438480"/>
              <a:chOff x="4896360" y="5601240"/>
              <a:chExt cx="714600" cy="438480"/>
            </a:xfrm>
          </p:grpSpPr>
          <p:sp>
            <p:nvSpPr>
              <p:cNvPr id="759" name=""/>
              <p:cNvSpPr/>
              <p:nvPr/>
            </p:nvSpPr>
            <p:spPr>
              <a:xfrm>
                <a:off x="4912920" y="5601240"/>
                <a:ext cx="591840" cy="438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896360" y="5756400"/>
                <a:ext cx="71460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SOURCE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sp>
          <p:nvSpPr>
            <p:cNvPr id="761" name=""/>
            <p:cNvSpPr/>
            <p:nvPr/>
          </p:nvSpPr>
          <p:spPr>
            <a:xfrm>
              <a:off x="3828960" y="5773680"/>
              <a:ext cx="72324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LOOKUP_PS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119640" y="5248800"/>
              <a:ext cx="759960" cy="26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LU_PKEY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127920" y="6039720"/>
              <a:ext cx="761760" cy="261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LU_SKEY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119640" y="4550040"/>
              <a:ext cx="759960" cy="261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PKEY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119640" y="4897800"/>
              <a:ext cx="759960" cy="26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SOURCE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rot="16200000">
              <a:off x="3709800" y="1870920"/>
              <a:ext cx="194040" cy="11484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rot="16200000">
              <a:off x="6718320" y="1870560"/>
              <a:ext cx="194040" cy="11520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809520" y="2037240"/>
              <a:ext cx="0" cy="18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880800" y="1831680"/>
              <a:ext cx="338040" cy="1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PAR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964920" y="1831680"/>
              <a:ext cx="338040" cy="1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PAR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127920" y="5601240"/>
              <a:ext cx="916920" cy="261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LU_SOURCE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695680" y="5163840"/>
              <a:ext cx="338040" cy="261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urier New"/>
                </a:rPr>
                <a:t>1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864160" y="4897800"/>
              <a:ext cx="0" cy="2656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504840" y="2184120"/>
              <a:ext cx="0" cy="23655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191280" y="2184120"/>
              <a:ext cx="3380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911200" y="4111200"/>
              <a:ext cx="0" cy="963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5911200" y="5074920"/>
              <a:ext cx="1699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557600" y="5803560"/>
              <a:ext cx="253440" cy="8892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4811040" y="5511960"/>
              <a:ext cx="16992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811040" y="5862960"/>
              <a:ext cx="123120" cy="34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811040" y="5862960"/>
              <a:ext cx="84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487840" y="5336280"/>
              <a:ext cx="593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87840" y="5736240"/>
              <a:ext cx="6764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487840" y="6212160"/>
              <a:ext cx="593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990720" y="4021920"/>
              <a:ext cx="761400" cy="61416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075680" y="4286880"/>
              <a:ext cx="63288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DS.PS1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grpSp>
          <p:nvGrpSpPr>
            <p:cNvPr id="787" name=""/>
            <p:cNvGrpSpPr/>
            <p:nvPr/>
          </p:nvGrpSpPr>
          <p:grpSpPr>
            <a:xfrm>
              <a:off x="1342080" y="1904760"/>
              <a:ext cx="714960" cy="436680"/>
              <a:chOff x="1342080" y="1904760"/>
              <a:chExt cx="714960" cy="436680"/>
            </a:xfrm>
          </p:grpSpPr>
          <p:sp>
            <p:nvSpPr>
              <p:cNvPr id="788" name=""/>
              <p:cNvSpPr/>
              <p:nvPr/>
            </p:nvSpPr>
            <p:spPr>
              <a:xfrm>
                <a:off x="1358640" y="1904760"/>
                <a:ext cx="592200" cy="436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342080" y="2059200"/>
                <a:ext cx="71496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PKE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sp>
          <p:nvSpPr>
            <p:cNvPr id="790" name=""/>
            <p:cNvSpPr/>
            <p:nvPr/>
          </p:nvSpPr>
          <p:spPr>
            <a:xfrm flipV="1">
              <a:off x="1086840" y="2252880"/>
              <a:ext cx="423720" cy="35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092240" y="2606760"/>
              <a:ext cx="338040" cy="96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086840" y="2604960"/>
              <a:ext cx="258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086840" y="2604960"/>
              <a:ext cx="343440" cy="35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grpSp>
          <p:nvGrpSpPr>
            <p:cNvPr id="794" name=""/>
            <p:cNvGrpSpPr/>
            <p:nvPr/>
          </p:nvGrpSpPr>
          <p:grpSpPr>
            <a:xfrm>
              <a:off x="1146960" y="2868120"/>
              <a:ext cx="1100160" cy="438480"/>
              <a:chOff x="1146960" y="2868120"/>
              <a:chExt cx="1100160" cy="438480"/>
            </a:xfrm>
          </p:grpSpPr>
          <p:sp>
            <p:nvSpPr>
              <p:cNvPr id="795" name=""/>
              <p:cNvSpPr/>
              <p:nvPr/>
            </p:nvSpPr>
            <p:spPr>
              <a:xfrm>
                <a:off x="1370880" y="2868120"/>
                <a:ext cx="592200" cy="438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146960" y="2984760"/>
                <a:ext cx="1100160" cy="2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COST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1345680" y="3321720"/>
              <a:ext cx="714960" cy="436680"/>
              <a:chOff x="1345680" y="3321720"/>
              <a:chExt cx="714960" cy="436680"/>
            </a:xfrm>
          </p:grpSpPr>
          <p:sp>
            <p:nvSpPr>
              <p:cNvPr id="798" name=""/>
              <p:cNvSpPr/>
              <p:nvPr/>
            </p:nvSpPr>
            <p:spPr>
              <a:xfrm>
                <a:off x="1362240" y="3321720"/>
                <a:ext cx="592200" cy="436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345680" y="3476520"/>
                <a:ext cx="714960" cy="19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DATE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grpSp>
          <p:nvGrpSpPr>
            <p:cNvPr id="800" name=""/>
            <p:cNvGrpSpPr/>
            <p:nvPr/>
          </p:nvGrpSpPr>
          <p:grpSpPr>
            <a:xfrm>
              <a:off x="1342080" y="2431080"/>
              <a:ext cx="761400" cy="437040"/>
              <a:chOff x="1342080" y="2431080"/>
              <a:chExt cx="761400" cy="437040"/>
            </a:xfrm>
          </p:grpSpPr>
          <p:sp>
            <p:nvSpPr>
              <p:cNvPr id="801" name=""/>
              <p:cNvSpPr/>
              <p:nvPr/>
            </p:nvSpPr>
            <p:spPr>
              <a:xfrm>
                <a:off x="1358640" y="2431080"/>
                <a:ext cx="592200" cy="43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342080" y="2585880"/>
                <a:ext cx="76140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Courier New"/>
                  </a:rPr>
                  <a:t>QTY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sp>
          <p:nvSpPr>
            <p:cNvPr id="803" name=""/>
            <p:cNvSpPr/>
            <p:nvPr/>
          </p:nvSpPr>
          <p:spPr>
            <a:xfrm>
              <a:off x="1075680" y="2621160"/>
              <a:ext cx="0" cy="131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rot="16200000">
              <a:off x="972360" y="3957480"/>
              <a:ext cx="192600" cy="11340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933920" y="2115000"/>
              <a:ext cx="761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933920" y="2535120"/>
              <a:ext cx="761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933920" y="3060000"/>
              <a:ext cx="761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933920" y="3497040"/>
              <a:ext cx="761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242520" y="2096640"/>
              <a:ext cx="1015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275640" y="2543040"/>
              <a:ext cx="1015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275640" y="2990880"/>
              <a:ext cx="1015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287520" y="3411000"/>
              <a:ext cx="1016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203160" y="2096640"/>
              <a:ext cx="1016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237720" y="2543040"/>
              <a:ext cx="1015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237720" y="2990880"/>
              <a:ext cx="1015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249600" y="3411000"/>
              <a:ext cx="1015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837680" y="2096640"/>
              <a:ext cx="759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249600" y="3848040"/>
              <a:ext cx="1015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96360" y="2535120"/>
              <a:ext cx="761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96360" y="2972160"/>
              <a:ext cx="761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896360" y="3411000"/>
              <a:ext cx="761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896360" y="3848040"/>
              <a:ext cx="761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811640" y="3916800"/>
              <a:ext cx="42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811640" y="2572560"/>
              <a:ext cx="42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844760" y="3420360"/>
              <a:ext cx="42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8488440" y="2184120"/>
              <a:ext cx="42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833600" y="3011400"/>
              <a:ext cx="421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452840" y="4111200"/>
              <a:ext cx="0" cy="963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4197600" y="5074920"/>
              <a:ext cx="2548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4197600" y="4897440"/>
              <a:ext cx="0" cy="1767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854760" y="61261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7388280" y="4549680"/>
              <a:ext cx="0" cy="1575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8488440" y="2184120"/>
              <a:ext cx="0" cy="210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811640" y="4286880"/>
              <a:ext cx="676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Vassiliadis,A.Simitsis,S.Skiadopoulos. Modeling ETL Activities as Graphs. DMDW'02 Toronto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816CB-C145-4201-96F1-D2A880746C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4551480" y="2001960"/>
            <a:ext cx="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459560" y="2146320"/>
            <a:ext cx="0" cy="319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736040" y="1969920"/>
            <a:ext cx="25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513400" y="196380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767560" y="1973160"/>
            <a:ext cx="0" cy="136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560840" y="1998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815000" y="1960560"/>
            <a:ext cx="190440" cy="856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513400" y="1925640"/>
            <a:ext cx="190440" cy="856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989840" y="1973160"/>
            <a:ext cx="0" cy="136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783480" y="1973160"/>
            <a:ext cx="0" cy="9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783480" y="196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037280" y="1932120"/>
            <a:ext cx="190440" cy="856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736040" y="1930320"/>
            <a:ext cx="190440" cy="874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5004720" y="1723680"/>
            <a:ext cx="523440" cy="572400"/>
            <a:chOff x="5004720" y="1723680"/>
            <a:chExt cx="523440" cy="572400"/>
          </a:xfrm>
        </p:grpSpPr>
        <p:sp>
          <p:nvSpPr>
            <p:cNvPr id="849" name=""/>
            <p:cNvSpPr/>
            <p:nvPr/>
          </p:nvSpPr>
          <p:spPr>
            <a:xfrm rot="5394000">
              <a:off x="4980600" y="1748520"/>
              <a:ext cx="571320" cy="522360"/>
            </a:xfrm>
            <a:prstGeom prst="triangle">
              <a:avLst>
                <a:gd name="adj" fmla="val 48384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005440" y="1896840"/>
              <a:ext cx="48996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ddSPK1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7227000" y="1714320"/>
            <a:ext cx="523440" cy="572400"/>
            <a:chOff x="7227000" y="1714320"/>
            <a:chExt cx="523440" cy="572400"/>
          </a:xfrm>
        </p:grpSpPr>
        <p:sp>
          <p:nvSpPr>
            <p:cNvPr id="852" name=""/>
            <p:cNvSpPr/>
            <p:nvPr/>
          </p:nvSpPr>
          <p:spPr>
            <a:xfrm rot="5394000">
              <a:off x="7202880" y="1739160"/>
              <a:ext cx="571320" cy="522360"/>
            </a:xfrm>
            <a:prstGeom prst="triangle">
              <a:avLst>
                <a:gd name="adj" fmla="val 48384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227720" y="1887480"/>
              <a:ext cx="48996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SK1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4700520" y="1801800"/>
            <a:ext cx="25416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172e"/>
                </a:solidFill>
                <a:latin typeface="Courier New"/>
              </a:rPr>
              <a:t>IN</a:t>
            </a:r>
            <a:endParaRPr b="0" lang="en-US" sz="12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967440" y="1801800"/>
            <a:ext cx="25416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172e"/>
                </a:solidFill>
                <a:latin typeface="Courier New"/>
              </a:rPr>
              <a:t>IN</a:t>
            </a:r>
            <a:endParaRPr b="0" lang="en-US" sz="12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570640" y="1801800"/>
            <a:ext cx="3394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172e"/>
                </a:solidFill>
                <a:latin typeface="Courier New"/>
              </a:rPr>
              <a:t>OUT</a:t>
            </a:r>
            <a:endParaRPr b="0" lang="en-US" sz="12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729560" y="1801800"/>
            <a:ext cx="3142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172e"/>
                </a:solidFill>
                <a:latin typeface="Courier New"/>
              </a:rPr>
              <a:t>OUT</a:t>
            </a:r>
            <a:endParaRPr b="0" lang="en-US" sz="1200" spc="-1" strike="noStrike">
              <a:solidFill>
                <a:srgbClr val="00172e"/>
              </a:solidFill>
              <a:latin typeface="Times New Roman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5029200" y="4762440"/>
            <a:ext cx="741240" cy="641160"/>
            <a:chOff x="5029200" y="4762440"/>
            <a:chExt cx="741240" cy="641160"/>
          </a:xfrm>
        </p:grpSpPr>
        <p:sp>
          <p:nvSpPr>
            <p:cNvPr id="859" name=""/>
            <p:cNvSpPr/>
            <p:nvPr/>
          </p:nvSpPr>
          <p:spPr>
            <a:xfrm>
              <a:off x="5029200" y="4762440"/>
              <a:ext cx="741240" cy="64116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67000" y="5019480"/>
              <a:ext cx="6681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LOOKUP_PS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sp>
        <p:nvSpPr>
          <p:cNvPr id="861" name=""/>
          <p:cNvSpPr/>
          <p:nvPr/>
        </p:nvSpPr>
        <p:spPr>
          <a:xfrm>
            <a:off x="6935760" y="4451400"/>
            <a:ext cx="803160" cy="28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172e"/>
                </a:solidFill>
                <a:latin typeface="Courier New"/>
              </a:rPr>
              <a:t>LU_PKEY</a:t>
            </a:r>
            <a:endParaRPr b="0" lang="en-US" sz="12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942240" y="5229360"/>
            <a:ext cx="803160" cy="28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172e"/>
                </a:solidFill>
                <a:latin typeface="Courier New"/>
              </a:rPr>
              <a:t>LU_SKEY</a:t>
            </a:r>
            <a:endParaRPr b="0" lang="en-US" sz="12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6935760" y="3760920"/>
            <a:ext cx="803160" cy="28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172e"/>
                </a:solidFill>
                <a:latin typeface="Courier New"/>
              </a:rPr>
              <a:t>PKEY</a:t>
            </a:r>
            <a:endParaRPr b="0" lang="en-US" sz="12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935760" y="4105440"/>
            <a:ext cx="80316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172e"/>
                </a:solidFill>
                <a:latin typeface="Courier New"/>
              </a:rPr>
              <a:t>SOURCE</a:t>
            </a:r>
            <a:endParaRPr b="0" lang="en-US" sz="12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rot="16200000">
            <a:off x="7362720" y="2217240"/>
            <a:ext cx="190440" cy="856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570800" y="2184480"/>
            <a:ext cx="32076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172e"/>
                </a:solidFill>
                <a:latin typeface="Courier New"/>
              </a:rPr>
              <a:t>PAR</a:t>
            </a:r>
            <a:endParaRPr b="0" lang="en-US" sz="12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942240" y="4797360"/>
            <a:ext cx="968400" cy="28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172e"/>
                </a:solidFill>
                <a:latin typeface="Courier New"/>
              </a:rPr>
              <a:t>LU_SOURCE</a:t>
            </a:r>
            <a:endParaRPr b="0" lang="en-US" sz="12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224840" y="249228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989760" y="253044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780240" y="3355920"/>
            <a:ext cx="0" cy="949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6779880" y="43052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764320" y="5024520"/>
            <a:ext cx="190440" cy="8712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5954760" y="4610160"/>
            <a:ext cx="17928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954760" y="5083200"/>
            <a:ext cx="117360" cy="44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954760" y="5083200"/>
            <a:ext cx="10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462720" y="456408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462720" y="495792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462720" y="542772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776840" y="24940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999120" y="24940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973840" y="2494080"/>
            <a:ext cx="571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034040" y="31510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018120" y="3151080"/>
            <a:ext cx="571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7738920" y="5361120"/>
            <a:ext cx="4003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8120160" y="3836520"/>
            <a:ext cx="0" cy="1554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5380200" y="2894040"/>
            <a:ext cx="680760" cy="514440"/>
            <a:chOff x="5380200" y="2894040"/>
            <a:chExt cx="680760" cy="514440"/>
          </a:xfrm>
        </p:grpSpPr>
        <p:sp>
          <p:nvSpPr>
            <p:cNvPr id="887" name=""/>
            <p:cNvSpPr/>
            <p:nvPr/>
          </p:nvSpPr>
          <p:spPr>
            <a:xfrm>
              <a:off x="5396040" y="2894040"/>
              <a:ext cx="564120" cy="514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380200" y="3076200"/>
              <a:ext cx="68076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SUPPKEY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7777080" y="2236680"/>
            <a:ext cx="681120" cy="514440"/>
            <a:chOff x="7777080" y="2236680"/>
            <a:chExt cx="681120" cy="514440"/>
          </a:xfrm>
        </p:grpSpPr>
        <p:sp>
          <p:nvSpPr>
            <p:cNvPr id="890" name=""/>
            <p:cNvSpPr/>
            <p:nvPr/>
          </p:nvSpPr>
          <p:spPr>
            <a:xfrm>
              <a:off x="7792920" y="2236680"/>
              <a:ext cx="564120" cy="514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777080" y="2418840"/>
              <a:ext cx="6811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PKEY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6519960" y="2236680"/>
            <a:ext cx="681120" cy="514440"/>
            <a:chOff x="6519960" y="2236680"/>
            <a:chExt cx="681120" cy="514440"/>
          </a:xfrm>
        </p:grpSpPr>
        <p:sp>
          <p:nvSpPr>
            <p:cNvPr id="893" name=""/>
            <p:cNvSpPr/>
            <p:nvPr/>
          </p:nvSpPr>
          <p:spPr>
            <a:xfrm>
              <a:off x="6535800" y="2236680"/>
              <a:ext cx="564120" cy="514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519960" y="2418840"/>
              <a:ext cx="6811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PKEY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5378400" y="2236680"/>
            <a:ext cx="681120" cy="514440"/>
            <a:chOff x="5378400" y="2236680"/>
            <a:chExt cx="681120" cy="514440"/>
          </a:xfrm>
        </p:grpSpPr>
        <p:sp>
          <p:nvSpPr>
            <p:cNvPr id="896" name=""/>
            <p:cNvSpPr/>
            <p:nvPr/>
          </p:nvSpPr>
          <p:spPr>
            <a:xfrm>
              <a:off x="5394240" y="2236680"/>
              <a:ext cx="564120" cy="514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378400" y="2418840"/>
              <a:ext cx="6811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PKEY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4233960" y="2236680"/>
            <a:ext cx="681120" cy="514440"/>
            <a:chOff x="4233960" y="2236680"/>
            <a:chExt cx="681120" cy="514440"/>
          </a:xfrm>
        </p:grpSpPr>
        <p:sp>
          <p:nvSpPr>
            <p:cNvPr id="899" name=""/>
            <p:cNvSpPr/>
            <p:nvPr/>
          </p:nvSpPr>
          <p:spPr>
            <a:xfrm>
              <a:off x="4249800" y="2236680"/>
              <a:ext cx="564120" cy="514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233960" y="2418840"/>
              <a:ext cx="6811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PKEY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7777080" y="3456000"/>
            <a:ext cx="681120" cy="514440"/>
            <a:chOff x="7777080" y="3456000"/>
            <a:chExt cx="681120" cy="514440"/>
          </a:xfrm>
        </p:grpSpPr>
        <p:sp>
          <p:nvSpPr>
            <p:cNvPr id="902" name=""/>
            <p:cNvSpPr/>
            <p:nvPr/>
          </p:nvSpPr>
          <p:spPr>
            <a:xfrm>
              <a:off x="7792920" y="3456000"/>
              <a:ext cx="564120" cy="514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777080" y="3638160"/>
              <a:ext cx="6811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SKEY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7777080" y="2894040"/>
            <a:ext cx="681120" cy="514440"/>
            <a:chOff x="7777080" y="2894040"/>
            <a:chExt cx="681120" cy="514440"/>
          </a:xfrm>
        </p:grpSpPr>
        <p:sp>
          <p:nvSpPr>
            <p:cNvPr id="905" name=""/>
            <p:cNvSpPr/>
            <p:nvPr/>
          </p:nvSpPr>
          <p:spPr>
            <a:xfrm>
              <a:off x="7792920" y="2894040"/>
              <a:ext cx="564120" cy="514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777080" y="3076200"/>
              <a:ext cx="6811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SUPPKEY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6519960" y="2894040"/>
            <a:ext cx="681120" cy="514440"/>
            <a:chOff x="6519960" y="2894040"/>
            <a:chExt cx="681120" cy="514440"/>
          </a:xfrm>
        </p:grpSpPr>
        <p:sp>
          <p:nvSpPr>
            <p:cNvPr id="908" name=""/>
            <p:cNvSpPr/>
            <p:nvPr/>
          </p:nvSpPr>
          <p:spPr>
            <a:xfrm>
              <a:off x="6535800" y="2894040"/>
              <a:ext cx="564120" cy="514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519960" y="3076200"/>
              <a:ext cx="6811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SUPPKEY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6058080" y="4229280"/>
            <a:ext cx="680760" cy="514080"/>
            <a:chOff x="6058080" y="4229280"/>
            <a:chExt cx="680760" cy="514080"/>
          </a:xfrm>
        </p:grpSpPr>
        <p:sp>
          <p:nvSpPr>
            <p:cNvPr id="911" name=""/>
            <p:cNvSpPr/>
            <p:nvPr/>
          </p:nvSpPr>
          <p:spPr>
            <a:xfrm>
              <a:off x="6073920" y="4229280"/>
              <a:ext cx="564120" cy="514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058080" y="4411440"/>
              <a:ext cx="68076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PKEY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6058080" y="5276880"/>
            <a:ext cx="680760" cy="514440"/>
            <a:chOff x="6058080" y="5276880"/>
            <a:chExt cx="680760" cy="514440"/>
          </a:xfrm>
        </p:grpSpPr>
        <p:sp>
          <p:nvSpPr>
            <p:cNvPr id="914" name=""/>
            <p:cNvSpPr/>
            <p:nvPr/>
          </p:nvSpPr>
          <p:spPr>
            <a:xfrm>
              <a:off x="6073920" y="5276880"/>
              <a:ext cx="564120" cy="514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058080" y="5459040"/>
              <a:ext cx="68076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SK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6058080" y="4740120"/>
            <a:ext cx="680760" cy="514440"/>
            <a:chOff x="6058080" y="4740120"/>
            <a:chExt cx="680760" cy="514440"/>
          </a:xfrm>
        </p:grpSpPr>
        <p:sp>
          <p:nvSpPr>
            <p:cNvPr id="917" name=""/>
            <p:cNvSpPr/>
            <p:nvPr/>
          </p:nvSpPr>
          <p:spPr>
            <a:xfrm>
              <a:off x="6073920" y="4740120"/>
              <a:ext cx="564120" cy="514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058080" y="4922280"/>
              <a:ext cx="68076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SOURCE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>
            <a:off x="3328920" y="337968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583080" y="3382920"/>
            <a:ext cx="0" cy="105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376360" y="3382920"/>
            <a:ext cx="0" cy="72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376360" y="337968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2820240" y="3182400"/>
            <a:ext cx="523080" cy="442440"/>
            <a:chOff x="2820240" y="3182400"/>
            <a:chExt cx="523080" cy="442440"/>
          </a:xfrm>
        </p:grpSpPr>
        <p:sp>
          <p:nvSpPr>
            <p:cNvPr id="924" name=""/>
            <p:cNvSpPr/>
            <p:nvPr/>
          </p:nvSpPr>
          <p:spPr>
            <a:xfrm rot="5394000">
              <a:off x="2860920" y="3142080"/>
              <a:ext cx="441360" cy="522360"/>
            </a:xfrm>
            <a:prstGeom prst="triangle">
              <a:avLst>
                <a:gd name="adj" fmla="val 48384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820960" y="3315960"/>
              <a:ext cx="48996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SK1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sp>
        <p:nvSpPr>
          <p:cNvPr id="926" name=""/>
          <p:cNvSpPr/>
          <p:nvPr/>
        </p:nvSpPr>
        <p:spPr>
          <a:xfrm>
            <a:off x="2560680" y="3219480"/>
            <a:ext cx="253800" cy="1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172e"/>
                </a:solidFill>
                <a:latin typeface="Courier New"/>
              </a:rPr>
              <a:t>IN</a:t>
            </a:r>
            <a:endParaRPr b="0" lang="en-US" sz="12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322800" y="3192480"/>
            <a:ext cx="3142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172e"/>
                </a:solidFill>
                <a:latin typeface="Courier New"/>
              </a:rPr>
              <a:t>OUT</a:t>
            </a:r>
            <a:endParaRPr b="0" lang="en-US" sz="12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2004840" y="4944600"/>
            <a:ext cx="179640" cy="36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004840" y="5310360"/>
            <a:ext cx="117720" cy="33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004840" y="5310360"/>
            <a:ext cx="10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128680" y="3586320"/>
            <a:ext cx="565200" cy="3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112840" y="3726000"/>
            <a:ext cx="6811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PKEY</a:t>
            </a:r>
            <a:endParaRPr b="0" lang="en-US" sz="1200" spc="-1" strike="noStrike">
              <a:solidFill>
                <a:srgbClr val="00172e"/>
              </a:solidFill>
              <a:latin typeface="Times New Roman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3251160" y="4416480"/>
            <a:ext cx="681120" cy="396720"/>
            <a:chOff x="3251160" y="4416480"/>
            <a:chExt cx="681120" cy="396720"/>
          </a:xfrm>
        </p:grpSpPr>
        <p:sp>
          <p:nvSpPr>
            <p:cNvPr id="934" name=""/>
            <p:cNvSpPr/>
            <p:nvPr/>
          </p:nvSpPr>
          <p:spPr>
            <a:xfrm>
              <a:off x="3267000" y="4416480"/>
              <a:ext cx="564120" cy="3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251160" y="4556880"/>
              <a:ext cx="68112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SKEY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grpSp>
        <p:nvGrpSpPr>
          <p:cNvPr id="936" name=""/>
          <p:cNvGrpSpPr/>
          <p:nvPr/>
        </p:nvGrpSpPr>
        <p:grpSpPr>
          <a:xfrm>
            <a:off x="2112840" y="4092480"/>
            <a:ext cx="681120" cy="395280"/>
            <a:chOff x="2112840" y="4092480"/>
            <a:chExt cx="681120" cy="395280"/>
          </a:xfrm>
        </p:grpSpPr>
        <p:sp>
          <p:nvSpPr>
            <p:cNvPr id="937" name=""/>
            <p:cNvSpPr/>
            <p:nvPr/>
          </p:nvSpPr>
          <p:spPr>
            <a:xfrm>
              <a:off x="2128680" y="4092480"/>
              <a:ext cx="564120" cy="395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112840" y="4232520"/>
              <a:ext cx="68112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SUPPKEY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2108160" y="4651200"/>
            <a:ext cx="681120" cy="397080"/>
            <a:chOff x="2108160" y="4651200"/>
            <a:chExt cx="681120" cy="397080"/>
          </a:xfrm>
        </p:grpSpPr>
        <p:sp>
          <p:nvSpPr>
            <p:cNvPr id="940" name=""/>
            <p:cNvSpPr/>
            <p:nvPr/>
          </p:nvSpPr>
          <p:spPr>
            <a:xfrm>
              <a:off x="2124000" y="4651200"/>
              <a:ext cx="564120" cy="397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108160" y="4791960"/>
              <a:ext cx="68112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PKEY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2108160" y="5459400"/>
            <a:ext cx="681120" cy="396720"/>
            <a:chOff x="2108160" y="5459400"/>
            <a:chExt cx="681120" cy="396720"/>
          </a:xfrm>
        </p:grpSpPr>
        <p:sp>
          <p:nvSpPr>
            <p:cNvPr id="943" name=""/>
            <p:cNvSpPr/>
            <p:nvPr/>
          </p:nvSpPr>
          <p:spPr>
            <a:xfrm>
              <a:off x="2124000" y="5459400"/>
              <a:ext cx="564120" cy="3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108160" y="5599800"/>
              <a:ext cx="68112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SK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2108160" y="5045040"/>
            <a:ext cx="681120" cy="397080"/>
            <a:chOff x="2108160" y="5045040"/>
            <a:chExt cx="681120" cy="397080"/>
          </a:xfrm>
        </p:grpSpPr>
        <p:sp>
          <p:nvSpPr>
            <p:cNvPr id="946" name=""/>
            <p:cNvSpPr/>
            <p:nvPr/>
          </p:nvSpPr>
          <p:spPr>
            <a:xfrm>
              <a:off x="2124000" y="5045040"/>
              <a:ext cx="564120" cy="397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108160" y="5185800"/>
              <a:ext cx="68112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SOURCE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sp>
        <p:nvSpPr>
          <p:cNvPr id="948" name=""/>
          <p:cNvSpPr/>
          <p:nvPr/>
        </p:nvSpPr>
        <p:spPr>
          <a:xfrm>
            <a:off x="2666880" y="3884760"/>
            <a:ext cx="736560" cy="590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717640" y="4357800"/>
            <a:ext cx="533520" cy="234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2717640" y="4710240"/>
            <a:ext cx="533520" cy="117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V="1">
            <a:off x="2641680" y="4815000"/>
            <a:ext cx="787320" cy="3650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V="1">
            <a:off x="2641680" y="4883040"/>
            <a:ext cx="914400" cy="649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62120" y="3124080"/>
            <a:ext cx="3174840" cy="28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629080" y="3343320"/>
            <a:ext cx="190440" cy="856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352680" y="3352680"/>
            <a:ext cx="190800" cy="856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828800" y="5248440"/>
            <a:ext cx="190440" cy="856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1066680" y="4997520"/>
            <a:ext cx="762120" cy="641160"/>
            <a:chOff x="1066680" y="4997520"/>
            <a:chExt cx="762120" cy="641160"/>
          </a:xfrm>
        </p:grpSpPr>
        <p:sp>
          <p:nvSpPr>
            <p:cNvPr id="958" name=""/>
            <p:cNvSpPr/>
            <p:nvPr/>
          </p:nvSpPr>
          <p:spPr>
            <a:xfrm>
              <a:off x="1066680" y="4997520"/>
              <a:ext cx="762120" cy="64116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105200" y="5254560"/>
              <a:ext cx="68688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LOOKUP_PS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Derived Provider Relationship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Vassiliadis,A.Simitsis,S.Skiadopoulos. Modeling ETL Activities as Graphs. DMDW'02 Toronto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BCC4F-479E-4C08-B272-500B2FEA71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 &amp; Mo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 Model for ETL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mportance Metrics for ETL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 and Future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Vassiliadis,A.Simitsis,S.Skiadopoulos. Modeling ETL Activities as Graphs. DMDW'02 Toronto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9DB9C-A46C-4C16-9D16-68195B14C9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mportance Metric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pendency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in-degree of the node with respect to the provider edg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Responsibility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out-degree of the node with respect to the provider edg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g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ependency + respons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Loc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ran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Vassiliadis,A.Simitsis,S.Skiadopoulos. Modeling ETL Activities as Graphs. DMDW'02 Toronto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4F7E7-B369-42DE-A05D-41C6482EF7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mportance Metric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319040" y="2720880"/>
            <a:ext cx="0" cy="48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494320" y="2676600"/>
            <a:ext cx="3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581200" y="2666880"/>
            <a:ext cx="331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913120" y="268128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332000" y="2716200"/>
            <a:ext cx="49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665360" y="2664000"/>
            <a:ext cx="249120" cy="11880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581200" y="2614680"/>
            <a:ext cx="249480" cy="11916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827680" y="268128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246560" y="2681280"/>
            <a:ext cx="0" cy="130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246560" y="2676600"/>
            <a:ext cx="49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578480" y="2624040"/>
            <a:ext cx="250560" cy="11916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494320" y="2620800"/>
            <a:ext cx="250920" cy="12240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1019160" y="3073320"/>
            <a:ext cx="703440" cy="600120"/>
            <a:chOff x="1019160" y="3073320"/>
            <a:chExt cx="703440" cy="600120"/>
          </a:xfrm>
        </p:grpSpPr>
        <p:sp>
          <p:nvSpPr>
            <p:cNvPr id="979" name=""/>
            <p:cNvSpPr/>
            <p:nvPr/>
          </p:nvSpPr>
          <p:spPr>
            <a:xfrm>
              <a:off x="1035720" y="3073320"/>
              <a:ext cx="582840" cy="60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019160" y="3285720"/>
              <a:ext cx="703440" cy="2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PKEY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2625840" y="3983040"/>
            <a:ext cx="704880" cy="600120"/>
            <a:chOff x="2625840" y="3983040"/>
            <a:chExt cx="704880" cy="600120"/>
          </a:xfrm>
        </p:grpSpPr>
        <p:sp>
          <p:nvSpPr>
            <p:cNvPr id="982" name=""/>
            <p:cNvSpPr/>
            <p:nvPr/>
          </p:nvSpPr>
          <p:spPr>
            <a:xfrm>
              <a:off x="2642400" y="3983040"/>
              <a:ext cx="583920" cy="60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625840" y="4195800"/>
              <a:ext cx="7048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SUPPKEY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2604960" y="3076560"/>
            <a:ext cx="704880" cy="600120"/>
            <a:chOff x="2604960" y="3076560"/>
            <a:chExt cx="704880" cy="600120"/>
          </a:xfrm>
        </p:grpSpPr>
        <p:sp>
          <p:nvSpPr>
            <p:cNvPr id="985" name=""/>
            <p:cNvSpPr/>
            <p:nvPr/>
          </p:nvSpPr>
          <p:spPr>
            <a:xfrm>
              <a:off x="2621520" y="3076560"/>
              <a:ext cx="583920" cy="60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604960" y="3288960"/>
              <a:ext cx="704880" cy="2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PKEY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3933720" y="3073320"/>
            <a:ext cx="703440" cy="600120"/>
            <a:chOff x="3933720" y="3073320"/>
            <a:chExt cx="703440" cy="600120"/>
          </a:xfrm>
        </p:grpSpPr>
        <p:sp>
          <p:nvSpPr>
            <p:cNvPr id="988" name=""/>
            <p:cNvSpPr/>
            <p:nvPr/>
          </p:nvSpPr>
          <p:spPr>
            <a:xfrm>
              <a:off x="3950280" y="3073320"/>
              <a:ext cx="582840" cy="60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933720" y="3285720"/>
              <a:ext cx="703440" cy="2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PKEY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5540400" y="3983040"/>
            <a:ext cx="704880" cy="600120"/>
            <a:chOff x="5540400" y="3983040"/>
            <a:chExt cx="704880" cy="600120"/>
          </a:xfrm>
        </p:grpSpPr>
        <p:sp>
          <p:nvSpPr>
            <p:cNvPr id="991" name=""/>
            <p:cNvSpPr/>
            <p:nvPr/>
          </p:nvSpPr>
          <p:spPr>
            <a:xfrm>
              <a:off x="5556960" y="3983040"/>
              <a:ext cx="583920" cy="60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540400" y="4195800"/>
              <a:ext cx="7048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SUPPKEY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5519880" y="3076560"/>
            <a:ext cx="703080" cy="600120"/>
            <a:chOff x="5519880" y="3076560"/>
            <a:chExt cx="703080" cy="600120"/>
          </a:xfrm>
        </p:grpSpPr>
        <p:sp>
          <p:nvSpPr>
            <p:cNvPr id="994" name=""/>
            <p:cNvSpPr/>
            <p:nvPr/>
          </p:nvSpPr>
          <p:spPr>
            <a:xfrm>
              <a:off x="5536440" y="3076560"/>
              <a:ext cx="582480" cy="60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519880" y="3288960"/>
              <a:ext cx="703080" cy="2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PKEY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grpSp>
        <p:nvGrpSpPr>
          <p:cNvPr id="996" name=""/>
          <p:cNvGrpSpPr/>
          <p:nvPr/>
        </p:nvGrpSpPr>
        <p:grpSpPr>
          <a:xfrm>
            <a:off x="3959280" y="3983040"/>
            <a:ext cx="703080" cy="600120"/>
            <a:chOff x="3959280" y="3983040"/>
            <a:chExt cx="703080" cy="600120"/>
          </a:xfrm>
        </p:grpSpPr>
        <p:sp>
          <p:nvSpPr>
            <p:cNvPr id="997" name=""/>
            <p:cNvSpPr/>
            <p:nvPr/>
          </p:nvSpPr>
          <p:spPr>
            <a:xfrm>
              <a:off x="3975840" y="3983040"/>
              <a:ext cx="582480" cy="60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959280" y="4195800"/>
              <a:ext cx="7030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SUPPKEY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5540400" y="4583160"/>
            <a:ext cx="704880" cy="601560"/>
            <a:chOff x="5540400" y="4583160"/>
            <a:chExt cx="704880" cy="601560"/>
          </a:xfrm>
        </p:grpSpPr>
        <p:sp>
          <p:nvSpPr>
            <p:cNvPr id="1000" name=""/>
            <p:cNvSpPr/>
            <p:nvPr/>
          </p:nvSpPr>
          <p:spPr>
            <a:xfrm>
              <a:off x="5556960" y="4583160"/>
              <a:ext cx="583920" cy="601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540400" y="4796280"/>
              <a:ext cx="704880" cy="2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SKEY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grpSp>
        <p:nvGrpSpPr>
          <p:cNvPr id="1002" name=""/>
          <p:cNvGrpSpPr/>
          <p:nvPr/>
        </p:nvGrpSpPr>
        <p:grpSpPr>
          <a:xfrm>
            <a:off x="1913400" y="2332800"/>
            <a:ext cx="685800" cy="796680"/>
            <a:chOff x="1913400" y="2332800"/>
            <a:chExt cx="685800" cy="796680"/>
          </a:xfrm>
        </p:grpSpPr>
        <p:sp>
          <p:nvSpPr>
            <p:cNvPr id="1003" name=""/>
            <p:cNvSpPr/>
            <p:nvPr/>
          </p:nvSpPr>
          <p:spPr>
            <a:xfrm rot="5394000">
              <a:off x="1858320" y="2388960"/>
              <a:ext cx="795600" cy="684360"/>
            </a:xfrm>
            <a:prstGeom prst="triangle">
              <a:avLst>
                <a:gd name="adj" fmla="val 48384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914480" y="2574000"/>
              <a:ext cx="6418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AddSPK1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grpSp>
        <p:nvGrpSpPr>
          <p:cNvPr id="1005" name=""/>
          <p:cNvGrpSpPr/>
          <p:nvPr/>
        </p:nvGrpSpPr>
        <p:grpSpPr>
          <a:xfrm>
            <a:off x="4827960" y="2320200"/>
            <a:ext cx="685800" cy="796320"/>
            <a:chOff x="4827960" y="2320200"/>
            <a:chExt cx="685800" cy="796320"/>
          </a:xfrm>
        </p:grpSpPr>
        <p:sp>
          <p:nvSpPr>
            <p:cNvPr id="1006" name=""/>
            <p:cNvSpPr/>
            <p:nvPr/>
          </p:nvSpPr>
          <p:spPr>
            <a:xfrm rot="5394000">
              <a:off x="4772880" y="2376000"/>
              <a:ext cx="795240" cy="684360"/>
            </a:xfrm>
            <a:prstGeom prst="triangle">
              <a:avLst>
                <a:gd name="adj" fmla="val 48384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829040" y="2561400"/>
              <a:ext cx="6418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SK1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sp>
        <p:nvSpPr>
          <p:cNvPr id="1008" name=""/>
          <p:cNvSpPr/>
          <p:nvPr/>
        </p:nvSpPr>
        <p:spPr>
          <a:xfrm>
            <a:off x="1514520" y="2443320"/>
            <a:ext cx="3333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IN</a:t>
            </a:r>
            <a:endParaRPr b="0" lang="en-US" sz="12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487760" y="2443320"/>
            <a:ext cx="3333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IN</a:t>
            </a:r>
            <a:endParaRPr b="0" lang="en-US" sz="12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655720" y="2443320"/>
            <a:ext cx="3337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OUT</a:t>
            </a:r>
            <a:endParaRPr b="0" lang="en-US" sz="12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486400" y="2443320"/>
            <a:ext cx="3333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OUT</a:t>
            </a:r>
            <a:endParaRPr b="0" lang="en-US" sz="12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7785000" y="4468680"/>
            <a:ext cx="749520" cy="84168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6823080" y="3989520"/>
            <a:ext cx="703080" cy="601560"/>
            <a:chOff x="6823080" y="3989520"/>
            <a:chExt cx="703080" cy="601560"/>
          </a:xfrm>
        </p:grpSpPr>
        <p:sp>
          <p:nvSpPr>
            <p:cNvPr id="1014" name=""/>
            <p:cNvSpPr/>
            <p:nvPr/>
          </p:nvSpPr>
          <p:spPr>
            <a:xfrm>
              <a:off x="6839640" y="3989520"/>
              <a:ext cx="582480" cy="601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823080" y="4202640"/>
              <a:ext cx="7030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PKEY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6823080" y="5191200"/>
            <a:ext cx="703080" cy="600120"/>
            <a:chOff x="6823080" y="5191200"/>
            <a:chExt cx="703080" cy="600120"/>
          </a:xfrm>
        </p:grpSpPr>
        <p:sp>
          <p:nvSpPr>
            <p:cNvPr id="1017" name=""/>
            <p:cNvSpPr/>
            <p:nvPr/>
          </p:nvSpPr>
          <p:spPr>
            <a:xfrm>
              <a:off x="6839640" y="5191200"/>
              <a:ext cx="582480" cy="60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823080" y="5403600"/>
              <a:ext cx="703080" cy="2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SK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6823080" y="4591080"/>
            <a:ext cx="703080" cy="600120"/>
            <a:chOff x="6823080" y="4591080"/>
            <a:chExt cx="703080" cy="600120"/>
          </a:xfrm>
        </p:grpSpPr>
        <p:sp>
          <p:nvSpPr>
            <p:cNvPr id="1020" name=""/>
            <p:cNvSpPr/>
            <p:nvPr/>
          </p:nvSpPr>
          <p:spPr>
            <a:xfrm>
              <a:off x="6839640" y="4591080"/>
              <a:ext cx="582480" cy="60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823080" y="4803480"/>
              <a:ext cx="703080" cy="2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Courier New"/>
                </a:rPr>
                <a:t>SOURCE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sp>
        <p:nvSpPr>
          <p:cNvPr id="1022" name=""/>
          <p:cNvSpPr/>
          <p:nvPr/>
        </p:nvSpPr>
        <p:spPr>
          <a:xfrm>
            <a:off x="7823160" y="4830840"/>
            <a:ext cx="711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LOOKUP_PS</a:t>
            </a:r>
            <a:endParaRPr b="0" lang="en-US" sz="12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 flipV="1">
            <a:off x="7451280" y="4468320"/>
            <a:ext cx="166680" cy="48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H="1">
            <a:off x="7451280" y="4950000"/>
            <a:ext cx="120600" cy="48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7451640" y="4950000"/>
            <a:ext cx="8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614600" y="3333600"/>
            <a:ext cx="1000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4529160" y="3333600"/>
            <a:ext cx="998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184560" y="3336840"/>
            <a:ext cx="749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575240" y="4243320"/>
            <a:ext cx="998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243240" y="4243320"/>
            <a:ext cx="749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1139760" y="1960200"/>
            <a:ext cx="0" cy="1082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1139760" y="1960560"/>
            <a:ext cx="480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945040" y="1960560"/>
            <a:ext cx="0" cy="120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113360" y="1960560"/>
            <a:ext cx="0" cy="120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055960" y="3976560"/>
            <a:ext cx="3663360" cy="480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044" y="18316"/>
                </a:moveTo>
                <a:arcTo wR="10800" hR="10800" stAng="8154114" swAng="13445886"/>
                <a:lnTo>
                  <a:pt x="10800" y="10800"/>
                </a:lnTo>
                <a:close/>
              </a:path>
              <a:path fill="none" w="21600" h="21600">
                <a:moveTo>
                  <a:pt x="3044" y="18316"/>
                </a:moveTo>
                <a:arcTo wR="10800" hR="10800" stAng="8154114" swAng="13445886"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V="1">
            <a:off x="2117880" y="3421080"/>
            <a:ext cx="3663360" cy="47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549" y="17769"/>
                </a:moveTo>
                <a:arcTo wR="10800" hR="10800" stAng="8388873" swAng="13211127"/>
                <a:lnTo>
                  <a:pt x="10800" y="10800"/>
                </a:lnTo>
                <a:close/>
              </a:path>
              <a:path fill="none" w="21600" h="21600">
                <a:moveTo>
                  <a:pt x="2549" y="17769"/>
                </a:moveTo>
                <a:arcTo wR="10800" hR="10800" stAng="8388873" swAng="13211127"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470480" y="3495600"/>
            <a:ext cx="1166760" cy="1322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470480" y="4456080"/>
            <a:ext cx="1082520" cy="4809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V="1">
            <a:off x="1973160" y="3294000"/>
            <a:ext cx="3828960" cy="211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044" y="18316"/>
                </a:moveTo>
                <a:arcTo wR="10800" hR="10800" stAng="8154114" swAng="11224461"/>
                <a:lnTo>
                  <a:pt x="10800" y="10800"/>
                </a:lnTo>
                <a:close/>
              </a:path>
              <a:path fill="none" w="21600" h="21600">
                <a:moveTo>
                  <a:pt x="3044" y="18316"/>
                </a:moveTo>
                <a:arcTo wR="10800" hR="10800" stAng="8154114" swAng="11224461"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138480" y="4456080"/>
            <a:ext cx="2247840" cy="480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535880" y="4870440"/>
            <a:ext cx="249120" cy="11916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6119640" y="4230720"/>
            <a:ext cx="749520" cy="479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H="1">
            <a:off x="6202440" y="4950000"/>
            <a:ext cx="6667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H="1" flipV="1">
            <a:off x="6119640" y="5191200"/>
            <a:ext cx="665280" cy="358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6095880" y="2597040"/>
            <a:ext cx="2667240" cy="2051280"/>
            <a:chOff x="6095880" y="2597040"/>
            <a:chExt cx="2667240" cy="2051280"/>
          </a:xfrm>
        </p:grpSpPr>
        <p:sp>
          <p:nvSpPr>
            <p:cNvPr id="1046" name=""/>
            <p:cNvSpPr/>
            <p:nvPr/>
          </p:nvSpPr>
          <p:spPr>
            <a:xfrm>
              <a:off x="6477120" y="2597040"/>
              <a:ext cx="2286000" cy="82548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Vulnerable point in the scenario</a:t>
              </a:r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H="1">
              <a:off x="6095880" y="3429000"/>
              <a:ext cx="1067040" cy="121932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graphicFrame>
        <p:nvGraphicFramePr>
          <p:cNvPr id="1048" name=""/>
          <p:cNvGraphicFramePr/>
          <p:nvPr/>
        </p:nvGraphicFramePr>
        <p:xfrm>
          <a:off x="6019920" y="838080"/>
          <a:ext cx="2971800" cy="1650960"/>
        </p:xfrm>
        <a:graphic>
          <a:graphicData uri="http://schemas.openxmlformats.org/drawingml/2006/table">
            <a:tbl>
              <a:tblPr/>
              <a:tblGrid>
                <a:gridCol w="938160"/>
                <a:gridCol w="635040"/>
                <a:gridCol w="636480"/>
                <a:gridCol w="762120"/>
              </a:tblGrid>
              <a:tr h="27936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Transitive:</a:t>
                      </a:r>
                      <a:endParaRPr b="0" lang="en-US" sz="1200" spc="-1" strike="noStrike">
                        <a:solidFill>
                          <a:srgbClr val="00172e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172e"/>
                      </a:solidFill>
                    </a:lnL>
                    <a:lnR w="5760">
                      <a:solidFill>
                        <a:srgbClr val="00172e"/>
                      </a:solidFill>
                    </a:lnR>
                    <a:lnT w="13680">
                      <a:solidFill>
                        <a:srgbClr val="00172e"/>
                      </a:solidFill>
                    </a:lnT>
                    <a:lnB w="5760">
                      <a:solidFill>
                        <a:srgbClr val="00172e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n</a:t>
                      </a:r>
                      <a:endParaRPr b="0" lang="en-US" sz="1400" spc="-1" strike="noStrike">
                        <a:solidFill>
                          <a:srgbClr val="00172e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172e"/>
                      </a:solidFill>
                    </a:lnL>
                    <a:lnR w="5760">
                      <a:solidFill>
                        <a:srgbClr val="00172e"/>
                      </a:solidFill>
                    </a:lnR>
                    <a:lnT w="13680">
                      <a:solidFill>
                        <a:srgbClr val="00172e"/>
                      </a:solidFill>
                    </a:lnT>
                    <a:lnB w="5760">
                      <a:solidFill>
                        <a:srgbClr val="00172e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Out</a:t>
                      </a:r>
                      <a:endParaRPr b="0" lang="en-US" sz="1400" spc="-1" strike="noStrike">
                        <a:solidFill>
                          <a:srgbClr val="00172e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172e"/>
                      </a:solidFill>
                    </a:lnL>
                    <a:lnR w="5760">
                      <a:solidFill>
                        <a:srgbClr val="00172e"/>
                      </a:solidFill>
                    </a:lnR>
                    <a:lnT w="13680">
                      <a:solidFill>
                        <a:srgbClr val="00172e"/>
                      </a:solidFill>
                    </a:lnT>
                    <a:lnB w="5760">
                      <a:solidFill>
                        <a:srgbClr val="00172e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eg</a:t>
                      </a:r>
                      <a:endParaRPr b="0" lang="en-US" sz="1400" spc="-1" strike="noStrike">
                        <a:solidFill>
                          <a:srgbClr val="00172e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172e"/>
                      </a:solidFill>
                    </a:lnL>
                    <a:lnR w="13680">
                      <a:solidFill>
                        <a:srgbClr val="00172e"/>
                      </a:solidFill>
                    </a:lnR>
                    <a:lnT w="13680">
                      <a:solidFill>
                        <a:srgbClr val="00172e"/>
                      </a:solidFill>
                    </a:lnT>
                    <a:lnB w="5760">
                      <a:solidFill>
                        <a:srgbClr val="00172e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30492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SKEY</a:t>
                      </a:r>
                      <a:endParaRPr b="0" lang="en-US" sz="1400" spc="-1" strike="noStrike">
                        <a:solidFill>
                          <a:srgbClr val="00172e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172e"/>
                      </a:solidFill>
                    </a:lnL>
                    <a:lnR w="5760">
                      <a:solidFill>
                        <a:srgbClr val="00172e"/>
                      </a:solidFill>
                    </a:lnR>
                    <a:lnT w="5760">
                      <a:solidFill>
                        <a:srgbClr val="00172e"/>
                      </a:solidFill>
                    </a:lnT>
                    <a:lnB w="5760">
                      <a:solidFill>
                        <a:srgbClr val="00172e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172e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172e"/>
                      </a:solidFill>
                    </a:lnL>
                    <a:lnR w="5760">
                      <a:solidFill>
                        <a:srgbClr val="00172e"/>
                      </a:solidFill>
                    </a:lnR>
                    <a:lnT w="5760">
                      <a:solidFill>
                        <a:srgbClr val="00172e"/>
                      </a:solidFill>
                    </a:lnT>
                    <a:lnB w="5760">
                      <a:solidFill>
                        <a:srgbClr val="00172e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172e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172e"/>
                      </a:solidFill>
                    </a:lnL>
                    <a:lnR w="5760">
                      <a:solidFill>
                        <a:srgbClr val="00172e"/>
                      </a:solidFill>
                    </a:lnR>
                    <a:lnT w="5760">
                      <a:solidFill>
                        <a:srgbClr val="00172e"/>
                      </a:solidFill>
                    </a:lnT>
                    <a:lnB w="5760">
                      <a:solidFill>
                        <a:srgbClr val="00172e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172e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172e"/>
                      </a:solidFill>
                    </a:lnL>
                    <a:lnR w="13680">
                      <a:solidFill>
                        <a:srgbClr val="00172e"/>
                      </a:solidFill>
                    </a:lnR>
                    <a:lnT w="5760">
                      <a:solidFill>
                        <a:srgbClr val="00172e"/>
                      </a:solidFill>
                    </a:lnT>
                    <a:lnB w="5760">
                      <a:solidFill>
                        <a:srgbClr val="00172e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53352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vg/</a:t>
                      </a:r>
                      <a:endParaRPr b="0" lang="en-US" sz="1400" spc="-1" strike="noStrike">
                        <a:solidFill>
                          <a:srgbClr val="00172e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ttribute</a:t>
                      </a:r>
                      <a:endParaRPr b="0" lang="en-US" sz="1400" spc="-1" strike="noStrike">
                        <a:solidFill>
                          <a:srgbClr val="00172e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172e"/>
                      </a:solidFill>
                    </a:lnL>
                    <a:lnR w="5760">
                      <a:solidFill>
                        <a:srgbClr val="00172e"/>
                      </a:solidFill>
                    </a:lnR>
                    <a:lnT w="5760">
                      <a:solidFill>
                        <a:srgbClr val="00172e"/>
                      </a:solidFill>
                    </a:lnT>
                    <a:lnB w="5760">
                      <a:solidFill>
                        <a:srgbClr val="00172e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.83</a:t>
                      </a:r>
                      <a:endParaRPr b="0" lang="en-US" sz="1400" spc="-1" strike="noStrike">
                        <a:solidFill>
                          <a:srgbClr val="00172e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172e"/>
                      </a:solidFill>
                    </a:lnL>
                    <a:lnR w="5760">
                      <a:solidFill>
                        <a:srgbClr val="00172e"/>
                      </a:solidFill>
                    </a:lnR>
                    <a:lnT w="5760">
                      <a:solidFill>
                        <a:srgbClr val="00172e"/>
                      </a:solidFill>
                    </a:lnT>
                    <a:lnB w="5760">
                      <a:solidFill>
                        <a:srgbClr val="00172e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.83</a:t>
                      </a:r>
                      <a:endParaRPr b="0" lang="en-US" sz="1400" spc="-1" strike="noStrike">
                        <a:solidFill>
                          <a:srgbClr val="00172e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172e"/>
                      </a:solidFill>
                    </a:lnL>
                    <a:lnR w="5760">
                      <a:solidFill>
                        <a:srgbClr val="00172e"/>
                      </a:solidFill>
                    </a:lnR>
                    <a:lnT w="5760">
                      <a:solidFill>
                        <a:srgbClr val="00172e"/>
                      </a:solidFill>
                    </a:lnT>
                    <a:lnB w="5760">
                      <a:solidFill>
                        <a:srgbClr val="00172e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5.67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1400" spc="-1" strike="noStrike">
                        <a:solidFill>
                          <a:srgbClr val="00172e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172e"/>
                      </a:solidFill>
                    </a:lnL>
                    <a:lnR w="13680">
                      <a:solidFill>
                        <a:srgbClr val="00172e"/>
                      </a:solidFill>
                    </a:lnR>
                    <a:lnT w="5760">
                      <a:solidFill>
                        <a:srgbClr val="00172e"/>
                      </a:solidFill>
                    </a:lnT>
                    <a:lnB w="5760">
                      <a:solidFill>
                        <a:srgbClr val="00172e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53316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vg/</a:t>
                      </a:r>
                      <a:endParaRPr b="0" lang="en-US" sz="1400" spc="-1" strike="noStrike">
                        <a:solidFill>
                          <a:srgbClr val="00172e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ntity</a:t>
                      </a:r>
                      <a:endParaRPr b="0" lang="en-US" sz="1400" spc="-1" strike="noStrike">
                        <a:solidFill>
                          <a:srgbClr val="00172e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172e"/>
                      </a:solidFill>
                    </a:lnL>
                    <a:lnR w="5760">
                      <a:solidFill>
                        <a:srgbClr val="00172e"/>
                      </a:solidFill>
                    </a:lnR>
                    <a:lnT w="5760">
                      <a:solidFill>
                        <a:srgbClr val="00172e"/>
                      </a:solidFill>
                    </a:lnT>
                    <a:lnB w="13680">
                      <a:solidFill>
                        <a:srgbClr val="00172e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5.67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1400" spc="-1" strike="noStrike">
                        <a:solidFill>
                          <a:srgbClr val="00172e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172e"/>
                      </a:solidFill>
                    </a:lnL>
                    <a:lnR w="5760">
                      <a:solidFill>
                        <a:srgbClr val="00172e"/>
                      </a:solidFill>
                    </a:lnR>
                    <a:lnT w="5760">
                      <a:solidFill>
                        <a:srgbClr val="00172e"/>
                      </a:solidFill>
                    </a:lnT>
                    <a:lnB w="13680">
                      <a:solidFill>
                        <a:srgbClr val="00172e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5.67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1400" spc="-1" strike="noStrike">
                        <a:solidFill>
                          <a:srgbClr val="00172e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172e"/>
                      </a:solidFill>
                    </a:lnL>
                    <a:lnR w="5760">
                      <a:solidFill>
                        <a:srgbClr val="00172e"/>
                      </a:solidFill>
                    </a:lnR>
                    <a:lnT w="5760">
                      <a:solidFill>
                        <a:srgbClr val="00172e"/>
                      </a:solidFill>
                    </a:lnT>
                    <a:lnB w="13680">
                      <a:solidFill>
                        <a:srgbClr val="00172e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1.33</a:t>
                      </a:r>
                      <a:endParaRPr b="0" lang="en-US" sz="1400" spc="-1" strike="noStrike">
                        <a:solidFill>
                          <a:srgbClr val="00172e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172e"/>
                      </a:solidFill>
                    </a:lnL>
                    <a:lnR w="13680">
                      <a:solidFill>
                        <a:srgbClr val="00172e"/>
                      </a:solidFill>
                    </a:lnR>
                    <a:lnT w="5760">
                      <a:solidFill>
                        <a:srgbClr val="00172e"/>
                      </a:solidFill>
                    </a:lnT>
                    <a:lnB w="13680">
                      <a:solidFill>
                        <a:srgbClr val="00172e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049" name=""/>
          <p:cNvSpPr/>
          <p:nvPr/>
        </p:nvSpPr>
        <p:spPr>
          <a:xfrm flipV="1">
            <a:off x="838080" y="3183480"/>
            <a:ext cx="5253840" cy="2342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21" y="17228"/>
                </a:moveTo>
                <a:arcTo wR="10800" hR="10800" stAng="8608517" swAng="10770059"/>
                <a:lnTo>
                  <a:pt x="10800" y="10800"/>
                </a:lnTo>
                <a:close/>
              </a:path>
              <a:path fill="none" w="21600" h="21600">
                <a:moveTo>
                  <a:pt x="2121" y="17228"/>
                </a:moveTo>
                <a:arcTo wR="10800" hR="10800" stAng="8608517" swAng="10770059"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Vassiliadis,A.Simitsis,S.Skiadopoulos. Modeling ETL Activities as Graphs. DMDW'02 Toronto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4441F-A182-42C4-8516-44740939992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 &amp; Mo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 Model for ETL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rtance Metrics for ETL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onclusions and Future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Vassiliadis,A.Simitsis,S.Skiadopoulos. Modeling ETL Activities as Graphs. DMDW'02 Toronto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FA60A-1200-4787-B06B-0A1DA08EB67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 &amp; Mo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 Model for ETL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rtance Metrics for ETL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 and Future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Vassiliadis,A.Simitsis,S.Skiadopoulos. Modeling ETL Activities as Graphs. DMDW'02 Toronto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90B50-FC6C-4E91-A698-2E19312093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nswers to motivating ques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part of the scenario is affected if we delete an attribu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attributes/tables are involved in the population of an attribut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838080" y="42670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ransitive dependencies and responsibilities</a:t>
            </a:r>
            <a:endParaRPr b="0" lang="en-US" sz="32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Vassiliadis,A.Simitsis,S.Skiadopoulos. Modeling ETL Activities as Graphs. DMDW'02 Toronto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B1149-38A2-4680-A1F9-2BE716CF83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“good” is my design of the ETL scenari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nswers to motivating ques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85800" y="274320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Vulner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ints</a:t>
            </a:r>
            <a:endParaRPr b="0" lang="en-US" sz="2800" spc="-1" strike="noStrike">
              <a:solidFill>
                <a:srgbClr val="00172e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ction of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nconsistenc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172e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ction of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mportant data stores</a:t>
            </a:r>
            <a:endParaRPr b="0" lang="en-US" sz="2800" spc="-1" strike="noStrike">
              <a:solidFill>
                <a:srgbClr val="00172e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ction of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usel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ource)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ttribu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Vassiliadis,A.Simitsis,S.Skiadopoulos. Modeling ETL Activities as Graphs. DMDW'02 Toronto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ECEA8-11C9-47DF-8EDA-93CDE418C35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ursa_major_logo" descr=""/>
          <p:cNvPicPr/>
          <p:nvPr/>
        </p:nvPicPr>
        <p:blipFill>
          <a:blip r:embed="rId1"/>
          <a:stretch/>
        </p:blipFill>
        <p:spPr>
          <a:xfrm>
            <a:off x="685800" y="5867280"/>
            <a:ext cx="1295280" cy="573120"/>
          </a:xfrm>
          <a:prstGeom prst="rect">
            <a:avLst/>
          </a:prstGeom>
          <a:ln w="0">
            <a:noFill/>
          </a:ln>
        </p:spPr>
      </p:pic>
      <p:sp>
        <p:nvSpPr>
          <p:cNvPr id="1059" name=""/>
          <p:cNvSpPr/>
          <p:nvPr/>
        </p:nvSpPr>
        <p:spPr>
          <a:xfrm>
            <a:off x="190440" y="5334120"/>
            <a:ext cx="8763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http://www.dblab.ece.ntua.gr/~pvassil/projects/arktos_II</a:t>
            </a:r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n-going/Future Work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85800" y="1676520"/>
            <a:ext cx="77724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The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rktos II</a:t>
            </a: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 project </a:t>
            </a:r>
            <a:r>
              <a:rPr b="0" lang="en-GB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is aimed towards</a:t>
            </a: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 the</a:t>
            </a:r>
            <a:endParaRPr b="0" lang="en-US" sz="3200" spc="-1" strike="noStrike">
              <a:solidFill>
                <a:srgbClr val="00172e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Conceptual modeling</a:t>
            </a:r>
            <a:endParaRPr b="0" lang="en-US" sz="3200" spc="-1" strike="noStrike">
              <a:solidFill>
                <a:srgbClr val="00172e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Logical modeling</a:t>
            </a:r>
            <a:endParaRPr b="0" lang="en-US" sz="3200" spc="-1" strike="noStrike">
              <a:solidFill>
                <a:srgbClr val="00172e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Optimization</a:t>
            </a:r>
            <a:endParaRPr b="0" lang="en-US" sz="3200" spc="-1" strike="noStrike">
              <a:solidFill>
                <a:srgbClr val="00172e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What-if analysis</a:t>
            </a:r>
            <a:endParaRPr b="0" lang="en-US" sz="3200" spc="-1" strike="noStrike">
              <a:solidFill>
                <a:srgbClr val="00172e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of ETL scenarios</a:t>
            </a:r>
            <a:endParaRPr b="0" lang="en-US" sz="32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Vassiliadis,A.Simitsis,S.Skiadopoulos. Modeling ETL Activities as Graphs. DMDW'02 Toronto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B3A32-4106-4079-9C56-F2877839F36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any thanks to our hosts…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063" name=""/>
          <p:cNvGraphicFramePr/>
          <p:nvPr/>
        </p:nvGraphicFramePr>
        <p:xfrm>
          <a:off x="2400480" y="2362320"/>
          <a:ext cx="4343400" cy="215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0480" y="2362320"/>
                    <a:ext cx="434340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Vassiliadis,A.Simitsis,S.Skiadopoulos. Modeling ETL Activities as Graphs. DMDW'02 Toronto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56055-7448-41B2-8FB5-457006CED4B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066" name="" descr=""/>
          <p:cNvPicPr/>
          <p:nvPr/>
        </p:nvPicPr>
        <p:blipFill>
          <a:blip r:embed="rId1"/>
          <a:stretch/>
        </p:blipFill>
        <p:spPr>
          <a:xfrm>
            <a:off x="2571840" y="1244520"/>
            <a:ext cx="398124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Vassiliadis,A.Simitsis,S.Skiadopoulos. Modeling ETL Activities as Graphs. DMDW'02 Toronto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34C08-FB80-42E8-96B1-59AB3EB87A0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"/>
          <p:cNvGrpSpPr/>
          <p:nvPr/>
        </p:nvGrpSpPr>
        <p:grpSpPr>
          <a:xfrm>
            <a:off x="762120" y="1676520"/>
            <a:ext cx="7695720" cy="4419000"/>
            <a:chOff x="762120" y="1676520"/>
            <a:chExt cx="7695720" cy="4419000"/>
          </a:xfrm>
        </p:grpSpPr>
        <p:sp>
          <p:nvSpPr>
            <p:cNvPr id="1068" name=""/>
            <p:cNvSpPr/>
            <p:nvPr/>
          </p:nvSpPr>
          <p:spPr>
            <a:xfrm>
              <a:off x="7257600" y="1676520"/>
              <a:ext cx="1200240" cy="2793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088440" y="1677600"/>
              <a:ext cx="3812400" cy="2793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903240" y="2983320"/>
              <a:ext cx="705960" cy="57492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72e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grpSp>
          <p:nvGrpSpPr>
            <p:cNvPr id="1071" name=""/>
            <p:cNvGrpSpPr/>
            <p:nvPr/>
          </p:nvGrpSpPr>
          <p:grpSpPr>
            <a:xfrm>
              <a:off x="1891800" y="2245320"/>
              <a:ext cx="917640" cy="1969560"/>
              <a:chOff x="1891800" y="2245320"/>
              <a:chExt cx="917640" cy="1969560"/>
            </a:xfrm>
          </p:grpSpPr>
          <p:sp>
            <p:nvSpPr>
              <p:cNvPr id="1072" name=""/>
              <p:cNvSpPr/>
              <p:nvPr/>
            </p:nvSpPr>
            <p:spPr>
              <a:xfrm>
                <a:off x="1891800" y="2245320"/>
                <a:ext cx="917640" cy="19695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103480" y="2409120"/>
                <a:ext cx="493920" cy="32832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172e"/>
                    </a:solidFill>
                    <a:latin typeface="Times New Roman"/>
                  </a:rPr>
                  <a:t>A</a:t>
                </a:r>
                <a:r>
                  <a:rPr b="1" lang="en-US" sz="1200" spc="-1" strike="noStrike" baseline="-25000">
                    <a:solidFill>
                      <a:srgbClr val="00172e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2103480" y="2846880"/>
                <a:ext cx="493920" cy="32832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172e"/>
                    </a:solidFill>
                    <a:latin typeface="Times New Roman"/>
                  </a:rPr>
                  <a:t>A</a:t>
                </a:r>
                <a:r>
                  <a:rPr b="1" lang="en-US" sz="1200" spc="-1" strike="noStrike" baseline="-25000">
                    <a:solidFill>
                      <a:srgbClr val="00172e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103480" y="3284280"/>
                <a:ext cx="493920" cy="32832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172e"/>
                    </a:solidFill>
                    <a:latin typeface="Times New Roman"/>
                  </a:rPr>
                  <a:t>A</a:t>
                </a:r>
                <a:r>
                  <a:rPr b="1" lang="en-US" sz="1200" spc="-1" strike="noStrike" baseline="-25000">
                    <a:solidFill>
                      <a:srgbClr val="00172e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103480" y="3722400"/>
                <a:ext cx="493920" cy="32832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172e"/>
                    </a:solidFill>
                    <a:latin typeface="Times New Roman"/>
                  </a:rPr>
                  <a:t>A</a:t>
                </a:r>
                <a:r>
                  <a:rPr b="1" lang="en-US" sz="1200" spc="-1" strike="noStrike" baseline="-25000">
                    <a:solidFill>
                      <a:srgbClr val="00172e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sp>
          <p:nvSpPr>
            <p:cNvPr id="1077" name=""/>
            <p:cNvSpPr/>
            <p:nvPr/>
          </p:nvSpPr>
          <p:spPr>
            <a:xfrm>
              <a:off x="1609200" y="3229560"/>
              <a:ext cx="28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grpSp>
          <p:nvGrpSpPr>
            <p:cNvPr id="1078" name=""/>
            <p:cNvGrpSpPr/>
            <p:nvPr/>
          </p:nvGrpSpPr>
          <p:grpSpPr>
            <a:xfrm>
              <a:off x="7257600" y="2253240"/>
              <a:ext cx="917640" cy="1969200"/>
              <a:chOff x="7257600" y="2253240"/>
              <a:chExt cx="917640" cy="1969200"/>
            </a:xfrm>
          </p:grpSpPr>
          <p:sp>
            <p:nvSpPr>
              <p:cNvPr id="1079" name=""/>
              <p:cNvSpPr/>
              <p:nvPr/>
            </p:nvSpPr>
            <p:spPr>
              <a:xfrm>
                <a:off x="7257600" y="2253240"/>
                <a:ext cx="917640" cy="1969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469280" y="2417040"/>
                <a:ext cx="493920" cy="32796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172e"/>
                    </a:solidFill>
                    <a:latin typeface="Times New Roman"/>
                  </a:rPr>
                  <a:t>A</a:t>
                </a:r>
                <a:r>
                  <a:rPr b="1" lang="en-US" sz="1200" spc="-1" strike="noStrike" baseline="-25000">
                    <a:solidFill>
                      <a:srgbClr val="00172e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7469280" y="2854440"/>
                <a:ext cx="493920" cy="32796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172e"/>
                    </a:solidFill>
                    <a:latin typeface="Times New Roman"/>
                  </a:rPr>
                  <a:t>A</a:t>
                </a:r>
                <a:r>
                  <a:rPr b="1" lang="en-US" sz="1200" spc="-1" strike="noStrike" baseline="-25000">
                    <a:solidFill>
                      <a:srgbClr val="00172e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469280" y="3292200"/>
                <a:ext cx="493920" cy="32796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172e"/>
                    </a:solidFill>
                    <a:latin typeface="Times New Roman"/>
                  </a:rPr>
                  <a:t>A</a:t>
                </a:r>
                <a:r>
                  <a:rPr b="1" lang="en-US" sz="1200" spc="-1" strike="noStrike" baseline="-25000">
                    <a:solidFill>
                      <a:srgbClr val="00172e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469280" y="3730320"/>
                <a:ext cx="493920" cy="32796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172e"/>
                    </a:solidFill>
                    <a:latin typeface="Times New Roman"/>
                  </a:rPr>
                  <a:t>A</a:t>
                </a:r>
                <a:r>
                  <a:rPr b="1" lang="en-US" sz="1200" spc="-1" strike="noStrike" baseline="-25000">
                    <a:solidFill>
                      <a:srgbClr val="00172e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172e"/>
                  </a:solidFill>
                  <a:latin typeface="Times New Roman"/>
                </a:endParaRPr>
              </a:p>
            </p:txBody>
          </p:sp>
        </p:grpSp>
        <p:sp>
          <p:nvSpPr>
            <p:cNvPr id="1084" name=""/>
            <p:cNvSpPr/>
            <p:nvPr/>
          </p:nvSpPr>
          <p:spPr>
            <a:xfrm>
              <a:off x="4323960" y="1878480"/>
              <a:ext cx="808200" cy="491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426560" y="1960200"/>
              <a:ext cx="564480" cy="3286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72e"/>
                  </a:solidFill>
                  <a:latin typeface="Times New Roman"/>
                </a:rPr>
                <a:t>IN.A</a:t>
              </a:r>
              <a:r>
                <a:rPr b="1" lang="en-US" sz="1200" spc="-1" strike="noStrike" baseline="-25000">
                  <a:solidFill>
                    <a:srgbClr val="00172e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213880" y="4296240"/>
              <a:ext cx="0" cy="65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088440" y="2245320"/>
              <a:ext cx="705960" cy="19695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159000" y="2408400"/>
              <a:ext cx="493920" cy="3286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72e"/>
                  </a:solidFill>
                  <a:latin typeface="Times New Roman"/>
                </a:rPr>
                <a:t>A</a:t>
              </a:r>
              <a:r>
                <a:rPr b="1" lang="en-US" sz="1200" spc="-1" strike="noStrike" baseline="-25000">
                  <a:solidFill>
                    <a:srgbClr val="00172e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159000" y="2846160"/>
              <a:ext cx="493920" cy="3286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72e"/>
                  </a:solidFill>
                  <a:latin typeface="Times New Roman"/>
                </a:rPr>
                <a:t>A</a:t>
              </a:r>
              <a:r>
                <a:rPr b="1" lang="en-US" sz="1200" spc="-1" strike="noStrike" baseline="-25000">
                  <a:solidFill>
                    <a:srgbClr val="00172e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159000" y="3283560"/>
              <a:ext cx="493920" cy="3290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72e"/>
                  </a:solidFill>
                  <a:latin typeface="Times New Roman"/>
                </a:rPr>
                <a:t>A</a:t>
              </a:r>
              <a:r>
                <a:rPr b="1" lang="en-US" sz="1200" spc="-1" strike="noStrike" baseline="-25000">
                  <a:solidFill>
                    <a:srgbClr val="00172e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159000" y="3723120"/>
              <a:ext cx="493920" cy="326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72e"/>
                  </a:solidFill>
                  <a:latin typeface="Times New Roman"/>
                </a:rPr>
                <a:t>A</a:t>
              </a:r>
              <a:r>
                <a:rPr b="1" lang="en-US" sz="1200" spc="-1" strike="noStrike" baseline="-25000">
                  <a:solidFill>
                    <a:srgbClr val="00172e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194880" y="2253240"/>
              <a:ext cx="705960" cy="19692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336000" y="2417400"/>
              <a:ext cx="494280" cy="3272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72e"/>
                  </a:solidFill>
                  <a:latin typeface="Times New Roman"/>
                </a:rPr>
                <a:t>A</a:t>
              </a:r>
              <a:r>
                <a:rPr b="1" lang="en-US" sz="1200" spc="-1" strike="noStrike" baseline="-25000">
                  <a:solidFill>
                    <a:srgbClr val="00172e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336000" y="2855160"/>
              <a:ext cx="494280" cy="3272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72e"/>
                  </a:solidFill>
                  <a:latin typeface="Times New Roman"/>
                </a:rPr>
                <a:t>A</a:t>
              </a:r>
              <a:r>
                <a:rPr b="1" lang="en-US" sz="1200" spc="-1" strike="noStrike" baseline="-25000">
                  <a:solidFill>
                    <a:srgbClr val="00172e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336000" y="3292920"/>
              <a:ext cx="494280" cy="3272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72e"/>
                  </a:solidFill>
                  <a:latin typeface="Times New Roman"/>
                </a:rPr>
                <a:t>A</a:t>
              </a:r>
              <a:r>
                <a:rPr b="1" lang="en-US" sz="1200" spc="-1" strike="noStrike" baseline="-25000">
                  <a:solidFill>
                    <a:srgbClr val="00172e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336000" y="3730680"/>
              <a:ext cx="494280" cy="3286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72e"/>
                  </a:solidFill>
                  <a:latin typeface="Times New Roman"/>
                </a:rPr>
                <a:t>A</a:t>
              </a:r>
              <a:r>
                <a:rPr b="1" lang="en-US" sz="1200" spc="-1" strike="noStrike" baseline="-25000">
                  <a:solidFill>
                    <a:srgbClr val="00172e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229560" y="2088360"/>
              <a:ext cx="423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72e"/>
                  </a:solidFill>
                  <a:latin typeface="Times New Roman"/>
                </a:rPr>
                <a:t>IN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265800" y="2088360"/>
              <a:ext cx="423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72e"/>
                  </a:solidFill>
                  <a:latin typeface="Times New Roman"/>
                </a:rPr>
                <a:t>OUT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812040" y="1704960"/>
              <a:ext cx="174744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72e"/>
                  </a:solidFill>
                  <a:latin typeface="Times New Roman"/>
                </a:rPr>
                <a:t>POPULATED_FIELD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597760" y="2572920"/>
              <a:ext cx="56124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597760" y="3887280"/>
              <a:ext cx="56124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597760" y="2983320"/>
              <a:ext cx="56124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594520" y="3476880"/>
              <a:ext cx="56448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653280" y="2580120"/>
              <a:ext cx="268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653280" y="2990880"/>
              <a:ext cx="268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653280" y="3484440"/>
              <a:ext cx="268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653280" y="3894840"/>
              <a:ext cx="268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900840" y="2580120"/>
              <a:ext cx="561240" cy="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900840" y="3894840"/>
              <a:ext cx="56124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900840" y="2990880"/>
              <a:ext cx="56124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897600" y="3484440"/>
              <a:ext cx="56448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605600" y="3182760"/>
              <a:ext cx="141120" cy="8280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536600" y="2088360"/>
              <a:ext cx="423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72e"/>
                  </a:solidFill>
                  <a:latin typeface="Times New Roman"/>
                </a:rPr>
                <a:t>IN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8454240" y="1677600"/>
              <a:ext cx="0" cy="2792160"/>
            </a:xfrm>
            <a:prstGeom prst="line">
              <a:avLst/>
            </a:prstGeom>
            <a:ln w="255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931280" y="4953240"/>
              <a:ext cx="3318120" cy="1142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5360" indent="-22536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172e"/>
                  </a:solidFill>
                  <a:latin typeface="Courier New"/>
                </a:rPr>
                <a:t>SELECT IN.A1 AS OUT.A1, IN.A2 AS OUT.A2,IN.A</a:t>
              </a:r>
              <a:r>
                <a:rPr b="0" lang="en-US" sz="1400" spc="-1" strike="noStrike">
                  <a:solidFill>
                    <a:srgbClr val="00172e"/>
                  </a:solidFill>
                  <a:latin typeface="Courier New"/>
                </a:rPr>
                <a:t>3</a:t>
              </a:r>
              <a:r>
                <a:rPr b="1" lang="en-US" sz="1400" spc="-1" strike="noStrike">
                  <a:solidFill>
                    <a:srgbClr val="00172e"/>
                  </a:solidFill>
                  <a:latin typeface="Courier New"/>
                </a:rPr>
                <a:t> AS OUT.A</a:t>
              </a:r>
              <a:r>
                <a:rPr b="0" lang="en-US" sz="1400" spc="-1" strike="noStrike">
                  <a:solidFill>
                    <a:srgbClr val="00172e"/>
                  </a:solidFill>
                  <a:latin typeface="Courier New"/>
                </a:rPr>
                <a:t>3</a:t>
              </a:r>
              <a:r>
                <a:rPr b="1" lang="en-US" sz="1400" spc="-1" strike="noStrike">
                  <a:solidFill>
                    <a:srgbClr val="00172e"/>
                  </a:solidFill>
                  <a:latin typeface="Courier New"/>
                </a:rPr>
                <a:t>,</a:t>
              </a:r>
              <a:r>
                <a:rPr b="0" lang="en-US" sz="1400" spc="-1" strike="noStrike">
                  <a:solidFill>
                    <a:srgbClr val="00172e"/>
                  </a:solidFill>
                  <a:latin typeface="Courier New"/>
                </a:rPr>
                <a:t> </a:t>
              </a:r>
              <a:r>
                <a:rPr b="1" lang="en-US" sz="1400" spc="-1" strike="noStrike">
                  <a:solidFill>
                    <a:srgbClr val="00172e"/>
                  </a:solidFill>
                  <a:latin typeface="Courier New"/>
                </a:rPr>
                <a:t>IN.A</a:t>
              </a:r>
              <a:r>
                <a:rPr b="0" lang="en-US" sz="1400" spc="-1" strike="noStrike">
                  <a:solidFill>
                    <a:srgbClr val="00172e"/>
                  </a:solidFill>
                  <a:latin typeface="Courier New"/>
                </a:rPr>
                <a:t>4</a:t>
              </a:r>
              <a:r>
                <a:rPr b="1" lang="en-US" sz="1400" spc="-1" strike="noStrike">
                  <a:solidFill>
                    <a:srgbClr val="00172e"/>
                  </a:solidFill>
                  <a:latin typeface="Courier New"/>
                </a:rPr>
                <a:t> AS OUT.A4</a:t>
              </a:r>
              <a:endParaRPr b="0" lang="en-US" sz="1400" spc="-1" strike="noStrike">
                <a:solidFill>
                  <a:srgbClr val="00172e"/>
                </a:solidFill>
                <a:latin typeface="Times New Roman"/>
              </a:endParaRPr>
            </a:p>
            <a:p>
              <a:pPr marL="225360" indent="-225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172e"/>
                  </a:solidFill>
                  <a:latin typeface="Courier New"/>
                </a:rPr>
                <a:t>FROM NOTNULL_A1.IN</a:t>
              </a:r>
              <a:endParaRPr b="0" lang="en-US" sz="1400" spc="-1" strike="noStrike">
                <a:solidFill>
                  <a:srgbClr val="00172e"/>
                </a:solidFill>
                <a:latin typeface="Times New Roman"/>
              </a:endParaRPr>
            </a:p>
            <a:p>
              <a:pPr marL="225360" indent="-225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172e"/>
                  </a:solidFill>
                  <a:latin typeface="Courier New"/>
                </a:rPr>
                <a:t>WHERE IN.A1 NOT NULL</a:t>
              </a:r>
              <a:endParaRPr b="0" lang="en-US" sz="1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887800" y="1704960"/>
              <a:ext cx="9885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172e"/>
                  </a:solidFill>
                  <a:latin typeface="Times New Roman"/>
                </a:rPr>
                <a:t>NotNull_A1</a:t>
              </a:r>
              <a:endParaRPr b="0" lang="en-US" sz="1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rot="5395800">
              <a:off x="1820520" y="5108760"/>
              <a:ext cx="723960" cy="57528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836280" y="5199120"/>
              <a:ext cx="705600" cy="41040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72e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612800" y="4861080"/>
              <a:ext cx="988200" cy="2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172e"/>
                  </a:solidFill>
                  <a:latin typeface="Times New Roman"/>
                </a:rPr>
                <a:t>NotNull_A1</a:t>
              </a:r>
              <a:endParaRPr b="0" lang="en-US" sz="1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542240" y="5408640"/>
              <a:ext cx="352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rot="5395800">
              <a:off x="2777400" y="5099760"/>
              <a:ext cx="724320" cy="57528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499120" y="5400000"/>
              <a:ext cx="352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913640" y="4296240"/>
              <a:ext cx="162360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72e"/>
                  </a:solidFill>
                  <a:latin typeface="Times New Roman"/>
                </a:rPr>
                <a:t>OUT OPERATIONAL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72e"/>
                  </a:solidFill>
                  <a:latin typeface="Times New Roman"/>
                </a:rPr>
                <a:t>SEMANTICS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671920" y="4871520"/>
              <a:ext cx="98820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172e"/>
                  </a:solidFill>
                  <a:latin typeface="Times New Roman"/>
                </a:rPr>
                <a:t>SK_A2</a:t>
              </a:r>
              <a:endParaRPr b="0" lang="en-US" sz="16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437640" y="5400000"/>
              <a:ext cx="352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452040" y="5300280"/>
              <a:ext cx="98820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172e"/>
                  </a:solidFill>
                  <a:latin typeface="Times New Roman"/>
                </a:rPr>
                <a:t>…</a:t>
              </a:r>
              <a:endParaRPr b="0" lang="en-US" sz="12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62120" y="4788720"/>
              <a:ext cx="3741840" cy="1231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832680" y="4575600"/>
              <a:ext cx="9882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172e"/>
                  </a:solidFill>
                  <a:latin typeface="Times New Roman"/>
                </a:rPr>
                <a:t>Legend:</a:t>
              </a:r>
              <a:endParaRPr b="0" lang="en-US" sz="16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ctivit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Vassiliadis,A.Simitsis,S.Skiadopoulos. Modeling ETL Activities as Graphs. DMDW'02 Toronto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603B0-B8AC-426D-8024-33D6A333888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raph Transform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09480" y="1066680"/>
            <a:ext cx="8229600" cy="54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Transformation</a:t>
            </a:r>
            <a:r>
              <a:rPr b="1" i="1" lang="en-US" sz="1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 Zoom_Out 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Input:</a:t>
            </a:r>
            <a:r>
              <a:rPr b="0" lang="en-US" sz="1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 the architecture graph 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G(V,E)</a:t>
            </a:r>
            <a:r>
              <a:rPr b="0" lang="en-US" sz="1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 and a structured entity 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A</a:t>
            </a:r>
            <a:r>
              <a:rPr b="0" lang="en-US" sz="1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Output:</a:t>
            </a:r>
            <a:r>
              <a:rPr b="0" lang="en-US" sz="1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 a new architecture graph 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G’(V’,E’)</a:t>
            </a:r>
            <a:r>
              <a:rPr b="0" lang="en-US" sz="1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Begin 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G</a:t>
            </a:r>
            <a:r>
              <a:rPr b="0" lang="en-GB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’ = </a:t>
            </a:r>
            <a:r>
              <a:rPr b="1" lang="en-GB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G</a:t>
            </a:r>
            <a:r>
              <a:rPr b="0" lang="en-GB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</a:t>
            </a:r>
            <a:r>
              <a:rPr b="0" lang="en-GB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 </a:t>
            </a:r>
            <a:r>
              <a:rPr b="0" lang="en-GB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node t</a:t>
            </a: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</a:t>
            </a:r>
            <a:r>
              <a:rPr b="1" lang="en-GB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V’</a:t>
            </a:r>
            <a:r>
              <a:rPr b="0" lang="en-GB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, s.t. </a:t>
            </a:r>
            <a:r>
              <a:rPr b="0" lang="fr-FR" sz="1800" spc="-1" strike="noStrike">
                <a:solidFill>
                  <a:srgbClr val="00172e"/>
                </a:solidFill>
                <a:latin typeface="Symbol"/>
                <a:ea typeface="Symbol"/>
              </a:rPr>
              <a:t></a:t>
            </a:r>
            <a:r>
              <a:rPr b="0" lang="en-GB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 edge (A,t)</a:t>
            </a: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</a:t>
            </a:r>
            <a:r>
              <a:rPr b="1" lang="en-GB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Po’</a:t>
            </a:r>
            <a:r>
              <a:rPr b="0" lang="en-GB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00172e"/>
                </a:solidFill>
                <a:latin typeface="Symbol"/>
                <a:ea typeface="Symbol"/>
              </a:rPr>
              <a:t>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00172e"/>
                </a:solidFill>
                <a:latin typeface="Symbol"/>
                <a:ea typeface="Symbol"/>
              </a:rPr>
              <a:t></a:t>
            </a:r>
            <a:r>
              <a:rPr b="0" lang="en-GB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 edge (A,x)</a:t>
            </a: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Po’ </a:t>
            </a:r>
            <a:r>
              <a:rPr b="0" lang="en-GB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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edge (t,x)</a:t>
            </a: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</a:t>
            </a:r>
            <a:r>
              <a:rPr b="1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Pr’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: </a:t>
            </a:r>
            <a:r>
              <a:rPr b="1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Pr’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 = </a:t>
            </a:r>
            <a:r>
              <a:rPr b="1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Pr’ </a:t>
            </a:r>
            <a:r>
              <a:rPr b="0" lang="fr-FR" sz="1800" spc="-1" strike="noStrike">
                <a:solidFill>
                  <a:srgbClr val="00172e"/>
                </a:solidFill>
                <a:latin typeface="Symbol"/>
                <a:ea typeface="Symbol"/>
              </a:rPr>
              <a:t>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(t,A)-(t,x); 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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edge (x,t)</a:t>
            </a: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</a:t>
            </a:r>
            <a:r>
              <a:rPr b="1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Pr’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: </a:t>
            </a:r>
            <a:r>
              <a:rPr b="1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Pr’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 = </a:t>
            </a:r>
            <a:r>
              <a:rPr b="1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Pr’ </a:t>
            </a:r>
            <a:r>
              <a:rPr b="0" lang="fr-FR" sz="1800" spc="-1" strike="noStrike">
                <a:solidFill>
                  <a:srgbClr val="00172e"/>
                </a:solidFill>
                <a:latin typeface="Symbol"/>
                <a:ea typeface="Symbol"/>
              </a:rPr>
              <a:t>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(A,t)-(x,t); 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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edge (t,x)</a:t>
            </a: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</a:t>
            </a:r>
            <a:r>
              <a:rPr b="1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Rr’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: </a:t>
            </a:r>
            <a:r>
              <a:rPr b="1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Rr’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 = </a:t>
            </a:r>
            <a:r>
              <a:rPr b="1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Rr’ </a:t>
            </a:r>
            <a:r>
              <a:rPr b="0" lang="fr-FR" sz="1800" spc="-1" strike="noStrike">
                <a:solidFill>
                  <a:srgbClr val="00172e"/>
                </a:solidFill>
                <a:latin typeface="Symbol"/>
                <a:ea typeface="Symbol"/>
              </a:rPr>
              <a:t>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(t,A)-(t,x); } 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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node t</a:t>
            </a: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</a:t>
            </a:r>
            <a:r>
              <a:rPr b="1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V’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, s.t. </a:t>
            </a:r>
            <a:r>
              <a:rPr b="0" lang="fr-FR" sz="1800" spc="-1" strike="noStrike">
                <a:solidFill>
                  <a:srgbClr val="00172e"/>
                </a:solidFill>
                <a:latin typeface="Symbol"/>
                <a:ea typeface="Symbol"/>
              </a:rPr>
              <a:t>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 edges (A,t)</a:t>
            </a: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</a:t>
            </a:r>
            <a:r>
              <a:rPr b="1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Po’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, (A,x)</a:t>
            </a: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</a:t>
            </a:r>
            <a:r>
              <a:rPr b="1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Po’ 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{ 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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edge (t,x)</a:t>
            </a: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</a:t>
            </a:r>
            <a:r>
              <a:rPr b="1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Pr’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: </a:t>
            </a:r>
            <a:r>
              <a:rPr b="1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Pr’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 = </a:t>
            </a:r>
            <a:r>
              <a:rPr b="1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Pr’ 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-(t,x); 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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edge (x,t)</a:t>
            </a: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</a:t>
            </a:r>
            <a:r>
              <a:rPr b="1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Pr’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: </a:t>
            </a:r>
            <a:r>
              <a:rPr b="1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Pr’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 = </a:t>
            </a:r>
            <a:r>
              <a:rPr b="1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Pr’ 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-(x,t); 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</a:t>
            </a:r>
            <a:r>
              <a:rPr b="0" lang="en-GB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 </a:t>
            </a:r>
            <a:r>
              <a:rPr b="0" lang="en-GB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edge (t,x)</a:t>
            </a: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</a:t>
            </a:r>
            <a:r>
              <a:rPr b="1" lang="en-GB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Rr’</a:t>
            </a:r>
            <a:r>
              <a:rPr b="0" lang="en-GB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: </a:t>
            </a:r>
            <a:r>
              <a:rPr b="1" lang="en-GB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Rr’</a:t>
            </a:r>
            <a:r>
              <a:rPr b="0" lang="en-GB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 = </a:t>
            </a:r>
            <a:r>
              <a:rPr b="1" lang="en-GB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Rr’ </a:t>
            </a:r>
            <a:r>
              <a:rPr b="0" lang="en-GB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-(t,x); 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remove t;  } 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End</a:t>
            </a:r>
            <a:r>
              <a:rPr b="0" lang="en-GB" sz="1800" spc="-1" strike="noStrike">
                <a:solidFill>
                  <a:srgbClr val="00172e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Vassiliadis,A.Simitsis,S.Skiadopoulos. Modeling ETL Activities as Graphs. DMDW'02 Toronto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4CC07-50CE-4727-90E0-17C0BB82672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raph Transforma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09480" y="1066680"/>
            <a:ext cx="8229600" cy="55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Transformation</a:t>
            </a:r>
            <a:r>
              <a:rPr b="1" i="1" lang="en-US" sz="1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 Major_Flow 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Input:</a:t>
            </a:r>
            <a:r>
              <a:rPr b="0" lang="en-US" sz="1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 the architecture graph 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G(V,E)</a:t>
            </a:r>
            <a:r>
              <a:rPr b="0" lang="en-US" sz="1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 and the set of target recordsets 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T</a:t>
            </a:r>
            <a:r>
              <a:rPr b="0" lang="en-US" sz="1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Output:</a:t>
            </a:r>
            <a:r>
              <a:rPr b="0" lang="en-US" sz="1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 a sub graph 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G</a:t>
            </a:r>
            <a:r>
              <a:rPr b="1" lang="en-GB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’(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V</a:t>
            </a:r>
            <a:r>
              <a:rPr b="1" lang="en-GB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’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,E</a:t>
            </a:r>
            <a:r>
              <a:rPr b="1" lang="en-GB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’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)</a:t>
            </a:r>
            <a:r>
              <a:rPr b="0" lang="en-US" sz="1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 containing information for the major flow of data from sources to targets. 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Begin 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Let 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T</a:t>
            </a:r>
            <a:r>
              <a:rPr b="1" lang="el-G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Ω</a:t>
            </a:r>
            <a:r>
              <a:rPr b="0" lang="en-US" sz="1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 be the set of attributes of all the recordsets of 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T</a:t>
            </a:r>
            <a:r>
              <a:rPr b="0" lang="en-GB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;</a:t>
            </a:r>
            <a:r>
              <a:rPr b="0" lang="en-US" sz="1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V’</a:t>
            </a:r>
            <a:r>
              <a:rPr b="0" lang="en-GB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=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T</a:t>
            </a:r>
            <a:r>
              <a:rPr b="0" lang="fr-FR" sz="1800" spc="-1" strike="noStrike">
                <a:solidFill>
                  <a:srgbClr val="00172e"/>
                </a:solidFill>
                <a:latin typeface="Symbol"/>
                <a:ea typeface="Symbol"/>
              </a:rPr>
              <a:t>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T</a:t>
            </a:r>
            <a:r>
              <a:rPr b="1" lang="el-G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Ω</a:t>
            </a:r>
            <a:r>
              <a:rPr b="0" lang="en-GB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;</a:t>
            </a:r>
            <a:r>
              <a:rPr b="0" lang="en-US" sz="1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do</a:t>
            </a:r>
            <a:r>
              <a:rPr b="0" lang="en-GB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 { 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  <a:p>
            <a:pPr lvl="1" marL="457200">
              <a:lnSpc>
                <a:spcPct val="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V"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=</a:t>
            </a:r>
            <a:r>
              <a:rPr b="0" lang="el-GR" sz="1800" spc="-1" strike="noStrike">
                <a:solidFill>
                  <a:srgbClr val="00172e"/>
                </a:solidFill>
                <a:latin typeface="Symbol"/>
                <a:ea typeface="Symbol"/>
              </a:rPr>
              <a:t>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; 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t</a:t>
            </a: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V"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,a</a:t>
            </a: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V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,e(a,t)</a:t>
            </a: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Pr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:{ 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V"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=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V"</a:t>
            </a:r>
            <a:r>
              <a:rPr b="0" lang="fr-FR" sz="1800" spc="-1" strike="noStrike">
                <a:solidFill>
                  <a:srgbClr val="00172e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{t};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E’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=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E’</a:t>
            </a:r>
            <a:r>
              <a:rPr b="0" lang="fr-FR" sz="1800" spc="-1" strike="noStrike">
                <a:solidFill>
                  <a:srgbClr val="00172e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{e} }; </a:t>
            </a: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t</a:t>
            </a: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V"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,a</a:t>
            </a: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V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,e(a,t)</a:t>
            </a: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Po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:{ 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V"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=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V"</a:t>
            </a:r>
            <a:r>
              <a:rPr b="0" lang="fr-FR" sz="1800" spc="-1" strike="noStrike">
                <a:solidFill>
                  <a:srgbClr val="00172e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{t};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E’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=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E’</a:t>
            </a:r>
            <a:r>
              <a:rPr b="0" lang="fr-FR" sz="1800" spc="-1" strike="noStrike">
                <a:solidFill>
                  <a:srgbClr val="00172e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{e} }; </a:t>
            </a: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t</a:t>
            </a: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V"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,a</a:t>
            </a: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V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,e(t,a)</a:t>
            </a: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Po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:{ 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V"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=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V"</a:t>
            </a:r>
            <a:r>
              <a:rPr b="0" lang="fr-FR" sz="1800" spc="-1" strike="noStrike">
                <a:solidFill>
                  <a:srgbClr val="00172e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{t};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E’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=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E’</a:t>
            </a:r>
            <a:r>
              <a:rPr b="0" lang="fr-FR" sz="1800" spc="-1" strike="noStrike">
                <a:solidFill>
                  <a:srgbClr val="00172e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{e} }; </a:t>
            </a: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t</a:t>
            </a: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V"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,a</a:t>
            </a: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V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,e(a,t)</a:t>
            </a:r>
            <a:r>
              <a:rPr b="0" lang="en-US" sz="1800" spc="-1" strike="noStrike">
                <a:solidFill>
                  <a:srgbClr val="00172e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Rr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:{ 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V"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=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V"</a:t>
            </a:r>
            <a:r>
              <a:rPr b="0" lang="fr-FR" sz="1800" spc="-1" strike="noStrike">
                <a:solidFill>
                  <a:srgbClr val="00172e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{t};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E’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=</a:t>
            </a:r>
            <a:r>
              <a:rPr b="1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E’</a:t>
            </a:r>
            <a:r>
              <a:rPr b="0" lang="fr-FR" sz="1800" spc="-1" strike="noStrike">
                <a:solidFill>
                  <a:srgbClr val="00172e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{e} }; 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V’</a:t>
            </a:r>
            <a:r>
              <a:rPr b="0" lang="de-DE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=</a:t>
            </a:r>
            <a:r>
              <a:rPr b="1" lang="de-DE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V’</a:t>
            </a:r>
            <a:r>
              <a:rPr b="0" lang="fr-FR" sz="1800" spc="-1" strike="noStrike">
                <a:solidFill>
                  <a:srgbClr val="00172e"/>
                </a:solidFill>
                <a:latin typeface="Symbol"/>
                <a:ea typeface="Symbol"/>
              </a:rPr>
              <a:t></a:t>
            </a:r>
            <a:r>
              <a:rPr b="1" lang="de-DE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V"</a:t>
            </a:r>
            <a:r>
              <a:rPr b="0" lang="de-DE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; 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} </a:t>
            </a:r>
            <a:r>
              <a:rPr b="1" lang="fr-FR" sz="1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while </a:t>
            </a:r>
            <a:r>
              <a:rPr b="1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V"</a:t>
            </a:r>
            <a:r>
              <a:rPr b="0" lang="en-GB" sz="1800" spc="-1" strike="noStrike">
                <a:solidFill>
                  <a:srgbClr val="00172e"/>
                </a:solidFill>
                <a:latin typeface="Symbol"/>
                <a:ea typeface="Symbol"/>
              </a:rPr>
              <a:t></a:t>
            </a:r>
            <a:r>
              <a:rPr b="0" lang="el-GR" sz="1800" spc="-1" strike="noStrike">
                <a:solidFill>
                  <a:srgbClr val="00172e"/>
                </a:solidFill>
                <a:latin typeface="Symbol"/>
                <a:ea typeface="Symbol"/>
              </a:rPr>
              <a:t></a:t>
            </a:r>
            <a:r>
              <a:rPr b="0" lang="fr-FR" sz="1800" spc="-1" strike="noStrike">
                <a:solidFill>
                  <a:srgbClr val="00172e"/>
                </a:solidFill>
                <a:latin typeface="Courier New"/>
                <a:ea typeface="Courier New"/>
              </a:rPr>
              <a:t>; 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End</a:t>
            </a:r>
            <a:r>
              <a:rPr b="0" lang="en-GB" sz="1800" spc="-1" strike="noStrike">
                <a:solidFill>
                  <a:srgbClr val="00172e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Vassiliadis,A.Simitsis,S.Skiadopoulos. Modeling ETL Activities as Graphs. DMDW'02 Toronto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C572F-9A9A-4291-A623-33919F8D3E2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emplate Activit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587600" y="1227240"/>
            <a:ext cx="4381560" cy="1058760"/>
          </a:xfrm>
          <a:prstGeom prst="parallelogram">
            <a:avLst>
              <a:gd name="adj" fmla="val 5326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990880" y="1400040"/>
            <a:ext cx="1574640" cy="6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72e"/>
                </a:solidFill>
                <a:latin typeface="Times New Roman"/>
              </a:rPr>
              <a:t>Elementary Activity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295280" y="2819520"/>
            <a:ext cx="4381560" cy="1073160"/>
          </a:xfrm>
          <a:prstGeom prst="parallelogram">
            <a:avLst>
              <a:gd name="adj" fmla="val 5254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917720" y="2971800"/>
            <a:ext cx="825480" cy="55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72e"/>
                </a:solidFill>
                <a:latin typeface="Times New Roman"/>
              </a:rPr>
              <a:t>Not Null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793960" y="2959200"/>
            <a:ext cx="1143000" cy="46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72e"/>
                </a:solidFill>
                <a:latin typeface="Times New Roman"/>
              </a:rPr>
              <a:t>Selection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038480" y="2992320"/>
            <a:ext cx="1257480" cy="43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72e"/>
                </a:solidFill>
                <a:latin typeface="Times New Roman"/>
              </a:rPr>
              <a:t>Aggregate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914400" y="4572000"/>
            <a:ext cx="4724280" cy="1371600"/>
          </a:xfrm>
          <a:prstGeom prst="parallelogram">
            <a:avLst>
              <a:gd name="adj" fmla="val 4433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2209680" y="5029200"/>
            <a:ext cx="10162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72e"/>
                </a:solidFill>
                <a:latin typeface="Times New Roman"/>
              </a:rPr>
              <a:t>myNot Null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352680" y="5181480"/>
            <a:ext cx="1447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72e"/>
                </a:solidFill>
                <a:latin typeface="Times New Roman"/>
              </a:rPr>
              <a:t>mySelection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57200" y="1446120"/>
            <a:ext cx="14479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tamodel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72e"/>
                </a:solidFill>
                <a:latin typeface="Times New Roman"/>
              </a:rPr>
              <a:t>layer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57200" y="3111480"/>
            <a:ext cx="123192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mplate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72e"/>
                </a:solidFill>
                <a:latin typeface="Times New Roman"/>
              </a:rPr>
              <a:t>layer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57200" y="4483080"/>
            <a:ext cx="10796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72e"/>
                </a:solidFill>
                <a:latin typeface="Times New Roman"/>
              </a:rPr>
              <a:t>Custom Layer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842080" y="1447920"/>
            <a:ext cx="2539800" cy="1981080"/>
          </a:xfrm>
          <a:prstGeom prst="parallelogram">
            <a:avLst>
              <a:gd name="adj" fmla="val 4798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553080" y="2286000"/>
            <a:ext cx="1219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72e"/>
                </a:solidFill>
                <a:latin typeface="Times New Roman"/>
              </a:rPr>
              <a:t>RecordSet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257800" y="4267080"/>
            <a:ext cx="2743200" cy="1981440"/>
          </a:xfrm>
          <a:prstGeom prst="parallelogram">
            <a:avLst>
              <a:gd name="adj" fmla="val 4719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6248520" y="4419720"/>
            <a:ext cx="1143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72e"/>
                </a:solidFill>
                <a:latin typeface="Times New Roman"/>
              </a:rPr>
              <a:t>Supplier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943600" y="5029200"/>
            <a:ext cx="1219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72e"/>
                </a:solidFill>
                <a:latin typeface="Times New Roman"/>
              </a:rPr>
              <a:t>LineItem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638680" y="5638680"/>
            <a:ext cx="120672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72e"/>
                </a:solidFill>
                <a:latin typeface="Times New Roman"/>
              </a:rPr>
              <a:t>PartSupp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V="1">
            <a:off x="3657600" y="39625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581280" y="2286000"/>
            <a:ext cx="317520" cy="431640"/>
          </a:xfrm>
          <a:prstGeom prst="upArrow">
            <a:avLst>
              <a:gd name="adj1" fmla="val 50000"/>
              <a:gd name="adj2" fmla="val 5112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048120" y="2362320"/>
            <a:ext cx="6220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72e"/>
                </a:solidFill>
                <a:latin typeface="Courier New"/>
              </a:rPr>
              <a:t>ISA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3149640" y="4038480"/>
            <a:ext cx="5079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72e"/>
                </a:solidFill>
                <a:latin typeface="Courier New"/>
              </a:rPr>
              <a:t>IN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rot="18300000">
            <a:off x="5817240" y="1556280"/>
            <a:ext cx="317520" cy="1014480"/>
          </a:xfrm>
          <a:prstGeom prst="upArrow">
            <a:avLst>
              <a:gd name="adj1" fmla="val 50000"/>
              <a:gd name="adj2" fmla="val 1201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rot="14700000">
            <a:off x="5775120" y="2530080"/>
            <a:ext cx="345960" cy="771480"/>
          </a:xfrm>
          <a:prstGeom prst="upArrow">
            <a:avLst>
              <a:gd name="adj1" fmla="val 50000"/>
              <a:gd name="adj2" fmla="val 8386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rot="16200000">
            <a:off x="5283000" y="5003280"/>
            <a:ext cx="431640" cy="635040"/>
          </a:xfrm>
          <a:prstGeom prst="upArrow">
            <a:avLst>
              <a:gd name="adj1" fmla="val 50000"/>
              <a:gd name="adj2" fmla="val 553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898560" y="5684760"/>
            <a:ext cx="1206360" cy="258840"/>
          </a:xfrm>
          <a:prstGeom prst="parallelogram">
            <a:avLst>
              <a:gd name="adj" fmla="val 4967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72e"/>
                </a:solidFill>
                <a:latin typeface="Times New Roman"/>
              </a:rPr>
              <a:t>myScenario</a:t>
            </a:r>
            <a:endParaRPr b="0" lang="en-US" sz="1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Vassiliadis,A.Simitsis,S.Skiadopoulos. Modeling ETL Activities as Graphs. DMDW'02 Toronto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D14ED-9B3F-4AA7-9B95-BEAB8DEE053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1" name=""/>
          <p:cNvGraphicFramePr/>
          <p:nvPr/>
        </p:nvGraphicFramePr>
        <p:xfrm>
          <a:off x="3429000" y="228600"/>
          <a:ext cx="4673520" cy="624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28600"/>
                    <a:ext cx="467352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nceptual 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odel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Vassiliadis,A.Simitsis,S.Skiadopoulos. Modeling ETL Activities as Graphs. DMDW'02 Toronto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3FA50-6AE7-4533-A08F-4C5337F8F61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Background &amp; Mo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 Model for ETL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rtance Metrics for ETL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 and Future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Vassiliadis,A.Simitsis,S.Skiadopoulos. Modeling ETL Activities as Graphs. DMDW'02 Toronto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46C90-21CA-41C5-9E3D-1C22AC78E4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tract-Transform-Load (ETL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762120" y="1904760"/>
            <a:ext cx="7696080" cy="4038480"/>
            <a:chOff x="762120" y="1904760"/>
            <a:chExt cx="7696080" cy="4038480"/>
          </a:xfrm>
        </p:grpSpPr>
        <p:sp>
          <p:nvSpPr>
            <p:cNvPr id="136" name=""/>
            <p:cNvSpPr/>
            <p:nvPr/>
          </p:nvSpPr>
          <p:spPr>
            <a:xfrm>
              <a:off x="762120" y="4651200"/>
              <a:ext cx="7696080" cy="1292040"/>
            </a:xfrm>
            <a:prstGeom prst="parallelogram">
              <a:avLst>
                <a:gd name="adj" fmla="val 6293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14640" y="5539680"/>
              <a:ext cx="543240" cy="32292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67520" y="5135760"/>
              <a:ext cx="543240" cy="32292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20040" y="5459040"/>
              <a:ext cx="543240" cy="32292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01120" y="4731840"/>
              <a:ext cx="452520" cy="322920"/>
            </a:xfrm>
            <a:prstGeom prst="flowChartMultidocumen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3025440" y="4650840"/>
              <a:ext cx="633600" cy="12920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44360" y="4974480"/>
              <a:ext cx="452520" cy="322920"/>
            </a:xfrm>
            <a:prstGeom prst="flowChartMultidocumen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9400" y="5378400"/>
              <a:ext cx="543240" cy="32292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64800" y="5297400"/>
              <a:ext cx="543240" cy="32292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111920" y="4731840"/>
              <a:ext cx="452520" cy="322920"/>
            </a:xfrm>
            <a:prstGeom prst="flowChartMultidocumen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5108040" y="4650840"/>
              <a:ext cx="633600" cy="12920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32720" y="5055120"/>
              <a:ext cx="814680" cy="48456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00280" y="5135760"/>
              <a:ext cx="543240" cy="32292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66320" y="5539680"/>
              <a:ext cx="543240" cy="32292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647400" y="4731840"/>
              <a:ext cx="543240" cy="32292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6194160" y="3035880"/>
              <a:ext cx="814680" cy="20192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7009560" y="2147400"/>
              <a:ext cx="633600" cy="25844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4111920" y="3186360"/>
              <a:ext cx="2384280" cy="21916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4564800" y="3186360"/>
              <a:ext cx="1629720" cy="15451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5032800" y="3186000"/>
              <a:ext cx="1765440" cy="22021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4836240" y="3186360"/>
              <a:ext cx="452520" cy="20408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553560" y="3186360"/>
              <a:ext cx="377280" cy="21970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4383360" y="3186360"/>
              <a:ext cx="528120" cy="15562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1305000" y="3197160"/>
              <a:ext cx="181080" cy="23421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 flipV="1">
              <a:off x="1638000" y="3186360"/>
              <a:ext cx="300960" cy="19490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flipV="1">
              <a:off x="1893960" y="3186360"/>
              <a:ext cx="588240" cy="22723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328840" y="3186360"/>
              <a:ext cx="243720" cy="15451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>
              <a:off x="2798640" y="3186360"/>
              <a:ext cx="325800" cy="18792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2120" y="1905120"/>
              <a:ext cx="7696080" cy="1292040"/>
            </a:xfrm>
            <a:prstGeom prst="parallelogram">
              <a:avLst>
                <a:gd name="adj" fmla="val 62930"/>
              </a:avLst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2935080" y="1904760"/>
              <a:ext cx="633600" cy="12920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5832720" y="1904760"/>
              <a:ext cx="633600" cy="12920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124280" y="2955240"/>
              <a:ext cx="362160" cy="1612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67520" y="2793600"/>
              <a:ext cx="362160" cy="1616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95720" y="2551320"/>
              <a:ext cx="362160" cy="1612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48600" y="2389680"/>
              <a:ext cx="362160" cy="1616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391840" y="2228040"/>
              <a:ext cx="362160" cy="1612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297240" y="2793600"/>
              <a:ext cx="362160" cy="1616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568680" y="2389680"/>
              <a:ext cx="362160" cy="1616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40480" y="2066760"/>
              <a:ext cx="362160" cy="16128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93360" y="2793600"/>
              <a:ext cx="361800" cy="1616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64800" y="2389680"/>
              <a:ext cx="362160" cy="1616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17680" y="2066760"/>
              <a:ext cx="362160" cy="16128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98760" y="2874240"/>
              <a:ext cx="362160" cy="1616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828480" y="2874240"/>
              <a:ext cx="362160" cy="1616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462440" y="1985760"/>
              <a:ext cx="361800" cy="1612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2844360" y="2147400"/>
              <a:ext cx="905400" cy="16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20040" y="2228040"/>
              <a:ext cx="1539000" cy="64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1120" y="2470320"/>
              <a:ext cx="117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1486440" y="2873880"/>
              <a:ext cx="1720080" cy="16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48600" y="2631960"/>
              <a:ext cx="1357920" cy="16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31200" y="2470320"/>
              <a:ext cx="362160" cy="24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931200" y="2470320"/>
              <a:ext cx="63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202640" y="2147400"/>
              <a:ext cx="72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45880" y="2874240"/>
              <a:ext cx="452520" cy="8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6960" y="2470320"/>
              <a:ext cx="271440" cy="40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391120" y="5700600"/>
              <a:ext cx="59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1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94320" y="5700600"/>
              <a:ext cx="35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SA</a:t>
              </a:r>
              <a:endParaRPr b="0" lang="en-US" sz="1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289640" y="570060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W</a:t>
              </a:r>
              <a:endParaRPr b="0" lang="en-US" sz="1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63640" y="1905120"/>
              <a:ext cx="576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xtract</a:t>
              </a:r>
              <a:endParaRPr b="0" lang="en-US" sz="1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68400" y="1905120"/>
              <a:ext cx="8344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ransform</a:t>
              </a:r>
              <a:endParaRPr b="0" lang="en-US" sz="1400" spc="-1" strike="noStrike">
                <a:solidFill>
                  <a:srgbClr val="00172e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&amp; Clean</a:t>
              </a:r>
              <a:endParaRPr b="0" lang="en-US" sz="1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80080" y="1905120"/>
              <a:ext cx="39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oad</a:t>
              </a:r>
              <a:endParaRPr b="0" lang="en-US" sz="1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Vassiliadis,A.Simitsis,S.Skiadopoulos. Modeling ETL Activities as Graphs. DMDW'02 Toronto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D42E6-AD29-4AD1-AE21-4FCD723AFF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838080" y="1447920"/>
            <a:ext cx="8001000" cy="2666880"/>
          </a:xfrm>
          <a:prstGeom prst="rect">
            <a:avLst/>
          </a:prstGeom>
          <a:solidFill>
            <a:srgbClr val="c0c0c0">
              <a:alpha val="50000"/>
            </a:srgbClr>
          </a:solidFill>
          <a:ln cap="rnd" w="9360">
            <a:solidFill>
              <a:srgbClr val="00172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57800" y="4419720"/>
            <a:ext cx="3809880" cy="1904760"/>
          </a:xfrm>
          <a:prstGeom prst="rect">
            <a:avLst/>
          </a:prstGeom>
          <a:solidFill>
            <a:srgbClr val="c0c0c0">
              <a:alpha val="50000"/>
            </a:srgbClr>
          </a:solidFill>
          <a:ln cap="rnd" w="9360">
            <a:solidFill>
              <a:srgbClr val="00172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4419720"/>
            <a:ext cx="990720" cy="1904760"/>
          </a:xfrm>
          <a:prstGeom prst="rect">
            <a:avLst/>
          </a:prstGeom>
          <a:solidFill>
            <a:srgbClr val="c0c0c0">
              <a:alpha val="50000"/>
            </a:srgbClr>
          </a:solidFill>
          <a:ln cap="rnd" w="9360">
            <a:solidFill>
              <a:srgbClr val="00172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5400000">
            <a:off x="4104000" y="1807200"/>
            <a:ext cx="527040" cy="6843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965400" y="2120760"/>
            <a:ext cx="6811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Add_SPK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73600" y="1700280"/>
            <a:ext cx="985680" cy="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SUPPKEY=1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cxnSp>
        <p:nvCxnSpPr>
          <p:cNvPr id="203" name=""/>
          <p:cNvCxnSpPr>
            <a:stCxn id="202" idx="2"/>
            <a:endCxn id="200" idx="1"/>
          </p:cNvCxnSpPr>
          <p:nvPr/>
        </p:nvCxnSpPr>
        <p:spPr>
          <a:xfrm flipH="1">
            <a:off x="4365360" y="1790640"/>
            <a:ext cx="2160" cy="22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4" name=""/>
          <p:cNvSpPr/>
          <p:nvPr/>
        </p:nvSpPr>
        <p:spPr>
          <a:xfrm rot="5400000">
            <a:off x="5014800" y="1808280"/>
            <a:ext cx="527040" cy="6825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37040" y="2112840"/>
            <a:ext cx="452520" cy="1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SK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84760" y="1523880"/>
            <a:ext cx="9856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S.PS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.PKEY, LOOKUP_PS.SKEY, SUPPKEY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cxnSp>
        <p:nvCxnSpPr>
          <p:cNvPr id="207" name=""/>
          <p:cNvCxnSpPr>
            <a:stCxn id="206" idx="2"/>
            <a:endCxn id="204" idx="1"/>
          </p:cNvCxnSpPr>
          <p:nvPr/>
        </p:nvCxnSpPr>
        <p:spPr>
          <a:xfrm>
            <a:off x="5277960" y="1821960"/>
            <a:ext cx="1080" cy="19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 rot="5400000">
            <a:off x="6000840" y="1808280"/>
            <a:ext cx="527040" cy="6825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23080" y="2112840"/>
            <a:ext cx="455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2€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70440" y="1708200"/>
            <a:ext cx="987480" cy="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COST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10" idx="2"/>
            <a:endCxn id="208" idx="1"/>
          </p:cNvCxnSpPr>
          <p:nvPr/>
        </p:nvCxnSpPr>
        <p:spPr>
          <a:xfrm>
            <a:off x="6264000" y="1798200"/>
            <a:ext cx="108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" name=""/>
          <p:cNvSpPr/>
          <p:nvPr/>
        </p:nvSpPr>
        <p:spPr>
          <a:xfrm rot="5400000">
            <a:off x="6986520" y="1808280"/>
            <a:ext cx="527040" cy="6825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761160" y="1708200"/>
            <a:ext cx="985680" cy="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ATE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3" idx="2"/>
            <a:endCxn id="212" idx="1"/>
          </p:cNvCxnSpPr>
          <p:nvPr/>
        </p:nvCxnSpPr>
        <p:spPr>
          <a:xfrm flipH="1">
            <a:off x="7251480" y="1798200"/>
            <a:ext cx="360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2967120" y="3176640"/>
            <a:ext cx="758880" cy="52848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S.PS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4106880" y="3098880"/>
            <a:ext cx="528480" cy="6840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83040" y="3403440"/>
            <a:ext cx="6825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Add_SPK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78280" y="3000240"/>
            <a:ext cx="98568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SUPPKEY=2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2"/>
            <a:endCxn id="216" idx="1"/>
          </p:cNvCxnSpPr>
          <p:nvPr/>
        </p:nvCxnSpPr>
        <p:spPr>
          <a:xfrm flipH="1">
            <a:off x="4368600" y="3090600"/>
            <a:ext cx="360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 rot="5400000">
            <a:off x="5016600" y="3100320"/>
            <a:ext cx="528480" cy="6811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38840" y="3403440"/>
            <a:ext cx="453960" cy="1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SK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99160" y="2854440"/>
            <a:ext cx="98568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S.PS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.PKEY, LOOKUP_PS.SKEY, SUPPKEY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cxnSp>
        <p:nvCxnSpPr>
          <p:cNvPr id="223" name=""/>
          <p:cNvCxnSpPr>
            <a:stCxn id="222" idx="2"/>
            <a:endCxn id="220" idx="1"/>
          </p:cNvCxnSpPr>
          <p:nvPr/>
        </p:nvCxnSpPr>
        <p:spPr>
          <a:xfrm flipH="1">
            <a:off x="5280840" y="3170160"/>
            <a:ext cx="11880" cy="13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 rot="5400000">
            <a:off x="6002640" y="3099240"/>
            <a:ext cx="528480" cy="6829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773680" y="3000240"/>
            <a:ext cx="98748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COST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2"/>
            <a:endCxn id="224" idx="1"/>
          </p:cNvCxnSpPr>
          <p:nvPr/>
        </p:nvCxnSpPr>
        <p:spPr>
          <a:xfrm>
            <a:off x="6267240" y="3090960"/>
            <a:ext cx="108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"/>
          <p:cNvSpPr/>
          <p:nvPr/>
        </p:nvSpPr>
        <p:spPr>
          <a:xfrm rot="5400000">
            <a:off x="6989040" y="3099600"/>
            <a:ext cx="528480" cy="6825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686640" y="3000240"/>
            <a:ext cx="113652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ATE=SYSDATE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8" idx="2"/>
            <a:endCxn id="227" idx="1"/>
          </p:cNvCxnSpPr>
          <p:nvPr/>
        </p:nvCxnSpPr>
        <p:spPr>
          <a:xfrm flipH="1">
            <a:off x="7254000" y="3090960"/>
            <a:ext cx="252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0" name=""/>
          <p:cNvSpPr/>
          <p:nvPr/>
        </p:nvSpPr>
        <p:spPr>
          <a:xfrm>
            <a:off x="6912000" y="3402000"/>
            <a:ext cx="60804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AddDate 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7964640" y="3100320"/>
            <a:ext cx="528480" cy="6811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853400" y="3403440"/>
            <a:ext cx="6811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CheckQTY 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70880" y="3000240"/>
            <a:ext cx="111132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QTY&gt;0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2"/>
            <a:endCxn id="231" idx="1"/>
          </p:cNvCxnSpPr>
          <p:nvPr/>
        </p:nvCxnSpPr>
        <p:spPr>
          <a:xfrm>
            <a:off x="8226000" y="3090960"/>
            <a:ext cx="396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5" name=""/>
          <p:cNvSpPr/>
          <p:nvPr/>
        </p:nvSpPr>
        <p:spPr>
          <a:xfrm rot="5400000">
            <a:off x="8228520" y="1931040"/>
            <a:ext cx="528840" cy="6825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151840" y="2243160"/>
            <a:ext cx="453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U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00" idx="0"/>
            <a:endCxn id="204" idx="3"/>
          </p:cNvCxnSpPr>
          <p:nvPr/>
        </p:nvCxnSpPr>
        <p:spPr>
          <a:xfrm>
            <a:off x="4706640" y="21474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04" idx="0"/>
            <a:endCxn id="208" idx="3"/>
          </p:cNvCxnSpPr>
          <p:nvPr/>
        </p:nvCxnSpPr>
        <p:spPr>
          <a:xfrm>
            <a:off x="5616720" y="2147400"/>
            <a:ext cx="30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08" idx="0"/>
            <a:endCxn id="212" idx="3"/>
          </p:cNvCxnSpPr>
          <p:nvPr/>
        </p:nvCxnSpPr>
        <p:spPr>
          <a:xfrm>
            <a:off x="6603480" y="2147400"/>
            <a:ext cx="304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16" idx="0"/>
            <a:endCxn id="220" idx="3"/>
          </p:cNvCxnSpPr>
          <p:nvPr/>
        </p:nvCxnSpPr>
        <p:spPr>
          <a:xfrm>
            <a:off x="4709880" y="34398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20" idx="0"/>
            <a:endCxn id="224" idx="3"/>
          </p:cNvCxnSpPr>
          <p:nvPr/>
        </p:nvCxnSpPr>
        <p:spPr>
          <a:xfrm>
            <a:off x="5619240" y="343980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24" idx="0"/>
            <a:endCxn id="227" idx="3"/>
          </p:cNvCxnSpPr>
          <p:nvPr/>
        </p:nvCxnSpPr>
        <p:spPr>
          <a:xfrm>
            <a:off x="6606720" y="3439800"/>
            <a:ext cx="304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27" idx="0"/>
            <a:endCxn id="231" idx="3"/>
          </p:cNvCxnSpPr>
          <p:nvPr/>
        </p:nvCxnSpPr>
        <p:spPr>
          <a:xfrm>
            <a:off x="7593120" y="3439800"/>
            <a:ext cx="294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"/>
          <p:cNvCxnSpPr>
            <a:stCxn id="215" idx="4"/>
            <a:endCxn id="216" idx="3"/>
          </p:cNvCxnSpPr>
          <p:nvPr/>
        </p:nvCxnSpPr>
        <p:spPr>
          <a:xfrm>
            <a:off x="3735360" y="3441240"/>
            <a:ext cx="295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2963880" y="1886040"/>
            <a:ext cx="758880" cy="52704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S.PS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086440" y="2473200"/>
            <a:ext cx="380880" cy="292320"/>
          </a:xfrm>
          <a:prstGeom prst="flowChartMultidocument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45" idx="4"/>
            <a:endCxn id="200" idx="3"/>
          </p:cNvCxnSpPr>
          <p:nvPr/>
        </p:nvCxnSpPr>
        <p:spPr>
          <a:xfrm>
            <a:off x="3732120" y="2149200"/>
            <a:ext cx="294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8" name=""/>
          <p:cNvSpPr/>
          <p:nvPr/>
        </p:nvSpPr>
        <p:spPr>
          <a:xfrm>
            <a:off x="5086440" y="2577960"/>
            <a:ext cx="685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Log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38720" y="2319480"/>
            <a:ext cx="685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rejected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92560" y="3763800"/>
            <a:ext cx="379440" cy="292320"/>
          </a:xfrm>
          <a:prstGeom prst="flowChartMultidocument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38720" y="229536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092560" y="3868560"/>
            <a:ext cx="679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Log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245200" y="3610080"/>
            <a:ext cx="68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rejected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243400" y="3587760"/>
            <a:ext cx="0" cy="17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910560" y="2111400"/>
            <a:ext cx="68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A2EDate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78600" y="3763800"/>
            <a:ext cx="379440" cy="292320"/>
          </a:xfrm>
          <a:prstGeom prst="flowChartMultidocument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884920" y="3402000"/>
            <a:ext cx="68112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NotNULL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78600" y="3868560"/>
            <a:ext cx="681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Log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29440" y="3610080"/>
            <a:ext cx="68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rejected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73920" y="2473200"/>
            <a:ext cx="379440" cy="292320"/>
          </a:xfrm>
          <a:prstGeom prst="flowChartMultidocument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29440" y="3587760"/>
            <a:ext cx="0" cy="17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72120" y="2577960"/>
            <a:ext cx="685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Log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26200" y="2319480"/>
            <a:ext cx="684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rejected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059600" y="2473200"/>
            <a:ext cx="379440" cy="292320"/>
          </a:xfrm>
          <a:prstGeom prst="flowChartMultidocument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26200" y="229536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61040" y="2577960"/>
            <a:ext cx="681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Log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11880" y="2319480"/>
            <a:ext cx="681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rejected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1188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2111040" y="1803240"/>
            <a:ext cx="530280" cy="6825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035080" y="2108160"/>
            <a:ext cx="538200" cy="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IFF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68320" y="1587600"/>
            <a:ext cx="121284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S.PS_NEW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.PKEY,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S.PS_OLD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.PKEY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cxnSp>
        <p:nvCxnSpPr>
          <p:cNvPr id="272" name=""/>
          <p:cNvCxnSpPr>
            <a:stCxn id="271" idx="2"/>
            <a:endCxn id="269" idx="1"/>
          </p:cNvCxnSpPr>
          <p:nvPr/>
        </p:nvCxnSpPr>
        <p:spPr>
          <a:xfrm>
            <a:off x="2374920" y="1763640"/>
            <a:ext cx="2160" cy="24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"/>
          <p:cNvSpPr/>
          <p:nvPr/>
        </p:nvSpPr>
        <p:spPr>
          <a:xfrm>
            <a:off x="896760" y="1587600"/>
            <a:ext cx="758880" cy="52704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S.PS_NEW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4"/>
            <a:endCxn id="269" idx="3"/>
          </p:cNvCxnSpPr>
          <p:nvPr/>
        </p:nvCxnSpPr>
        <p:spPr>
          <a:xfrm>
            <a:off x="1665000" y="1850760"/>
            <a:ext cx="369000" cy="29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896760" y="2174760"/>
            <a:ext cx="758880" cy="52704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S.PS_OLD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cxnSp>
        <p:nvCxnSpPr>
          <p:cNvPr id="276" name=""/>
          <p:cNvCxnSpPr>
            <a:stCxn id="277" idx="0"/>
            <a:endCxn id="273" idx="2"/>
          </p:cNvCxnSpPr>
          <p:nvPr/>
        </p:nvCxnSpPr>
        <p:spPr>
          <a:xfrm flipH="1" flipV="1">
            <a:off x="887040" y="1850760"/>
            <a:ext cx="1542240" cy="2975760"/>
          </a:xfrm>
          <a:prstGeom prst="bentConnector5">
            <a:avLst>
              <a:gd name="adj1" fmla="val -10179"/>
              <a:gd name="adj2" fmla="val 15886"/>
              <a:gd name="adj3" fmla="val 11739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75" idx="4"/>
            <a:endCxn id="269" idx="3"/>
          </p:cNvCxnSpPr>
          <p:nvPr/>
        </p:nvCxnSpPr>
        <p:spPr>
          <a:xfrm flipV="1">
            <a:off x="1665000" y="2143080"/>
            <a:ext cx="369000" cy="29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9" name=""/>
          <p:cNvSpPr/>
          <p:nvPr/>
        </p:nvSpPr>
        <p:spPr>
          <a:xfrm>
            <a:off x="5442120" y="4538520"/>
            <a:ext cx="758520" cy="52704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W.PARTSUPP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7703640" y="4464000"/>
            <a:ext cx="528840" cy="6843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551720" y="4768920"/>
            <a:ext cx="789120" cy="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Aggregate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473960" y="4311720"/>
            <a:ext cx="98568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PKEY, DAY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MIN(COST)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cxnSp>
        <p:nvCxnSpPr>
          <p:cNvPr id="283" name=""/>
          <p:cNvCxnSpPr>
            <a:stCxn id="282" idx="2"/>
            <a:endCxn id="280" idx="1"/>
          </p:cNvCxnSpPr>
          <p:nvPr/>
        </p:nvCxnSpPr>
        <p:spPr>
          <a:xfrm flipH="1">
            <a:off x="7965720" y="4487760"/>
            <a:ext cx="2160" cy="18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4" name=""/>
          <p:cNvSpPr/>
          <p:nvPr/>
        </p:nvSpPr>
        <p:spPr>
          <a:xfrm rot="5400000">
            <a:off x="7703640" y="5411520"/>
            <a:ext cx="528480" cy="6843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551720" y="5718240"/>
            <a:ext cx="789120" cy="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Aggregate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473960" y="5195880"/>
            <a:ext cx="98568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PKEY, MONTH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AVG(COST)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cxnSp>
        <p:nvCxnSpPr>
          <p:cNvPr id="287" name=""/>
          <p:cNvCxnSpPr>
            <a:stCxn id="286" idx="2"/>
            <a:endCxn id="284" idx="1"/>
          </p:cNvCxnSpPr>
          <p:nvPr/>
        </p:nvCxnSpPr>
        <p:spPr>
          <a:xfrm flipH="1">
            <a:off x="7965720" y="5372280"/>
            <a:ext cx="2160" cy="24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8" name=""/>
          <p:cNvCxnSpPr>
            <a:stCxn id="279" idx="4"/>
            <a:endCxn id="280" idx="3"/>
          </p:cNvCxnSpPr>
          <p:nvPr/>
        </p:nvCxnSpPr>
        <p:spPr>
          <a:xfrm>
            <a:off x="6210360" y="4802040"/>
            <a:ext cx="141840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9" name=""/>
          <p:cNvSpPr/>
          <p:nvPr/>
        </p:nvSpPr>
        <p:spPr>
          <a:xfrm>
            <a:off x="8612280" y="5549760"/>
            <a:ext cx="379440" cy="40968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V2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cxnSp>
        <p:nvCxnSpPr>
          <p:cNvPr id="290" name=""/>
          <p:cNvCxnSpPr>
            <a:stCxn id="284" idx="0"/>
            <a:endCxn id="289" idx="2"/>
          </p:cNvCxnSpPr>
          <p:nvPr/>
        </p:nvCxnSpPr>
        <p:spPr>
          <a:xfrm>
            <a:off x="8311680" y="5754240"/>
            <a:ext cx="291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8612280" y="4600440"/>
            <a:ext cx="379440" cy="41112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cxnSp>
        <p:nvCxnSpPr>
          <p:cNvPr id="292" name=""/>
          <p:cNvCxnSpPr>
            <a:stCxn id="280" idx="0"/>
            <a:endCxn id="291" idx="2"/>
          </p:cNvCxnSpPr>
          <p:nvPr/>
        </p:nvCxnSpPr>
        <p:spPr>
          <a:xfrm>
            <a:off x="8311680" y="4806720"/>
            <a:ext cx="291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3" name=""/>
          <p:cNvSpPr/>
          <p:nvPr/>
        </p:nvSpPr>
        <p:spPr>
          <a:xfrm>
            <a:off x="5435640" y="5484960"/>
            <a:ext cx="758880" cy="52848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TIME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5400000">
            <a:off x="6731280" y="5412240"/>
            <a:ext cx="527040" cy="6843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654960" y="5718240"/>
            <a:ext cx="455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Wingdings 3"/>
                <a:ea typeface="Wingdings 3"/>
              </a:rPr>
              <a:t>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6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437160" y="5256360"/>
            <a:ext cx="111132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W.PARTSUPP.DATE,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AY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cxnSp>
        <p:nvCxnSpPr>
          <p:cNvPr id="297" name=""/>
          <p:cNvCxnSpPr>
            <a:stCxn id="296" idx="2"/>
            <a:endCxn id="294" idx="1"/>
          </p:cNvCxnSpPr>
          <p:nvPr/>
        </p:nvCxnSpPr>
        <p:spPr>
          <a:xfrm>
            <a:off x="6994080" y="5430600"/>
            <a:ext cx="108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8" name=""/>
          <p:cNvCxnSpPr>
            <a:stCxn id="279" idx="4"/>
            <a:endCxn id="294" idx="3"/>
          </p:cNvCxnSpPr>
          <p:nvPr/>
        </p:nvCxnSpPr>
        <p:spPr>
          <a:xfrm>
            <a:off x="6210360" y="4802040"/>
            <a:ext cx="443520" cy="9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9" name=""/>
          <p:cNvCxnSpPr>
            <a:stCxn id="293" idx="4"/>
            <a:endCxn id="294" idx="3"/>
          </p:cNvCxnSpPr>
          <p:nvPr/>
        </p:nvCxnSpPr>
        <p:spPr>
          <a:xfrm>
            <a:off x="6203880" y="5749560"/>
            <a:ext cx="45000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0" name=""/>
          <p:cNvCxnSpPr>
            <a:stCxn id="294" idx="0"/>
            <a:endCxn id="284" idx="3"/>
          </p:cNvCxnSpPr>
          <p:nvPr/>
        </p:nvCxnSpPr>
        <p:spPr>
          <a:xfrm>
            <a:off x="7335360" y="5752800"/>
            <a:ext cx="291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7" name=""/>
          <p:cNvSpPr/>
          <p:nvPr/>
        </p:nvSpPr>
        <p:spPr>
          <a:xfrm rot="5400000">
            <a:off x="1825560" y="4486320"/>
            <a:ext cx="527040" cy="6825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47800" y="4791240"/>
            <a:ext cx="457200" cy="1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FTP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" y="4564080"/>
            <a:ext cx="758880" cy="52704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_PARTSUPP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2" idx="4"/>
            <a:endCxn id="277" idx="3"/>
          </p:cNvCxnSpPr>
          <p:nvPr/>
        </p:nvCxnSpPr>
        <p:spPr>
          <a:xfrm flipV="1">
            <a:off x="1454040" y="4825800"/>
            <a:ext cx="293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685800" y="5492880"/>
            <a:ext cx="758880" cy="52704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_PARTSUPP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5400000">
            <a:off x="1825560" y="5415120"/>
            <a:ext cx="527040" cy="6825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747800" y="5719680"/>
            <a:ext cx="457200" cy="1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FTP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4" idx="4"/>
            <a:endCxn id="305" idx="3"/>
          </p:cNvCxnSpPr>
          <p:nvPr/>
        </p:nvCxnSpPr>
        <p:spPr>
          <a:xfrm flipV="1">
            <a:off x="1454040" y="5753880"/>
            <a:ext cx="2930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8" name=""/>
          <p:cNvSpPr/>
          <p:nvPr/>
        </p:nvSpPr>
        <p:spPr>
          <a:xfrm>
            <a:off x="896760" y="2887560"/>
            <a:ext cx="758880" cy="52884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S.PS_NEW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2111760" y="3104280"/>
            <a:ext cx="528840" cy="6825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035080" y="3409920"/>
            <a:ext cx="5382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IFF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08" idx="4"/>
            <a:endCxn id="309" idx="3"/>
          </p:cNvCxnSpPr>
          <p:nvPr/>
        </p:nvCxnSpPr>
        <p:spPr>
          <a:xfrm>
            <a:off x="1665000" y="3152520"/>
            <a:ext cx="370440" cy="29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896760" y="3475080"/>
            <a:ext cx="758880" cy="52848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S.PS_OLD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cxnSp>
        <p:nvCxnSpPr>
          <p:cNvPr id="313" name=""/>
          <p:cNvCxnSpPr>
            <a:stCxn id="305" idx="0"/>
            <a:endCxn id="308" idx="2"/>
          </p:cNvCxnSpPr>
          <p:nvPr/>
        </p:nvCxnSpPr>
        <p:spPr>
          <a:xfrm flipH="1" flipV="1">
            <a:off x="887040" y="3152160"/>
            <a:ext cx="1542240" cy="2602440"/>
          </a:xfrm>
          <a:prstGeom prst="bentConnector5">
            <a:avLst>
              <a:gd name="adj1" fmla="val -22344"/>
              <a:gd name="adj2" fmla="val 59477"/>
              <a:gd name="adj3" fmla="val 10770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4" name=""/>
          <p:cNvCxnSpPr>
            <a:stCxn id="312" idx="4"/>
            <a:endCxn id="309" idx="3"/>
          </p:cNvCxnSpPr>
          <p:nvPr/>
        </p:nvCxnSpPr>
        <p:spPr>
          <a:xfrm flipV="1">
            <a:off x="1665000" y="3444840"/>
            <a:ext cx="370440" cy="29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5" name=""/>
          <p:cNvSpPr/>
          <p:nvPr/>
        </p:nvSpPr>
        <p:spPr>
          <a:xfrm>
            <a:off x="1768320" y="2887560"/>
            <a:ext cx="12128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S.PS_NEW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.PKEY,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S.PS_OLD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.PKEY</a:t>
            </a:r>
            <a:endParaRPr b="0" lang="en-US" sz="800" spc="-1" strike="noStrike">
              <a:solidFill>
                <a:srgbClr val="00172e"/>
              </a:solidFill>
              <a:latin typeface="Times New Roman"/>
            </a:endParaRPr>
          </a:p>
        </p:txBody>
      </p:sp>
      <p:cxnSp>
        <p:nvCxnSpPr>
          <p:cNvPr id="316" name=""/>
          <p:cNvCxnSpPr>
            <a:stCxn id="315" idx="2"/>
            <a:endCxn id="309" idx="1"/>
          </p:cNvCxnSpPr>
          <p:nvPr/>
        </p:nvCxnSpPr>
        <p:spPr>
          <a:xfrm>
            <a:off x="2374560" y="3063600"/>
            <a:ext cx="5400" cy="25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309" idx="0"/>
            <a:endCxn id="215" idx="2"/>
          </p:cNvCxnSpPr>
          <p:nvPr/>
        </p:nvCxnSpPr>
        <p:spPr>
          <a:xfrm flipV="1">
            <a:off x="2717640" y="3440880"/>
            <a:ext cx="240480" cy="3960"/>
          </a:xfrm>
          <a:prstGeom prst="bentConnector3">
            <a:avLst>
              <a:gd name="adj1" fmla="val 515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269" idx="0"/>
            <a:endCxn id="245" idx="2"/>
          </p:cNvCxnSpPr>
          <p:nvPr/>
        </p:nvCxnSpPr>
        <p:spPr>
          <a:xfrm>
            <a:off x="2715840" y="2143080"/>
            <a:ext cx="238680" cy="7200"/>
          </a:xfrm>
          <a:prstGeom prst="bentConnector3">
            <a:avLst>
              <a:gd name="adj1" fmla="val 519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"/>
          <p:cNvCxnSpPr>
            <a:stCxn id="212" idx="0"/>
            <a:endCxn id="235" idx="3"/>
          </p:cNvCxnSpPr>
          <p:nvPr/>
        </p:nvCxnSpPr>
        <p:spPr>
          <a:xfrm>
            <a:off x="7589520" y="2147760"/>
            <a:ext cx="562680" cy="12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"/>
          <p:cNvCxnSpPr>
            <a:stCxn id="231" idx="0"/>
            <a:endCxn id="236" idx="1"/>
          </p:cNvCxnSpPr>
          <p:nvPr/>
        </p:nvCxnSpPr>
        <p:spPr>
          <a:xfrm flipH="1" flipV="1">
            <a:off x="8151480" y="2304360"/>
            <a:ext cx="419760" cy="1137240"/>
          </a:xfrm>
          <a:prstGeom prst="bentConnector5">
            <a:avLst>
              <a:gd name="adj1" fmla="val -54163"/>
              <a:gd name="adj2" fmla="val 59056"/>
              <a:gd name="adj3" fmla="val 1545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1" name=""/>
          <p:cNvCxnSpPr>
            <a:stCxn id="235" idx="0"/>
            <a:endCxn id="279" idx="2"/>
          </p:cNvCxnSpPr>
          <p:nvPr/>
        </p:nvCxnSpPr>
        <p:spPr>
          <a:xfrm flipH="1">
            <a:off x="5432040" y="2271240"/>
            <a:ext cx="3402720" cy="2531160"/>
          </a:xfrm>
          <a:prstGeom prst="bentConnector5">
            <a:avLst>
              <a:gd name="adj1" fmla="val -6708"/>
              <a:gd name="adj2" fmla="val 78662"/>
              <a:gd name="adj3" fmla="val 11674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otivation</a:t>
            </a:r>
            <a:endParaRPr b="0" lang="en-US" sz="4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86520" y="609588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Times New Roman"/>
              </a:rPr>
              <a:t>Sources</a:t>
            </a:r>
            <a:endParaRPr b="0" lang="en-US" sz="1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531040" y="6095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Times New Roman"/>
              </a:rPr>
              <a:t>DW</a:t>
            </a:r>
            <a:endParaRPr b="0" lang="en-US" sz="1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77560" y="388620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Times New Roman"/>
              </a:rPr>
              <a:t>DSA</a:t>
            </a:r>
            <a:endParaRPr b="0" lang="en-US" sz="1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Vassiliadis,A.Simitsis,S.Skiadopoulos. Modeling ETL Activities as Graphs. DMDW'02 Toronto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E7ED8-CD8E-475F-AED4-BCE1A8FDB8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Motiv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part of the scenario is affected if we delete an attribu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attributes/tables are involved in the population of attribut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W.PARTSUPP.SUPP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“good” is my design of the ETL scenari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Vassiliadis,A.Simitsis,S.Skiadopoulos. Modeling ETL Activities as Graphs. DMDW'02 Toronto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12DF0-4CE7-4AA7-9966-6CC1122DA3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 &amp; Mo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Graph Model for ETL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rtance Metrics for ETL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 and Future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Vassiliadis,A.Simitsis,S.Skiadopoulos. Modeling ETL Activities as Graphs. DMDW'02 Toronto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47790-9E39-43E5-8AB7-09377369E4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upport the needs of the designer and the administrator, we model each ETL scenario as a graph, which we call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Architectur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take advantage of the data-centric, script-based nature of ETL activities to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odel their internals as graph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o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give simple visual representations for reasons of intui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raph Modeling of ETL Scenarios</a:t>
            </a:r>
            <a:endParaRPr b="0" lang="en-US" sz="4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Vassiliadis,A.Simitsis,S.Skiadopoulos. Modeling ETL Activities as Graphs. DMDW'02 Toronto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56088-D7D9-4059-A29D-A94854D4EE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eliminar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Data types</a:t>
            </a:r>
            <a:r>
              <a:rPr b="1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Constants</a:t>
            </a:r>
            <a:r>
              <a:rPr b="1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Attributes</a:t>
            </a:r>
            <a:r>
              <a:rPr b="1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Record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Function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72e"/>
                </a:solidFill>
                <a:latin typeface="Times New Roman"/>
                <a:ea typeface="Times New Roman"/>
              </a:rPr>
              <a:t>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695760" y="3886200"/>
            <a:ext cx="1066680" cy="55728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60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657600" y="4610160"/>
            <a:ext cx="114300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8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$2€</a:t>
            </a:r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67120" y="2286000"/>
            <a:ext cx="53352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581280" y="2819520"/>
            <a:ext cx="1105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KEY</a:t>
            </a:r>
            <a:endParaRPr b="0" lang="en-US" sz="2000" spc="-1" strike="noStrike">
              <a:solidFill>
                <a:srgbClr val="00172e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0" y="5257800"/>
            <a:ext cx="11430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88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72e"/>
                </a:solidFill>
                <a:latin typeface="Courier New"/>
              </a:rPr>
              <a:t>my$2€</a:t>
            </a:r>
            <a:endParaRPr b="0" lang="en-US" sz="2400" spc="-1" strike="noStrike">
              <a:solidFill>
                <a:srgbClr val="00172e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543480" y="1676520"/>
            <a:ext cx="1180800" cy="533160"/>
            <a:chOff x="3543480" y="1676520"/>
            <a:chExt cx="1180800" cy="533160"/>
          </a:xfrm>
        </p:grpSpPr>
        <p:sp>
          <p:nvSpPr>
            <p:cNvPr id="340" name=""/>
            <p:cNvSpPr/>
            <p:nvPr/>
          </p:nvSpPr>
          <p:spPr>
            <a:xfrm>
              <a:off x="3543480" y="1676520"/>
              <a:ext cx="1180800" cy="533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638520" y="173664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Integer</a:t>
              </a:r>
              <a:endParaRPr b="0" lang="en-US" sz="2000" spc="-1" strike="noStrike">
                <a:solidFill>
                  <a:srgbClr val="00172e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.Vassiliadis,A.Simitsis,S.Skiadopoulos. Modeling ETL Activities as Graphs. DMDW'02 Toronto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59B0D-FDBE-421F-873F-848B66B226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8T09:02:50Z</dcterms:created>
  <dc:creator>asimi</dc:creator>
  <dc:description>asimi@dblab.ntua.gr</dc:description>
  <dc:language>en-US</dc:language>
  <cp:lastModifiedBy>PV</cp:lastModifiedBy>
  <dcterms:modified xsi:type="dcterms:W3CDTF">2002-05-27T22:03:06Z</dcterms:modified>
  <cp:revision>74</cp:revision>
  <dc:subject/>
  <dc:title>Modeling ETL Activities as Graphs </dc:title>
</cp:coreProperties>
</file>