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93A0-47E3-41F9-9789-9B6967E71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AND AFFIL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ASPECTS: 2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 STUFF: 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EXIST MORE THAN ONE STANDARDS FOR MEDICAL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AL: 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: CULTURAL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 / FK / BALANCE OF INCOME vs EXPE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 TO DETEC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IF YOU DO, HOW TO CONVINCE? (AJAX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DUE TO REDUNDANCY! NORMALLY, THEY KNOW, BUT WON’T TELL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LUTION: FRUSTRATES TEAM, BACK IN SCHEDULE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 TO DETECT WHAT CHANGES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EPORTS, SOFTWARE, MAT. VIEWS (if 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: WHICH BRINGS US TO 2nd PROJEC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TION THAT IT SMALL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«POLITICS!!! POLITICS!!! POLITICS!!!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COMPEXITY OF DW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CULTY TO WRITE SW, ESP. EXTR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X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: INTERESTING TECHNICAL SOLUTION: DUE TO TIME CONSTRAINTS TO COMPLETE THE BALANCE SHEET AT THE END OF THE YEAR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P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AS PERFORM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L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EDUNDANCY EXPLOIT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Q.PROCESSING TECHNIQUES WITHIN COMMERCIAL OPTIMIZERS? ANYBOD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COMPLETE INFORM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KIMBALL’S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ONE (1) PAPER FOR ESTIMATION OF VIEW SIZES. ALL OUR ALGORITHMS BASED ON THIS KNOWLEDG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CHAOS? LINKED TO (2) FORTUNATELY TECHNOLOGY SEEMS TO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REVERSE ENG. OF FILES? DB’s? SAMPLING FOR TEST SUBSETS? TOOLS EXIST BUT BUDGET AND SCHEDULE ARE FINITE NUMBER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MDW last year: discussion showed that we could not really answer efficiently the questions posed by practition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ft-criticism: Are we attacking problem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r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mpact on practice? Is there any room for further topics to be explo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suggesting what topics are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ight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s to take up. Just a link to current prac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HARD TO ACHIEVE AND GUARANTEE I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MDIS EXISTS BUT HOW MANY TOOLS FOLLOW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GAVE ALREADY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MERILL LY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: DO NOT EXCLUDE MY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: REFER TO PREVIOUS PROCESS 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ILOMAR!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GROUNDBREAKING VS DEL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: IS IT UNAVOIDABLE AFTER AL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DIGM = WAY OF THINKING &amp; TEACHING. ALWAYS A PENDING QUESTION IF RIGHT ON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AP IS A GOOD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of all, we are dealing with a BIG market which is EXP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.2 B RDBMS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.5 B O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 THOROUGH, OR COMPLETE STUDY. NOT INTENDED FOR THI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CRITICISM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THIS AND NOT THE OTHER 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APER MAIGHT BELONG TO MORE THAN ONE 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ILL, WE BELIEVE (WITHOUT PROVING) IT GIVES A GOOD IDEA OF WHAT GOES O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CONFERENCES. To get the feeling, NOT a thorough 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papers/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ed area: seem to reach st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 NOT CLAIM A PERFECT CLASSIFICATION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OR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LUSTERING, INDEXING, MI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DUNDA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ONTAINMENT, REWRI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ATA &amp; SCHEMA ~, QUERY PROCESSIN’ OVER ~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IE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VIEW MNTNC DETECTION OF CHANGES, DW DGN, SIZE ESTIM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. PROCESSIN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ACHIN’, PROCESSIN’ AGGREGATES / CUBES, TOP N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COMPLET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DI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DEVIATING TOWARDS WEB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OLAP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STRANGE? SIGMOD00: 0/10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RISING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DUNDANCY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STANDARD AUDIENCE: THEORETIC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ORAG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IS LOSING 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VIEW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SATURATION POI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DISCERN ANY BIAS, THIS IS WHY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 = SPAM!! :-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94663-9541-4553-AD0A-9426216F9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C2D7-6B37-418D-A03F-A3EEFB07C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9854-B81E-41ED-8A0C-8DF8B25BD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5A539-D358-40F7-A422-205FFB36D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BC792-73A2-4DBE-BFD1-6B79706B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93087-A263-4519-A6A9-DF984D2F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2D6CA-850E-4DCA-858D-532B7034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2BBEA-9B6C-4E8F-9EC0-194DB04D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26106-8305-4EC7-BDE9-7AE0E46B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FF6ED-D008-4D1D-8927-5CFEEA2D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03939-190A-4C2B-B116-A7E491C3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79FDA-8559-4A22-8D7F-8991446D4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63901-9DD5-43F2-A907-D43AE6A7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404B1-BFC9-4D39-AEAE-2ECD75E5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98817-D7E4-4CAD-A2FF-E30DBAD8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BB3B3-8AC3-42B3-9DDC-76BC0565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D6606-543C-45AC-8FAC-95ED8E50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42730-49F5-4049-AD76-68FE3BF85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8D6F8-4FE0-4989-B52F-BD213C6BC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1DA5-42FC-4EE3-96A5-4311315AF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7DD8E-62D8-4F29-8710-3CE28E725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0CC95-2836-4135-A8B6-463D19C92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F904D-CB9A-4158-8C2B-6E26680C7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6A76D-E0DF-4DBD-AE3B-14468541C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International Workshop on Design and Management of Data Warehouses (DMDW'2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Stockholm, Sweden, June 5-6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9C24-EB84-4E9B-931D-1C2BFCFE6494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150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7162560" y="6248520"/>
            <a:ext cx="190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C543-52C8-4B6B-8A75-1A9CD5EF2038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Gulliver in the land of data warehousing: practical experiences and observations of a research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81160" y="3962520"/>
            <a:ext cx="67816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nos Vassiliad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ational Technical University of Athe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61722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International Workshop on Design and Management of Data Warehouses (DMDW’2000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Stockholm, Sweden, June 5-6, 20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ct #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ading of data from all medical centers in Greece in a central wareho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nual refresh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andard format for input sent from the sources (no schema integration require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support top management in decision support (100% quality require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F83E5-4D63-4C92-BFF0-137669AF65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ct #1: Practical Problem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ck of training of the target administration tea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volvement of the administrators of the legacy system in the design of the new syst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or quality of legacy da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grammer’s pride: how to convince someone that «his»/«hers» data has problem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0D6FE-5E5A-4F6D-985E-260D84886C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ct #1: Practical Problem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tection of reliable 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ata warehouse ev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political problems, though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CA9FC-9EA9-4620-8876-4D4D7AAFAF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ct #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load, clean and export data for pension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.5 million rows per month, loaded on a monthly ba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Queried mostly by pre-canned repor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d also for certificates of the public sector (100% quality of data require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0647-DF04-4ED8-92FA-D35921B3A5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ct #2: Practical Problem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Different departments involved in the ownership of the inform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loss of ownership of information = loss of po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overhead for persons and syst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revelation of any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ciencies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in the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8B6B0-1923-4945-8F47-B4F5DB1F13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ject #2: Practical Proble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765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fficulty in constructing the extraction and cleaning softw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 of a typical proces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7339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«...the problem involved detecting relevant data from a COBOL file, converting EBCDIC to ASCII format, unpacking the packed numbers, reducing all address fields to a standard format and loading the result into a table in the data warehouse…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6C50C-72C6-4CF7-B0DD-87E473F47D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ct #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Integration of four heterogeneous legacy systems (COBOL, Excel, dBase and Oracl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ccessful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pilot for the partial integration of two of th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thusiastic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manag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444A-C7EE-4A98-A0E2-7076A340AF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ct #3: No Practical Problems .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3962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«…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no data were to be given from the largest legacy system, since its administrators simply refused to provide them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 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borted before it really started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fficial excuse: security reasons, work overhead,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ff-the-record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6AA3-A8E6-4E52-B03F-8F1F28A2D0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ccesses of research to meet practical problem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Wha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to propagate from the sources to the DW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mon: refreshment can take up to 55% of the cost of running a D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dex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tmap Indexes, Join Index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orage &amp; Query Process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nclear ?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2440E-3DFD-4173-9FD9-49B8E04973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can research do about .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DW Design Methodologi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Examination of volume of queries, data sets and network traffic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Choice of hardware and softwar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ata Engineering?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6AC0-9457-4EA6-9D61-5CCD3B1616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«...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towards showing the issues which occupy research and practice, and the extent to which these issues have any overlap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…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8A0C-92D1-4150-92B1-57D472EA32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can research do about .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Quality of data (both legacy and output)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Metadata managemen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ata warehouse evolutio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Training of end-users / other stakeholder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Times New Roman"/>
              </a:rPr>
              <a:t>Difficulty in using tools (e.g., ETL &amp; data cleaning tool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2EAC2-F199-46A6-B27A-98D424FE8E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57913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ee Demarest ‘97 for a detailed discussion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can research do about .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Procedural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problem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spcBef>
                <a:spcPts val="174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How to introduce the DW in the organization?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spcBef>
                <a:spcPts val="174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Project scope, pilots, involvment of stakeholder communities,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2001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Social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problem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Times New Roman"/>
              </a:rPr>
              <a:t>Data ownership and access are reconsider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Times New Roman"/>
              </a:rPr>
              <a:t>The work practices of user communities are affec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E4CE7-F45C-4E9D-82DC-FF467AE5BC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stead of conclusions, more questions.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researchers aware of practical problem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it rewarding, in terms of research, to deal with the «dirty» problem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it the Paradigm’s faul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038D1-2BAD-4F34-9E15-E560E1CE7C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ent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fferent opinion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6477120" cy="41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8B973-AB21-476C-8C06-10950BB7C4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Mon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Resear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al Experien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verlap between Research and Current Pract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rther Consider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9E00B-54F5-4517-BBD0-2FFF0254EB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ne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371600"/>
            <a:ext cx="81532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report for Merrill Lynch at the end of 1998 men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ata mart market expected to have a 40% CAG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DBMS sales for data warehouse purposes: CAGR of 25%, reaching total sales of $2.2 billions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OLAP report at the end of 1999 men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$2.5 billions sales for OLAP tools (including implementation services), expected to grow with 20% rate in 20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E059A-9387-4049-9CF2-27B245B330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view of research wor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 prestigious conferences: PODS, SIGMOD, VLD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ttom-up classification of papers into categories and super-categor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ntion: simply to get a «feeling» of the research tenden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1319-9F02-4A6D-B8BE-6E9FABBB2E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search:Grouping by Yea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43000" y="2087640"/>
          <a:ext cx="7086600" cy="347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87640"/>
                    <a:ext cx="70866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5BE89-CA5E-429E-9C33-FEC9E316C9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search: Grouping by typ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371600"/>
          <a:ext cx="8153280" cy="42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15328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BBFA2-0738-46A9-B64C-83B49D2C8A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00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search: Evolution over tim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371600"/>
          <a:ext cx="8458200" cy="48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45820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ACF44-C12C-4F8A-9EBF-2E6E192A6A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ersonal Experien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sic research project: Foundations of Data Warehouse Quality (DWQ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ttp://www.dbnet.ece.ntua.gr/~dwq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 war stories 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7DB66-F9D9-40C6-A0D3-6D51C9F3A7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1T14:26:08Z</dcterms:created>
  <dc:creator>Timos Sellis</dc:creator>
  <dc:description/>
  <dc:language>en-US</dc:language>
  <cp:lastModifiedBy>Timos Sellis</cp:lastModifiedBy>
  <cp:lastPrinted>2000-06-02T14:17:16Z</cp:lastPrinted>
  <dcterms:modified xsi:type="dcterms:W3CDTF">2000-06-02T20:00:02Z</dcterms:modified>
  <cp:revision>44</cp:revision>
  <dc:subject/>
  <dc:title>Gulliver in the land of data warehousing: practical experiences and observations of a researcher</dc:title>
</cp:coreProperties>
</file>