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6473-9E03-4193-907E-9FC94579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422-9FFC-4A0D-8FBB-D16AB6EE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5104-5383-4106-8C5D-C699488E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595D-6887-4271-948B-65B4EC26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F08E-62E6-4E78-A0D5-81B9ED56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7CE4-5BD1-48C6-816F-9A8DE294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31DF-DDEF-4F3F-BAAC-6B5662BD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BD88-FA56-4455-AC14-4F618101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7A85-DF8E-4089-BC0A-D019DABF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50960" y="151920"/>
            <a:ext cx="7718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259E-E675-4237-8017-EA8AE546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1097-0F24-438E-9F5A-9F4F2674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C0C2-DB91-49D0-A31F-59839B51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F54E-8361-4FC5-A8F3-671F29F7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B40A-940B-4199-B1B4-DF1D7697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B29F-2081-44A0-B44C-9ECEC22E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EADA-2406-49A0-9502-4E405193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3CF7-283E-47AC-9C84-5D4DE8F1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B546-FAC4-423A-8D62-ED34DAFE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8F15-A29C-45DE-AF06-17CE7731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1E46-3DB5-4133-9D7C-BB919004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0960" y="151920"/>
            <a:ext cx="7718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C656-FD8A-4C25-9259-18CF085F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A815-B841-4062-9382-CBF0D032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FC3-9BF7-41CF-AFF4-3359B696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C613-8A5B-4349-B4E1-9F4575ED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792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4C27-F86E-48E5-8024-3FDA93EB047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0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3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3A91-9F78-4272-AA0A-216959DEE2F1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37920" y="1218960"/>
            <a:ext cx="66279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Modelling and Optimisation Issues for Multidimensional Databases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654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Panos Vassiliad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Spiros Skiadopoulos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National Technical University of Athens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280" y="2362320"/>
          <a:ext cx="3430800" cy="294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362320"/>
                    <a:ext cx="3430800" cy="29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asses of Selection Condi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o classes of selection condi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toms involving values (valu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L op 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toms involving only levels (level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op L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re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is level or an ancestor of a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is valu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op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is {&lt;.&gt;,=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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ssiliadis, Skiadopoulos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E3C5-BB05-4559-B143-D209C3BBC9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hecking Selection Conditions (values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2200" spc="-1" strike="noStrike" baseline="30000">
                <a:solidFill>
                  <a:srgbClr val="eaeaea"/>
                </a:solidFill>
                <a:latin typeface="Courier New"/>
              </a:rPr>
              <a:t>i</a:t>
            </a: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=[DS</a:t>
            </a:r>
            <a:r>
              <a:rPr b="0" lang="en-GB" sz="22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,φ</a:t>
            </a:r>
            <a:r>
              <a:rPr b="0" lang="en-GB" sz="2200" spc="-1" strike="noStrike" baseline="-25000">
                <a:solidFill>
                  <a:srgbClr val="eaeaea"/>
                </a:solidFill>
                <a:latin typeface="Courier New"/>
              </a:rPr>
              <a:t>i</a:t>
            </a: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,[Month,ALL,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ALL,ALL,ALL,ALL,ALL,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Sales],sum(sales)]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2200" spc="-1" strike="noStrike" baseline="-25000">
                <a:solidFill>
                  <a:srgbClr val="eaeaea"/>
                </a:solidFill>
                <a:latin typeface="Courier New"/>
              </a:rPr>
              <a:t>old1</a:t>
            </a: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=18-Feb-97</a:t>
            </a:r>
            <a:r>
              <a:rPr b="0" lang="en-GB" sz="22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day</a:t>
            </a:r>
            <a:r>
              <a:rPr b="0" lang="en-GB" sz="22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3-Sep-97</a:t>
            </a:r>
            <a:r>
              <a:rPr b="0" lang="en-GB" sz="2200" spc="-1" strike="noStrike">
                <a:solidFill>
                  <a:srgbClr val="eaeaea"/>
                </a:solidFill>
                <a:latin typeface="Symbol"/>
                <a:ea typeface="Symbol"/>
              </a:rPr>
              <a:t></a:t>
            </a: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Salesman=Netz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2200" spc="-1" strike="noStrike" baseline="-25000">
                <a:solidFill>
                  <a:srgbClr val="eaeaea"/>
                </a:solidFill>
                <a:latin typeface="Courier New"/>
              </a:rPr>
              <a:t>old2</a:t>
            </a: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=6-Feb-97</a:t>
            </a:r>
            <a:r>
              <a:rPr b="0" lang="en-GB" sz="22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day</a:t>
            </a:r>
            <a:r>
              <a:rPr b="0" lang="en-GB" sz="22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3-Sep-97 </a:t>
            </a:r>
            <a:r>
              <a:rPr b="0" lang="en-GB" sz="2200" spc="-1" strike="noStrike">
                <a:solidFill>
                  <a:srgbClr val="eaeaea"/>
                </a:solidFill>
                <a:latin typeface="Symbol"/>
                <a:ea typeface="Symbol"/>
              </a:rPr>
              <a:t></a:t>
            </a: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Salesman=Netz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22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=18-Feb-97</a:t>
            </a:r>
            <a:r>
              <a:rPr b="0" lang="en-GB" sz="22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day</a:t>
            </a:r>
            <a:r>
              <a:rPr b="0" lang="en-GB" sz="22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31-May-97 </a:t>
            </a:r>
            <a:r>
              <a:rPr b="0" lang="en-GB" sz="2200" spc="-1" strike="noStrike">
                <a:solidFill>
                  <a:srgbClr val="eaeaea"/>
                </a:solidFill>
                <a:latin typeface="Symbol"/>
                <a:ea typeface="Symbol"/>
              </a:rPr>
              <a:t></a:t>
            </a: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Salesman=Netz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419720" y="1600200"/>
          <a:ext cx="419076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600200"/>
                    <a:ext cx="41907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ssiliadis, Skiadopoulos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CF6C-7334-4824-923B-1FD88D297A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lgorith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tition values by the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schem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of the new cub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each partition of the new cube check if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re exists a partition of the old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if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two partitions contain the same valu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ssiliadis, Skiadopoulos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D197-1FAF-4A71-8622-BE235CEF05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hecking Selection Conditions (levels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t of axio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und and Comple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gorith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ute the closure of </a:t>
            </a:r>
            <a:r>
              <a:rPr b="0" lang="en-GB" sz="28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28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pply axioms until they do not generate new constrain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</a:t>
            </a:r>
            <a:r>
              <a:rPr b="0" lang="en-GB" sz="28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28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elongs to the closure of </a:t>
            </a:r>
            <a:r>
              <a:rPr b="0" lang="en-GB" sz="28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28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hen </a:t>
            </a: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l-GR" sz="28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 is more restrictive than </a:t>
            </a: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l-GR" sz="28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ssiliadis, Skiadopoulos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AE7F-C1AE-4ED0-AF86-32A360309A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xiom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766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X&lt;Y implies X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X&lt;Y implies X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Y and X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Y imply X&lt;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Y implies Y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X&lt;Y and Y&lt;Z imply X&lt;Z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Y and Y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Z imply X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Z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Z, Z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Y, X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W, W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Y and W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Z imply X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6480" y="1523520"/>
            <a:ext cx="40766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Y implies f(X)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f(Y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f(X)&lt;f(Y) implies X&lt;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f(X)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f(Y) implies X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f(X)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f(Y) and f(Y)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f(X) implies f(X)=f(Y)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f(X)=f(Y) and f(Y)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f(Z) implies f(X)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f(Z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f(X)=f(Y) and f(Y)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f(Z) implies f(X)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f(Z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f(X)=f(Y) implies f(X)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f(Y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ssiliadis, Skiadopoulos, CAiSE'00, Stockholm, Sweden, June 200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3573-7225-4C65-8F77-35C5093312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esting Cube Usabilit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eaeaea"/>
                </a:solidFill>
                <a:latin typeface="Times New Roman"/>
              </a:rPr>
              <a:t>Algorithm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ube_Usability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eaeaea"/>
                </a:solidFill>
                <a:latin typeface="Times New Roman"/>
              </a:rPr>
              <a:t>Input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: Α detailed data set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DS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=[L,…,L,M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]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two cubes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=(DS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,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,[L,…,L,M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],agg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(M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)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=(DS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,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,[L,…,L,M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],agg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(M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)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such that 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involve either (a) conjunctions of atoms of the for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θ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or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(b) conjunctions of atoms of the for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θL’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where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’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re levels and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is a value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eaeaea"/>
                </a:solidFill>
                <a:latin typeface="Times New Roman"/>
              </a:rPr>
              <a:t>Output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: A rewriting that calculates cube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from the tuples of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. 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If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ll atoms of 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involve conjunctions of atoms of the for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θ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The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2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For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every ato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=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θ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in 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(or equivalent to this form)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3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If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is the respective level in the schema of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MT Extra"/>
                <a:ea typeface="MT Extra"/>
              </a:rPr>
              <a:t>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Then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4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                  Transfor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to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θl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5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EndIf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6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ElseIf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is the respective level in the schema of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>
                <a:solidFill>
                  <a:srgbClr val="eaeaea"/>
                </a:solidFill>
                <a:latin typeface="MT Extra"/>
                <a:ea typeface="MT Extra"/>
              </a:rPr>
              <a:t>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The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7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         Transfor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to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θ’anc(l)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where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θ’=θ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except for two cases: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                                 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(a)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=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&lt;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min(desc(anc(l)))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where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θ’= </a:t>
            </a:r>
            <a:r>
              <a:rPr b="0" lang="en-GB" sz="1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                                 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(b)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=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&gt;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max(desc(anc(l)))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where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θ’= </a:t>
            </a:r>
            <a:r>
              <a:rPr b="0" lang="en-GB" sz="1000" spc="-1" strike="noStrike">
                <a:solidFill>
                  <a:srgbClr val="eaeaea"/>
                </a:solidFill>
                <a:latin typeface="Symbol"/>
                <a:ea typeface="Symbol"/>
              </a:rPr>
              <a:t>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8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EndIf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9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EndFo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0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EndIf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1. 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If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ll atoms of 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involve conjunctions of atoms of the for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=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θ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’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(or equivalent to this form), where both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’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are higher than the respective levels of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The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2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For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every ato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=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θ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’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in 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5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 Transfor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to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θ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’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6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EndFo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7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EndIf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8. Apply the transformed selection condition to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derive a new data set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DS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9. Replace all the values of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DS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with their ancestor values at the levels of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, resulting in a new data set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DS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20. Aggregate (“group by” in the relational semantics) on the tuples of DS</a:t>
            </a:r>
            <a:r>
              <a:rPr b="0" lang="en-GB" sz="1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, so that we produce</a:t>
            </a:r>
            <a:r>
              <a:rPr b="1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1" lang="en-GB" sz="10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ssiliadis, Skiadopoulos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1A1B-97CA-4289-9F11-C0A12479AD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eaeaea"/>
                </a:solidFill>
                <a:latin typeface="Times New Roman"/>
              </a:rPr>
              <a:t>Cube model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eaeaea"/>
                </a:solidFill>
                <a:latin typeface="Times New Roman"/>
              </a:rPr>
              <a:t>Cube Usability Problem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Times New Roman"/>
              </a:rPr>
              <a:t>Containment of two selection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Times New Roman"/>
              </a:rPr>
              <a:t>Rewriting Algorithm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Our results</a:t>
            </a:r>
            <a:r>
              <a:rPr b="0" lang="en-GB" sz="2600" spc="-1" strike="noStrike">
                <a:solidFill>
                  <a:srgbClr val="eaeaea"/>
                </a:solidFill>
                <a:latin typeface="Times New Roman"/>
              </a:rPr>
              <a:t> apply to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Times New Roman"/>
              </a:rPr>
              <a:t>query optimisation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Times New Roman"/>
              </a:rPr>
              <a:t>data warehouse design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Times New Roman"/>
              </a:rPr>
              <a:t>caching problem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ssiliadis, Skiadopoulos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B723-AE86-4F1C-82C2-300CCB4F61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uture wor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Implementation of  a real syst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Other aspects of the hierarchy structur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partial ancestor fun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hierarchies that are not well captured as lattic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Partial rewritings and optimisation of the physical execution for cube oper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Smarter algorithms for the cube usability proble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ssiliadis, Skiadopoulos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DE48-418C-4CB2-B12D-BD30F53E59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ontribu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Cube model and Algebra:</a:t>
            </a:r>
            <a:r>
              <a:rPr b="0" i="1" lang="en-GB" sz="3200" spc="-1" strike="noStrike">
                <a:solidFill>
                  <a:srgbClr val="eaeaea"/>
                </a:solidFill>
                <a:latin typeface="Times New Roman"/>
              </a:rPr>
              <a:t> “a cube is not a self-existing entity, but rather a view over an underlying data set”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Syntactic characterisations for the problem of cube usabil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ssiliadis, Skiadopoulos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6F5B-8316-4BF6-8AE9-82CB067696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The Cube Model and Algebr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Cube Usability Proble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Algorithms for Checking Cube Usabil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Future work - Conclus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ssiliadis, Skiadopoulos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AF19-9CB7-4CD8-AD6F-43785CA531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ube Mod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Ent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Data Se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Cub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Operators (Cube Algebra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Navigation (Roll-up and Drill-dow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Sele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Split measure (projection of measur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ssiliadis, Skiadopoulos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4140-3522-4728-BEC8-52EE63655A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80880" y="1523880"/>
          <a:ext cx="8458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458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ssiliadis, Skiadopoulos, CAiSE'00, Stockholm, Sweden, June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D575-75B8-425D-A318-EC65138479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Data Se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Times New Roman"/>
              </a:rPr>
              <a:t>Day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</a:rPr>
              <a:t>Title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</a:rPr>
              <a:t>       Salesman     Store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6-Feb-97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Symposium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Netz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   Paris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8-Feb-97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Karamazof brothers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Netz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   Seattle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1-May-97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Ace of Spades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Netz        LosAngeles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-Sep-97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Zarathustra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Netz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  Nagasaki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-Sep-97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Report to El Greco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Netz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  Nagasaki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-Jul-97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Ace of Spades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Venk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  Athens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-Jul-97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Piece of Mind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Venk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  Athens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ssiliadis, Skiadopoulos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48AF-0ABA-4B5C-9301-63074EEA4A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ub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c=(DS</a:t>
            </a:r>
            <a:r>
              <a:rPr b="0" lang="en-GB" sz="36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,φ,[L</a:t>
            </a:r>
            <a:r>
              <a:rPr b="0" lang="en-GB" sz="3600" spc="-1" strike="noStrike" baseline="-25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,…,L</a:t>
            </a:r>
            <a:r>
              <a:rPr b="0" lang="en-GB" sz="3600" spc="-1" strike="noStrike" baseline="-25000">
                <a:solidFill>
                  <a:srgbClr val="eaeaea"/>
                </a:solidFill>
                <a:latin typeface="Courier New"/>
              </a:rPr>
              <a:t>n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,M</a:t>
            </a:r>
            <a:r>
              <a:rPr b="0" lang="en-GB" sz="3600" spc="-1" strike="noStrike" baseline="-25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,…,M</a:t>
            </a:r>
            <a:r>
              <a:rPr b="0" lang="en-GB" sz="3600" spc="-1" strike="noStrike" baseline="-25000">
                <a:solidFill>
                  <a:srgbClr val="eaeaea"/>
                </a:solidFill>
                <a:latin typeface="Courier New"/>
              </a:rPr>
              <a:t>m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]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[agg</a:t>
            </a:r>
            <a:r>
              <a:rPr b="0" lang="en-GB" sz="3600" spc="-1" strike="noStrike" baseline="-25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(M ),…,agg</a:t>
            </a:r>
            <a:r>
              <a:rPr b="0" lang="en-GB" sz="3600" spc="-1" strike="noStrike" baseline="-25000">
                <a:solidFill>
                  <a:srgbClr val="eaeaea"/>
                </a:solidFill>
                <a:latin typeface="Courier New"/>
              </a:rPr>
              <a:t>m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(M )]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wher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Courier New"/>
              </a:rPr>
              <a:t>DS</a:t>
            </a:r>
            <a:r>
              <a:rPr b="0" lang="en-GB" sz="28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 is a detailed data s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 is a detailed selection condi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2800" spc="-1" strike="noStrike" baseline="-25000">
                <a:solidFill>
                  <a:srgbClr val="eaeaea"/>
                </a:solidFill>
                <a:latin typeface="Courier New"/>
              </a:rPr>
              <a:t>i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 are leve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Courier New"/>
              </a:rPr>
              <a:t>M</a:t>
            </a:r>
            <a:r>
              <a:rPr b="0" lang="en-GB" sz="2800" spc="-1" strike="noStrike" baseline="-25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,…,</a:t>
            </a:r>
            <a:r>
              <a:rPr b="0" lang="en-GB" sz="2800" spc="-1" strike="noStrike">
                <a:solidFill>
                  <a:srgbClr val="eaeaea"/>
                </a:solidFill>
                <a:latin typeface="Courier New"/>
              </a:rPr>
              <a:t>M</a:t>
            </a:r>
            <a:r>
              <a:rPr b="0" lang="en-GB" sz="2800" spc="-1" strike="noStrike" baseline="-25000">
                <a:solidFill>
                  <a:srgbClr val="eaeaea"/>
                </a:solidFill>
                <a:latin typeface="Courier New"/>
              </a:rPr>
              <a:t>m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 are aggregated measu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Courier New"/>
              </a:rPr>
              <a:t>agg</a:t>
            </a:r>
            <a:r>
              <a:rPr b="0" lang="en-GB" sz="2800" spc="-1" strike="noStrike" baseline="-25000">
                <a:solidFill>
                  <a:srgbClr val="eaeaea"/>
                </a:solidFill>
                <a:latin typeface="Courier New"/>
              </a:rPr>
              <a:t>i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 are aggregated functions from the set </a:t>
            </a:r>
            <a:r>
              <a:rPr b="0" lang="en-GB" sz="2800" spc="-1" strike="noStrike">
                <a:solidFill>
                  <a:srgbClr val="eaeaea"/>
                </a:solidFill>
                <a:latin typeface="Courier New"/>
              </a:rPr>
              <a:t>{sum,min,max,count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886200" y="2133720"/>
                <a:ext cx="3808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/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826320" y="2133720"/>
                <a:ext cx="446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/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ssiliadis, Skiadopoulos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0E8A-6286-4727-BBD8-D1F39AFAA1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ube Usability Problem Defini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OLAP user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eates some cub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forms an operation on a cube resulting in a new cub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this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cube be calculated from old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one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Can the tuples of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l-GR" sz="32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 can be used to compute cube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l-GR" sz="32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 (variation of the </a:t>
            </a:r>
            <a:r>
              <a:rPr b="0" i="1" lang="en-GB" sz="3200" spc="-1" strike="noStrike">
                <a:solidFill>
                  <a:srgbClr val="eaeaea"/>
                </a:solidFill>
                <a:latin typeface="Times New Roman"/>
              </a:rPr>
              <a:t>view subsumption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 problem)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ssiliadis, Skiadopoulos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09DE-FFB1-46EA-9616-BE51153948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lution (?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The new cube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l-GR" sz="32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 should: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Be defined over the same dimensions with </a:t>
            </a: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l-GR" sz="28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 and at a higher or equal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Be defined over the same measure of </a:t>
            </a: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DS</a:t>
            </a:r>
            <a:r>
              <a:rPr b="0" lang="el-GR" sz="28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. Moreover, the aggregation functions </a:t>
            </a: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agg</a:t>
            </a:r>
            <a:r>
              <a:rPr b="0" lang="el-GR" sz="28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agg</a:t>
            </a:r>
            <a:r>
              <a:rPr b="0" lang="el-GR" sz="28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 should be the sa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Have a more restrictive selection condition than </a:t>
            </a: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l-GR" sz="28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, i.e., </a:t>
            </a: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l-GR" sz="28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 is contained in </a:t>
            </a: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l-GR" sz="28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 in the usual relational sense (?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ssiliadis, Skiadopoulos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93BC-881F-4499-BCDC-4CB8A4A95B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0:31:08Z</dcterms:created>
  <dc:creator>Timos Sellis</dc:creator>
  <dc:description/>
  <dc:language>en-US</dc:language>
  <cp:lastModifiedBy>Timos Sellis</cp:lastModifiedBy>
  <cp:lastPrinted>2000-06-02T18:09:40Z</cp:lastPrinted>
  <dcterms:modified xsi:type="dcterms:W3CDTF">2000-06-13T12:34:50Z</dcterms:modified>
  <cp:revision>92</cp:revision>
  <dc:subject/>
  <dc:title>Modelling and Optimisation Issues for Multidimensional Databases </dc:title>
</cp:coreProperties>
</file>