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4F3-5A59-4384-8C93-AFDC936D4B1E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B89-05A9-412C-AEC5-2006CE50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A95-C8AF-482B-942E-A90DBF7C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0D1-C77E-434A-9516-50C35324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312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DB2-CB68-4DF1-A510-7D9A0B96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BD36-F0A3-484E-B182-1DC03893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A75-8610-4FAA-BA7B-03F92F0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E420-7E83-4DB6-AAEE-013CFD4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F88-F332-4FF3-9969-8FF8AC0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5C06-C595-43CD-BE4E-FFCB762C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9520" y="228240"/>
            <a:ext cx="700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638-8B7D-4CA9-A68F-6BBE842A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79A-8EC6-4154-B84E-1D1D977E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580-7638-4026-821F-04AA17C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E9E0-43BB-4AEE-B945-2464EBB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261-E7A4-48B0-B26D-677C53D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57E8-1338-4839-AACF-E73E9F10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52EB-3D22-45FA-A4DE-DCF50C0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312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40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04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191-F6FA-4D4F-A97E-F1F340E3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F4E-42C2-44EE-ADC1-EE9F13B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E8C-E6FB-410E-B71B-5AAB9D5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52D-216F-4B1A-BDC1-08CA06C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9520" y="228240"/>
            <a:ext cx="700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415-7163-4C82-8BF7-3A8DCA5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D40-BD29-4676-BE95-C409403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F17-070F-406B-87DB-5435890F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02A-94EE-478F-9453-7477320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3024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E63-92BA-4117-8397-3B73D5CEBD5E}" type="slidenum"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FF" descr=""/>
          <p:cNvPicPr/>
          <p:nvPr/>
        </p:nvPicPr>
        <p:blipFill>
          <a:blip r:embed="rId2"/>
          <a:stretch/>
        </p:blipFill>
        <p:spPr>
          <a:xfrm>
            <a:off x="0" y="0"/>
            <a:ext cx="230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739E-D960-4449-9E33-EE5E5AABD206}" type="slidenum">
              <a:rPr b="0" lang="el-GR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aeaea"/>
                </a:solidFill>
                <a:latin typeface="Times New Roman"/>
              </a:rPr>
              <a:t>A Model for Data Warehouse Operational Process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Christoph Quix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Yannis Vassiliou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Matthias Jarke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8006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National Technical University of Ath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Informatik V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 (Information Systems)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, RWTH Aach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GMD-FIT, Sankt August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W Process Quality -GQM lik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1295280"/>
            <a:ext cx="8610480" cy="1435320"/>
            <a:chOff x="304920" y="1295280"/>
            <a:chExt cx="8610480" cy="143532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295280"/>
              <a:ext cx="8610480" cy="459720"/>
              <a:chOff x="304920" y="1295280"/>
              <a:chExt cx="8610480" cy="459720"/>
            </a:xfrm>
          </p:grpSpPr>
          <p:sp>
            <p:nvSpPr>
              <p:cNvPr id="226" name=""/>
              <p:cNvSpPr/>
              <p:nvPr/>
            </p:nvSpPr>
            <p:spPr>
              <a:xfrm>
                <a:off x="304920" y="129528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Role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38480" y="129528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Go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37200" y="129528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why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81840" y="129528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Conceptu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914400" y="190512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Achieve 100% consistency of the information to be given to the minister!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4920" y="2844720"/>
            <a:ext cx="8610480" cy="1120320"/>
            <a:chOff x="304920" y="2844720"/>
            <a:chExt cx="8610480" cy="1120320"/>
          </a:xfrm>
        </p:grpSpPr>
        <p:grpSp>
          <p:nvGrpSpPr>
            <p:cNvPr id="232" name=""/>
            <p:cNvGrpSpPr/>
            <p:nvPr/>
          </p:nvGrpSpPr>
          <p:grpSpPr>
            <a:xfrm>
              <a:off x="304920" y="2844720"/>
              <a:ext cx="8610480" cy="485280"/>
              <a:chOff x="304920" y="2844720"/>
              <a:chExt cx="8610480" cy="485280"/>
            </a:xfrm>
          </p:grpSpPr>
          <p:sp>
            <p:nvSpPr>
              <p:cNvPr id="233" name=""/>
              <p:cNvSpPr/>
              <p:nvPr/>
            </p:nvSpPr>
            <p:spPr>
              <a:xfrm>
                <a:off x="304920" y="284472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Activity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38480" y="284472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Question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7200" y="284472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what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1840" y="287028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Logic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914400" y="350532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Is the propagation activity performing properly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04920" y="4419720"/>
            <a:ext cx="8562960" cy="1511280"/>
            <a:chOff x="304920" y="4419720"/>
            <a:chExt cx="8562960" cy="1511280"/>
          </a:xfrm>
        </p:grpSpPr>
        <p:grpSp>
          <p:nvGrpSpPr>
            <p:cNvPr id="239" name=""/>
            <p:cNvGrpSpPr/>
            <p:nvPr/>
          </p:nvGrpSpPr>
          <p:grpSpPr>
            <a:xfrm>
              <a:off x="304920" y="4419720"/>
              <a:ext cx="8562960" cy="459720"/>
              <a:chOff x="304920" y="4419720"/>
              <a:chExt cx="8562960" cy="459720"/>
            </a:xfrm>
          </p:grpSpPr>
          <p:sp>
            <p:nvSpPr>
              <p:cNvPr id="240" name=""/>
              <p:cNvSpPr/>
              <p:nvPr/>
            </p:nvSpPr>
            <p:spPr>
              <a:xfrm>
                <a:off x="304920" y="444024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480" y="444024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Facto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37200" y="444024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how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4320" y="441972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Physic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914400" y="510552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Correctness of software processes (performed with white box testing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BDF-7D14-434C-BD2A-FB172954DB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Quality Factor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371600"/>
            <a:ext cx="82310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08400"/>
            <a:ext cx="81432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880" y="2536920"/>
            <a:ext cx="7048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600" y="254016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sqlldr80.ex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76400" y="240840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74960" y="254016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8360" y="254160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97440" y="2408400"/>
            <a:ext cx="1265400" cy="4251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680" y="2541600"/>
            <a:ext cx="109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440" y="2514600"/>
            <a:ext cx="60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408400"/>
            <a:ext cx="1265040" cy="4251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19800" y="2541600"/>
            <a:ext cx="109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251460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Aggr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2160" y="3876840"/>
            <a:ext cx="6494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480" y="396252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.as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01840" y="2579760"/>
            <a:ext cx="1360080" cy="110880"/>
            <a:chOff x="1401840" y="2579760"/>
            <a:chExt cx="1360080" cy="110880"/>
          </a:xfrm>
        </p:grpSpPr>
        <p:sp>
          <p:nvSpPr>
            <p:cNvPr id="262" name=""/>
            <p:cNvSpPr/>
            <p:nvPr/>
          </p:nvSpPr>
          <p:spPr>
            <a:xfrm>
              <a:off x="1401840" y="2619000"/>
              <a:ext cx="109692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5520" y="2579760"/>
              <a:ext cx="26640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515960" y="240840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9108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40840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800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56440" y="2567160"/>
            <a:ext cx="793800" cy="110880"/>
            <a:chOff x="6256440" y="2567160"/>
            <a:chExt cx="793800" cy="110880"/>
          </a:xfrm>
        </p:grpSpPr>
        <p:sp>
          <p:nvSpPr>
            <p:cNvPr id="269" name=""/>
            <p:cNvSpPr/>
            <p:nvPr/>
          </p:nvSpPr>
          <p:spPr>
            <a:xfrm>
              <a:off x="6256440" y="2603520"/>
              <a:ext cx="532080" cy="34920"/>
            </a:xfrm>
            <a:custGeom>
              <a:avLst/>
              <a:gdLst/>
              <a:ahLst/>
              <a:rect l="l" t="t" r="r" b="b"/>
              <a:pathLst>
                <a:path w="335" h="22">
                  <a:moveTo>
                    <a:pt x="0" y="0"/>
                  </a:moveTo>
                  <a:lnTo>
                    <a:pt x="0" y="21"/>
                  </a:lnTo>
                  <a:lnTo>
                    <a:pt x="335" y="22"/>
                  </a:lnTo>
                  <a:lnTo>
                    <a:pt x="33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3480" y="2567160"/>
              <a:ext cx="26676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256440" y="2408400"/>
            <a:ext cx="68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6308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781440" y="2579760"/>
            <a:ext cx="1019160" cy="110880"/>
            <a:chOff x="3781440" y="2579760"/>
            <a:chExt cx="1019160" cy="110880"/>
          </a:xfrm>
        </p:grpSpPr>
        <p:sp>
          <p:nvSpPr>
            <p:cNvPr id="274" name=""/>
            <p:cNvSpPr/>
            <p:nvPr/>
          </p:nvSpPr>
          <p:spPr>
            <a:xfrm>
              <a:off x="3781440" y="2619000"/>
              <a:ext cx="75708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5280" y="2579760"/>
              <a:ext cx="265320" cy="11088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88840" y="2860560"/>
            <a:ext cx="122400" cy="903240"/>
            <a:chOff x="888840" y="2860560"/>
            <a:chExt cx="122400" cy="903240"/>
          </a:xfrm>
        </p:grpSpPr>
        <p:sp>
          <p:nvSpPr>
            <p:cNvPr id="277" name=""/>
            <p:cNvSpPr/>
            <p:nvPr/>
          </p:nvSpPr>
          <p:spPr>
            <a:xfrm flipV="1">
              <a:off x="949320" y="2979720"/>
              <a:ext cx="1440" cy="78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8840" y="286056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62000" y="2860560"/>
            <a:ext cx="1812960" cy="1016280"/>
            <a:chOff x="1062000" y="2860560"/>
            <a:chExt cx="1812960" cy="1016280"/>
          </a:xfrm>
        </p:grpSpPr>
        <p:sp>
          <p:nvSpPr>
            <p:cNvPr id="280" name=""/>
            <p:cNvSpPr/>
            <p:nvPr/>
          </p:nvSpPr>
          <p:spPr>
            <a:xfrm>
              <a:off x="1062000" y="2860560"/>
              <a:ext cx="1709640" cy="960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6720" y="3763800"/>
              <a:ext cx="138240" cy="11304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0" y="68"/>
                  </a:moveTo>
                  <a:lnTo>
                    <a:pt x="87" y="71"/>
                  </a:lnTo>
                  <a:lnTo>
                    <a:pt x="38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08320" y="353844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4560" y="35434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96680" y="343044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7256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28800" y="343044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1480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2000" y="3425760"/>
            <a:ext cx="343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71440" y="3430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74960" y="308628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4400" y="30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5240" y="308628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84680" y="30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7520" y="286056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76960" y="2865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89160" y="286056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58640" y="2865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28920" y="297324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7080" y="297324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76560" y="2979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72560" y="2860560"/>
            <a:ext cx="342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42040" y="2865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9880" y="340056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41320" y="2871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720" y="1981080"/>
            <a:ext cx="74520" cy="307800"/>
            <a:chOff x="3276720" y="1981080"/>
            <a:chExt cx="74520" cy="307800"/>
          </a:xfrm>
        </p:grpSpPr>
        <p:sp>
          <p:nvSpPr>
            <p:cNvPr id="309" name=""/>
            <p:cNvSpPr/>
            <p:nvPr/>
          </p:nvSpPr>
          <p:spPr>
            <a:xfrm>
              <a:off x="331308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7672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600200" y="3962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19520" y="1523880"/>
            <a:ext cx="914400" cy="423720"/>
            <a:chOff x="2819520" y="1523880"/>
            <a:chExt cx="914400" cy="423720"/>
          </a:xfrm>
        </p:grpSpPr>
        <p:sp>
          <p:nvSpPr>
            <p:cNvPr id="313" name=""/>
            <p:cNvSpPr/>
            <p:nvPr/>
          </p:nvSpPr>
          <p:spPr>
            <a:xfrm>
              <a:off x="281952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692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772400" y="1981080"/>
            <a:ext cx="74520" cy="307800"/>
            <a:chOff x="7772400" y="1981080"/>
            <a:chExt cx="74520" cy="307800"/>
          </a:xfrm>
        </p:grpSpPr>
        <p:sp>
          <p:nvSpPr>
            <p:cNvPr id="316" name=""/>
            <p:cNvSpPr/>
            <p:nvPr/>
          </p:nvSpPr>
          <p:spPr>
            <a:xfrm>
              <a:off x="780876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315200" y="1523880"/>
            <a:ext cx="914400" cy="423720"/>
            <a:chOff x="7315200" y="1523880"/>
            <a:chExt cx="914400" cy="423720"/>
          </a:xfrm>
        </p:grpSpPr>
        <p:sp>
          <p:nvSpPr>
            <p:cNvPr id="319" name=""/>
            <p:cNvSpPr/>
            <p:nvPr/>
          </p:nvSpPr>
          <p:spPr>
            <a:xfrm>
              <a:off x="731520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9260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562720" y="1981080"/>
            <a:ext cx="74520" cy="307800"/>
            <a:chOff x="5562720" y="1981080"/>
            <a:chExt cx="74520" cy="307800"/>
          </a:xfrm>
        </p:grpSpPr>
        <p:sp>
          <p:nvSpPr>
            <p:cNvPr id="322" name=""/>
            <p:cNvSpPr/>
            <p:nvPr/>
          </p:nvSpPr>
          <p:spPr>
            <a:xfrm>
              <a:off x="559908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05520" y="1523880"/>
            <a:ext cx="914400" cy="423720"/>
            <a:chOff x="5105520" y="1523880"/>
            <a:chExt cx="914400" cy="423720"/>
          </a:xfrm>
        </p:grpSpPr>
        <p:sp>
          <p:nvSpPr>
            <p:cNvPr id="325" name=""/>
            <p:cNvSpPr/>
            <p:nvPr/>
          </p:nvSpPr>
          <p:spPr>
            <a:xfrm>
              <a:off x="510552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292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1981080"/>
            <a:ext cx="74520" cy="307800"/>
            <a:chOff x="1066680" y="1981080"/>
            <a:chExt cx="74520" cy="307800"/>
          </a:xfrm>
        </p:grpSpPr>
        <p:sp>
          <p:nvSpPr>
            <p:cNvPr id="328" name=""/>
            <p:cNvSpPr/>
            <p:nvPr/>
          </p:nvSpPr>
          <p:spPr>
            <a:xfrm>
              <a:off x="110304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9480" y="1523880"/>
            <a:ext cx="914400" cy="423720"/>
            <a:chOff x="609480" y="1523880"/>
            <a:chExt cx="914400" cy="423720"/>
          </a:xfrm>
        </p:grpSpPr>
        <p:sp>
          <p:nvSpPr>
            <p:cNvPr id="331" name=""/>
            <p:cNvSpPr/>
            <p:nvPr/>
          </p:nvSpPr>
          <p:spPr>
            <a:xfrm>
              <a:off x="60948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688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9480" y="4724280"/>
            <a:ext cx="1044360" cy="423720"/>
            <a:chOff x="609480" y="4724280"/>
            <a:chExt cx="1044360" cy="423720"/>
          </a:xfrm>
        </p:grpSpPr>
        <p:sp>
          <p:nvSpPr>
            <p:cNvPr id="334" name=""/>
            <p:cNvSpPr/>
            <p:nvPr/>
          </p:nvSpPr>
          <p:spPr>
            <a:xfrm>
              <a:off x="60948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732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23880" y="5029200"/>
            <a:ext cx="1044360" cy="423720"/>
            <a:chOff x="1523880" y="5029200"/>
            <a:chExt cx="1044360" cy="423720"/>
          </a:xfrm>
        </p:grpSpPr>
        <p:sp>
          <p:nvSpPr>
            <p:cNvPr id="337" name=""/>
            <p:cNvSpPr/>
            <p:nvPr/>
          </p:nvSpPr>
          <p:spPr>
            <a:xfrm>
              <a:off x="152388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1136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689200" y="4724280"/>
            <a:ext cx="1044360" cy="423720"/>
            <a:chOff x="2689200" y="4724280"/>
            <a:chExt cx="1044360" cy="423720"/>
          </a:xfrm>
        </p:grpSpPr>
        <p:sp>
          <p:nvSpPr>
            <p:cNvPr id="340" name=""/>
            <p:cNvSpPr/>
            <p:nvPr/>
          </p:nvSpPr>
          <p:spPr>
            <a:xfrm>
              <a:off x="268920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7704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603600" y="5029200"/>
            <a:ext cx="1044360" cy="423720"/>
            <a:chOff x="3603600" y="5029200"/>
            <a:chExt cx="1044360" cy="423720"/>
          </a:xfrm>
        </p:grpSpPr>
        <p:sp>
          <p:nvSpPr>
            <p:cNvPr id="343" name=""/>
            <p:cNvSpPr/>
            <p:nvPr/>
          </p:nvSpPr>
          <p:spPr>
            <a:xfrm>
              <a:off x="360360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9108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746600" y="4724280"/>
            <a:ext cx="1044360" cy="423720"/>
            <a:chOff x="4746600" y="4724280"/>
            <a:chExt cx="1044360" cy="423720"/>
          </a:xfrm>
        </p:grpSpPr>
        <p:sp>
          <p:nvSpPr>
            <p:cNvPr id="346" name=""/>
            <p:cNvSpPr/>
            <p:nvPr/>
          </p:nvSpPr>
          <p:spPr>
            <a:xfrm>
              <a:off x="474660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444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661000" y="5029200"/>
            <a:ext cx="1044360" cy="423720"/>
            <a:chOff x="5661000" y="5029200"/>
            <a:chExt cx="1044360" cy="423720"/>
          </a:xfrm>
        </p:grpSpPr>
        <p:sp>
          <p:nvSpPr>
            <p:cNvPr id="349" name=""/>
            <p:cNvSpPr/>
            <p:nvPr/>
          </p:nvSpPr>
          <p:spPr>
            <a:xfrm>
              <a:off x="566100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4848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727680" y="4724280"/>
            <a:ext cx="1044360" cy="423720"/>
            <a:chOff x="6727680" y="4724280"/>
            <a:chExt cx="1044360" cy="423720"/>
          </a:xfrm>
        </p:grpSpPr>
        <p:sp>
          <p:nvSpPr>
            <p:cNvPr id="352" name=""/>
            <p:cNvSpPr/>
            <p:nvPr/>
          </p:nvSpPr>
          <p:spPr>
            <a:xfrm>
              <a:off x="672768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1552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642080" y="5029200"/>
            <a:ext cx="1044360" cy="423720"/>
            <a:chOff x="7642080" y="5029200"/>
            <a:chExt cx="1044360" cy="423720"/>
          </a:xfrm>
        </p:grpSpPr>
        <p:sp>
          <p:nvSpPr>
            <p:cNvPr id="355" name=""/>
            <p:cNvSpPr/>
            <p:nvPr/>
          </p:nvSpPr>
          <p:spPr>
            <a:xfrm>
              <a:off x="764208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956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2819520" y="3809880"/>
            <a:ext cx="5790960" cy="762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06668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14300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004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27672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257800" y="43434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943240" y="4343040"/>
            <a:ext cx="2286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238880" y="43434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924320" y="434304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74960" y="3876840"/>
            <a:ext cx="79524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66120" y="398448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79920" y="3876840"/>
            <a:ext cx="78444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35360" y="398448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ass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20040" y="3876840"/>
            <a:ext cx="68112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62680" y="398448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1640" y="2860560"/>
            <a:ext cx="122040" cy="1016280"/>
            <a:chOff x="3041640" y="2860560"/>
            <a:chExt cx="122040" cy="1016280"/>
          </a:xfrm>
        </p:grpSpPr>
        <p:sp>
          <p:nvSpPr>
            <p:cNvPr id="373" name=""/>
            <p:cNvSpPr/>
            <p:nvPr/>
          </p:nvSpPr>
          <p:spPr>
            <a:xfrm flipV="1">
              <a:off x="3101760" y="2979720"/>
              <a:ext cx="1800" cy="89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1640" y="286056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441600" y="2860560"/>
            <a:ext cx="1585800" cy="1015920"/>
            <a:chOff x="3441600" y="2860560"/>
            <a:chExt cx="1585800" cy="1015920"/>
          </a:xfrm>
        </p:grpSpPr>
        <p:sp>
          <p:nvSpPr>
            <p:cNvPr id="376" name=""/>
            <p:cNvSpPr/>
            <p:nvPr/>
          </p:nvSpPr>
          <p:spPr>
            <a:xfrm flipV="1">
              <a:off x="3441600" y="2922120"/>
              <a:ext cx="1485720" cy="954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90960" y="2860560"/>
              <a:ext cx="136440" cy="11916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42" y="75"/>
                  </a:moveTo>
                  <a:lnTo>
                    <a:pt x="86" y="0"/>
                  </a:lnTo>
                  <a:lnTo>
                    <a:pt x="0" y="9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532480" y="2860560"/>
            <a:ext cx="122040" cy="1016280"/>
            <a:chOff x="5532480" y="2860560"/>
            <a:chExt cx="122040" cy="1016280"/>
          </a:xfrm>
        </p:grpSpPr>
        <p:sp>
          <p:nvSpPr>
            <p:cNvPr id="379" name=""/>
            <p:cNvSpPr/>
            <p:nvPr/>
          </p:nvSpPr>
          <p:spPr>
            <a:xfrm>
              <a:off x="5594400" y="2860560"/>
              <a:ext cx="144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32480" y="375444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34240" y="2860560"/>
            <a:ext cx="1698120" cy="1015920"/>
            <a:chOff x="5934240" y="2860560"/>
            <a:chExt cx="1698120" cy="1015920"/>
          </a:xfrm>
        </p:grpSpPr>
        <p:sp>
          <p:nvSpPr>
            <p:cNvPr id="382" name=""/>
            <p:cNvSpPr/>
            <p:nvPr/>
          </p:nvSpPr>
          <p:spPr>
            <a:xfrm flipV="1">
              <a:off x="5934240" y="2919240"/>
              <a:ext cx="159660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97720" y="2860560"/>
              <a:ext cx="13464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39" y="72"/>
                  </a:moveTo>
                  <a:lnTo>
                    <a:pt x="85" y="0"/>
                  </a:lnTo>
                  <a:lnTo>
                    <a:pt x="0" y="6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14044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297240" y="2867040"/>
            <a:ext cx="122400" cy="1015560"/>
            <a:chOff x="3297240" y="2867040"/>
            <a:chExt cx="122400" cy="1015560"/>
          </a:xfrm>
        </p:grpSpPr>
        <p:sp>
          <p:nvSpPr>
            <p:cNvPr id="386" name=""/>
            <p:cNvSpPr/>
            <p:nvPr/>
          </p:nvSpPr>
          <p:spPr>
            <a:xfrm>
              <a:off x="3359160" y="2867040"/>
              <a:ext cx="180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97240" y="376056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809880" y="4267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93939"/>
                </a:solidFill>
                <a:latin typeface="Times New Roman"/>
              </a:rPr>
              <a:t>DW databa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797960" y="2860560"/>
            <a:ext cx="122040" cy="1016280"/>
            <a:chOff x="7797960" y="2860560"/>
            <a:chExt cx="122040" cy="1016280"/>
          </a:xfrm>
        </p:grpSpPr>
        <p:sp>
          <p:nvSpPr>
            <p:cNvPr id="390" name=""/>
            <p:cNvSpPr/>
            <p:nvPr/>
          </p:nvSpPr>
          <p:spPr>
            <a:xfrm>
              <a:off x="7859520" y="2860560"/>
              <a:ext cx="144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97960" y="375444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D00-A0D6-4B39-95CB-018E9CC7F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Conceptual Perspective: Role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o model the interrelationships both of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takeholder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W architecture element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(Actor Dependency Model [Yu and Mylopoulos ‘94]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takeholder X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epends 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Table T1 due to political reasons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able T3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is suitable for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View V1 due to proper quality of data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36B-4414-4A90-88FB-C912C747E6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Suitability for the evolution of a DW 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523880"/>
            <a:ext cx="815508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646280"/>
            <a:ext cx="73836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3880" y="1774800"/>
            <a:ext cx="704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600" y="177804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76400" y="164628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74960" y="177804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8360" y="1779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97440" y="1646280"/>
            <a:ext cx="126540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4680" y="1779480"/>
            <a:ext cx="1096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91480" y="178272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1646280"/>
            <a:ext cx="126504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19800" y="1779480"/>
            <a:ext cx="1097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74960" y="1782720"/>
            <a:ext cx="76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74960" y="3114720"/>
            <a:ext cx="7952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66120" y="32227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3114720"/>
            <a:ext cx="7840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13240" y="322272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ass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62680" y="32227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2160" y="3114720"/>
            <a:ext cx="5572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7080" y="3222720"/>
            <a:ext cx="29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401840" y="1817640"/>
            <a:ext cx="1360080" cy="111240"/>
            <a:chOff x="1401840" y="1817640"/>
            <a:chExt cx="1360080" cy="111240"/>
          </a:xfrm>
        </p:grpSpPr>
        <p:sp>
          <p:nvSpPr>
            <p:cNvPr id="416" name=""/>
            <p:cNvSpPr/>
            <p:nvPr/>
          </p:nvSpPr>
          <p:spPr>
            <a:xfrm>
              <a:off x="1401840" y="1857240"/>
              <a:ext cx="10969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95520" y="1817640"/>
              <a:ext cx="266400" cy="11124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515960" y="16462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9108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08600" y="164628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5800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256440" y="1805040"/>
            <a:ext cx="793800" cy="110880"/>
            <a:chOff x="6256440" y="1805040"/>
            <a:chExt cx="793800" cy="110880"/>
          </a:xfrm>
        </p:grpSpPr>
        <p:sp>
          <p:nvSpPr>
            <p:cNvPr id="423" name=""/>
            <p:cNvSpPr/>
            <p:nvPr/>
          </p:nvSpPr>
          <p:spPr>
            <a:xfrm>
              <a:off x="6256440" y="1841400"/>
              <a:ext cx="532080" cy="34920"/>
            </a:xfrm>
            <a:custGeom>
              <a:avLst/>
              <a:gdLst/>
              <a:ahLst/>
              <a:rect l="l" t="t" r="r" b="b"/>
              <a:pathLst>
                <a:path w="335" h="22">
                  <a:moveTo>
                    <a:pt x="0" y="0"/>
                  </a:moveTo>
                  <a:lnTo>
                    <a:pt x="0" y="21"/>
                  </a:lnTo>
                  <a:lnTo>
                    <a:pt x="335" y="22"/>
                  </a:lnTo>
                  <a:lnTo>
                    <a:pt x="33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3480" y="1805040"/>
              <a:ext cx="26676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256440" y="1646280"/>
            <a:ext cx="68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308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781440" y="1817640"/>
            <a:ext cx="1019160" cy="111240"/>
            <a:chOff x="3781440" y="1817640"/>
            <a:chExt cx="1019160" cy="111240"/>
          </a:xfrm>
        </p:grpSpPr>
        <p:sp>
          <p:nvSpPr>
            <p:cNvPr id="428" name=""/>
            <p:cNvSpPr/>
            <p:nvPr/>
          </p:nvSpPr>
          <p:spPr>
            <a:xfrm>
              <a:off x="3781440" y="1857240"/>
              <a:ext cx="7570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35280" y="181764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88840" y="2098800"/>
            <a:ext cx="122400" cy="903240"/>
            <a:chOff x="888840" y="2098800"/>
            <a:chExt cx="122400" cy="903240"/>
          </a:xfrm>
        </p:grpSpPr>
        <p:sp>
          <p:nvSpPr>
            <p:cNvPr id="431" name=""/>
            <p:cNvSpPr/>
            <p:nvPr/>
          </p:nvSpPr>
          <p:spPr>
            <a:xfrm flipV="1">
              <a:off x="949320" y="2217960"/>
              <a:ext cx="1440" cy="78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8840" y="209880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062000" y="2098800"/>
            <a:ext cx="1812960" cy="1015560"/>
            <a:chOff x="1062000" y="2098800"/>
            <a:chExt cx="1812960" cy="1015560"/>
          </a:xfrm>
        </p:grpSpPr>
        <p:sp>
          <p:nvSpPr>
            <p:cNvPr id="434" name=""/>
            <p:cNvSpPr/>
            <p:nvPr/>
          </p:nvSpPr>
          <p:spPr>
            <a:xfrm>
              <a:off x="1062000" y="2098800"/>
              <a:ext cx="1709640" cy="9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36720" y="3001680"/>
              <a:ext cx="138240" cy="11268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0" y="68"/>
                  </a:moveTo>
                  <a:lnTo>
                    <a:pt x="87" y="71"/>
                  </a:lnTo>
                  <a:lnTo>
                    <a:pt x="38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41640" y="2098800"/>
            <a:ext cx="122040" cy="1015200"/>
            <a:chOff x="3041640" y="2098800"/>
            <a:chExt cx="122040" cy="1015200"/>
          </a:xfrm>
        </p:grpSpPr>
        <p:sp>
          <p:nvSpPr>
            <p:cNvPr id="437" name=""/>
            <p:cNvSpPr/>
            <p:nvPr/>
          </p:nvSpPr>
          <p:spPr>
            <a:xfrm flipV="1">
              <a:off x="3101760" y="2217240"/>
              <a:ext cx="1800" cy="89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1640" y="209880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441600" y="2098800"/>
            <a:ext cx="1585800" cy="1015560"/>
            <a:chOff x="3441600" y="2098800"/>
            <a:chExt cx="1585800" cy="1015560"/>
          </a:xfrm>
        </p:grpSpPr>
        <p:sp>
          <p:nvSpPr>
            <p:cNvPr id="440" name=""/>
            <p:cNvSpPr/>
            <p:nvPr/>
          </p:nvSpPr>
          <p:spPr>
            <a:xfrm flipV="1">
              <a:off x="3441600" y="2160360"/>
              <a:ext cx="1485720" cy="9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0960" y="2098800"/>
              <a:ext cx="136440" cy="1188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42" y="75"/>
                  </a:moveTo>
                  <a:lnTo>
                    <a:pt x="86" y="0"/>
                  </a:lnTo>
                  <a:lnTo>
                    <a:pt x="0" y="9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532480" y="2098800"/>
            <a:ext cx="122040" cy="1015560"/>
            <a:chOff x="5532480" y="2098800"/>
            <a:chExt cx="122040" cy="1015560"/>
          </a:xfrm>
        </p:grpSpPr>
        <p:sp>
          <p:nvSpPr>
            <p:cNvPr id="443" name=""/>
            <p:cNvSpPr/>
            <p:nvPr/>
          </p:nvSpPr>
          <p:spPr>
            <a:xfrm>
              <a:off x="5594400" y="2098800"/>
              <a:ext cx="144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32480" y="299232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172200" y="2133720"/>
            <a:ext cx="1469520" cy="837720"/>
            <a:chOff x="6172200" y="2133720"/>
            <a:chExt cx="1469520" cy="837720"/>
          </a:xfrm>
        </p:grpSpPr>
        <p:sp>
          <p:nvSpPr>
            <p:cNvPr id="446" name=""/>
            <p:cNvSpPr/>
            <p:nvPr/>
          </p:nvSpPr>
          <p:spPr>
            <a:xfrm flipV="1">
              <a:off x="6172200" y="2182320"/>
              <a:ext cx="1381680" cy="7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25080" y="2133720"/>
              <a:ext cx="116640" cy="943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39" y="72"/>
                  </a:moveTo>
                  <a:lnTo>
                    <a:pt x="85" y="0"/>
                  </a:lnTo>
                  <a:lnTo>
                    <a:pt x="0" y="6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797960" y="2098800"/>
            <a:ext cx="122040" cy="1015560"/>
            <a:chOff x="7797960" y="2098800"/>
            <a:chExt cx="122040" cy="1015560"/>
          </a:xfrm>
        </p:grpSpPr>
        <p:sp>
          <p:nvSpPr>
            <p:cNvPr id="449" name=""/>
            <p:cNvSpPr/>
            <p:nvPr/>
          </p:nvSpPr>
          <p:spPr>
            <a:xfrm>
              <a:off x="7859520" y="2098800"/>
              <a:ext cx="144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97960" y="299232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308320" y="277668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64560" y="27813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044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6680" y="26686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7256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28800" y="26686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480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2000" y="2664000"/>
            <a:ext cx="343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71440" y="2668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74960" y="232416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84400" y="233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5240" y="232416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84680" y="233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67520" y="209880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76960" y="2103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89160" y="209880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58640" y="2103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28920" y="221148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07080" y="221148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2666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72560" y="2098800"/>
            <a:ext cx="3427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42040" y="2103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297240" y="2104920"/>
            <a:ext cx="122400" cy="1016280"/>
            <a:chOff x="3297240" y="2104920"/>
            <a:chExt cx="122400" cy="1016280"/>
          </a:xfrm>
        </p:grpSpPr>
        <p:sp>
          <p:nvSpPr>
            <p:cNvPr id="474" name=""/>
            <p:cNvSpPr/>
            <p:nvPr/>
          </p:nvSpPr>
          <p:spPr>
            <a:xfrm>
              <a:off x="3359160" y="2104920"/>
              <a:ext cx="180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97240" y="299880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49880" y="26384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41320" y="21099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0080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5578560"/>
            <a:ext cx="73836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3880" y="5707080"/>
            <a:ext cx="704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4600" y="571032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557856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74960" y="571032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88360" y="571176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97440" y="5578560"/>
            <a:ext cx="126540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4680" y="5711760"/>
            <a:ext cx="109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91480" y="571500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19800" y="5711760"/>
            <a:ext cx="109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401840" y="5749920"/>
            <a:ext cx="1360080" cy="111240"/>
            <a:chOff x="1401840" y="5749920"/>
            <a:chExt cx="1360080" cy="111240"/>
          </a:xfrm>
        </p:grpSpPr>
        <p:sp>
          <p:nvSpPr>
            <p:cNvPr id="492" name=""/>
            <p:cNvSpPr/>
            <p:nvPr/>
          </p:nvSpPr>
          <p:spPr>
            <a:xfrm>
              <a:off x="1401840" y="5789520"/>
              <a:ext cx="10969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95520" y="5749920"/>
              <a:ext cx="266400" cy="11124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515960" y="557856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91080" y="55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08600" y="557856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58000" y="55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781440" y="5749920"/>
            <a:ext cx="1019160" cy="111240"/>
            <a:chOff x="3781440" y="5749920"/>
            <a:chExt cx="1019160" cy="111240"/>
          </a:xfrm>
        </p:grpSpPr>
        <p:sp>
          <p:nvSpPr>
            <p:cNvPr id="499" name=""/>
            <p:cNvSpPr/>
            <p:nvPr/>
          </p:nvSpPr>
          <p:spPr>
            <a:xfrm>
              <a:off x="3781440" y="5789520"/>
              <a:ext cx="7570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35280" y="5749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057400" y="583740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583740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03400" y="4041720"/>
            <a:ext cx="79560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94560" y="41497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86240" y="4041720"/>
            <a:ext cx="7844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42400" y="414972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pt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0960" y="4041720"/>
            <a:ext cx="5572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75880" y="4149720"/>
            <a:ext cx="29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143000" y="4495320"/>
            <a:ext cx="17524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35268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495680"/>
            <a:ext cx="160020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56272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77520" y="47163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84040" y="460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5181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2400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360" y="46483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8640" y="53341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29200" y="5181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7080" y="480060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46483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5880" y="1600200"/>
            <a:ext cx="2438640" cy="4420080"/>
            <a:chOff x="6095880" y="1600200"/>
            <a:chExt cx="2438640" cy="4420080"/>
          </a:xfrm>
        </p:grpSpPr>
        <p:grpSp>
          <p:nvGrpSpPr>
            <p:cNvPr id="525" name=""/>
            <p:cNvGrpSpPr/>
            <p:nvPr/>
          </p:nvGrpSpPr>
          <p:grpSpPr>
            <a:xfrm>
              <a:off x="6256440" y="5737320"/>
              <a:ext cx="793800" cy="110880"/>
              <a:chOff x="6256440" y="5737320"/>
              <a:chExt cx="793800" cy="110880"/>
            </a:xfrm>
          </p:grpSpPr>
          <p:sp>
            <p:nvSpPr>
              <p:cNvPr id="526" name=""/>
              <p:cNvSpPr/>
              <p:nvPr/>
            </p:nvSpPr>
            <p:spPr>
              <a:xfrm>
                <a:off x="6256440" y="5773680"/>
                <a:ext cx="532080" cy="34920"/>
              </a:xfrm>
              <a:custGeom>
                <a:avLst/>
                <a:gdLst/>
                <a:ahLst/>
                <a:rect l="l" t="t" r="r" b="b"/>
                <a:pathLst>
                  <a:path w="335" h="22">
                    <a:moveTo>
                      <a:pt x="0" y="0"/>
                    </a:moveTo>
                    <a:lnTo>
                      <a:pt x="0" y="21"/>
                    </a:lnTo>
                    <a:lnTo>
                      <a:pt x="335" y="22"/>
                    </a:lnTo>
                    <a:lnTo>
                      <a:pt x="3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83480" y="5737320"/>
                <a:ext cx="266760" cy="11088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95880" y="1600200"/>
              <a:ext cx="2438640" cy="4420080"/>
              <a:chOff x="6095880" y="1600200"/>
              <a:chExt cx="2438640" cy="442008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95880" y="3581280"/>
                <a:ext cx="2332080" cy="2439000"/>
                <a:chOff x="6095880" y="3581280"/>
                <a:chExt cx="2332080" cy="24390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62920" y="5578560"/>
                  <a:ext cx="1265040" cy="425520"/>
                </a:xfrm>
                <a:prstGeom prst="ellipse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74960" y="5715000"/>
                  <a:ext cx="761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Aggregation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56440" y="5578560"/>
                  <a:ext cx="682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463080" y="5584680"/>
                  <a:ext cx="262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nex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400800" y="5837400"/>
                  <a:ext cx="685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MI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95880" y="4495680"/>
                  <a:ext cx="129564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7848720" y="3581280"/>
                  <a:ext cx="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238880" y="518148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466760" y="4038480"/>
                  <a:ext cx="246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24680" y="37339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6172200" y="1600200"/>
                <a:ext cx="2362320" cy="15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7520040" y="3114720"/>
            <a:ext cx="68112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547-0B0C-489C-8C28-60CB2B7A8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008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Roles: Exampl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95680" y="3824280"/>
            <a:ext cx="198144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Hospital B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91520" y="3824280"/>
            <a:ext cx="16002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Mini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4052880"/>
            <a:ext cx="914400" cy="0"/>
          </a:xfrm>
          <a:prstGeom prst="line">
            <a:avLst/>
          </a:prstGeom>
          <a:ln w="1260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95680" y="1019520"/>
            <a:ext cx="18288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Info b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410080" y="1479240"/>
            <a:ext cx="0" cy="11113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15200" y="1019520"/>
            <a:ext cx="144792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Admin_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324480" y="1251000"/>
            <a:ext cx="99072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956600"/>
            <a:ext cx="1752480" cy="6426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propagation suita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209680" y="2013120"/>
            <a:ext cx="32004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05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ue 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24480" y="125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1645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905120" y="4285800"/>
            <a:ext cx="6858000" cy="1942200"/>
            <a:chOff x="1905120" y="4285800"/>
            <a:chExt cx="6858000" cy="1942200"/>
          </a:xfrm>
        </p:grpSpPr>
        <p:sp>
          <p:nvSpPr>
            <p:cNvPr id="556" name=""/>
            <p:cNvSpPr/>
            <p:nvPr/>
          </p:nvSpPr>
          <p:spPr>
            <a:xfrm>
              <a:off x="4495680" y="5497920"/>
              <a:ext cx="1828800" cy="459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eaeaea"/>
                  </a:solidFill>
                  <a:latin typeface="Times New Roman"/>
                </a:rPr>
                <a:t>Info by Dep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497920"/>
              <a:ext cx="1447920" cy="459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eaeaea"/>
                  </a:solidFill>
                  <a:latin typeface="Times New Roman"/>
                </a:rPr>
                <a:t>Admin_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324480" y="5729400"/>
              <a:ext cx="990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5120" y="5311080"/>
              <a:ext cx="1752480" cy="9169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propagation suitability &amp; quality of da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657600" y="5048280"/>
              <a:ext cx="1752480" cy="3808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410080" y="4285800"/>
              <a:ext cx="0" cy="121932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81280" y="5352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due 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4480" y="582948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depen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502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is suitable fo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477120" y="4082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suitable f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5680" y="2605320"/>
            <a:ext cx="18288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410080" y="3065040"/>
            <a:ext cx="0" cy="7621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3542760"/>
            <a:ext cx="1752480" cy="6426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propagation suita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209680" y="3598920"/>
            <a:ext cx="32004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57200" y="843480"/>
            <a:ext cx="4952880" cy="4397400"/>
            <a:chOff x="457200" y="843480"/>
            <a:chExt cx="4952880" cy="4397400"/>
          </a:xfrm>
        </p:grpSpPr>
        <p:sp>
          <p:nvSpPr>
            <p:cNvPr id="571" name=""/>
            <p:cNvSpPr/>
            <p:nvPr/>
          </p:nvSpPr>
          <p:spPr>
            <a:xfrm flipH="1" flipV="1">
              <a:off x="3733920" y="1174320"/>
              <a:ext cx="1676160" cy="838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7200" y="84348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87260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57600" y="5048280"/>
              <a:ext cx="17524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09880" y="4672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57600" y="1370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657600" y="2819160"/>
              <a:ext cx="1752480" cy="7794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7200" y="267228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7600" y="3123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438280" y="364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ue 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3231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7AA-721A-4170-9439-2E14E23D80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proposed model enables the efficient Data Ware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esig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modeling constructs and consistency che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Administrati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quality measurements and spotting of inefficien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Evoluti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the discovery of interrelated DW components by using view definitions &amp; evolu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3B6-33C3-4D53-AC82-DFEE2447F0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Long version at http://www.dblab.ece.ntua.gr/~pvassil/publications/process-model00.g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DC9-92AD-4082-A666-35FD33F25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e DWQ approach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0" y="1201680"/>
          <a:ext cx="876312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1680"/>
                    <a:ext cx="87631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1D2-80BE-4E09-8BC8-75B490B99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Related work in workflow modeling: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[Casati et al. ‘95, Sadiq &amp; Orlowska ‘99, ...]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tandards: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Workflow Management Coalition, Metadata Interchange Spec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rocess modeling: Rolland ‘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3E4-67A2-4CB6-8AEA-B527408D65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Future Wor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We have used the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global-as-vi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pproach, vs.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local-as-vi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On-going implementation of a middleware tool for the management of DW proce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1C5-EF3C-4384-AB99-7A93C9477C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Objectiv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«...To provide a model for Data Warehouse Operational Processes in order to sup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desig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administration,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of a Data Warehouse.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DA6-54E6-4D30-B5F0-D1BEFC7E8C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Extracting View Definition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57200" y="1447920"/>
          <a:ext cx="8523360" cy="472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5233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6F9-51F7-4B38-9743-A45B72E7E6D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9520" y="759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1106640"/>
          <a:ext cx="8001000" cy="54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06640"/>
                    <a:ext cx="8001000" cy="54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2EC-7F73-4047-9434-C2588A338D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W Process Qualit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533520" y="1533600"/>
            <a:ext cx="800712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D95-A7EF-4AD0-8F8F-7C881A72317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an ETL too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607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79E-77A8-47BC-ADF4-A2338BAD62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Foreign Key Checking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9644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C46-DE67-473B-9E50-2E98E470E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krtos: Quality Factor Managemen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0780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520-31D5-46BD-9AE7-37FB083076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008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Scheduling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0510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96600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D83-36FF-4257-8165-F39F7FC1C0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desig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managem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34D-F3DE-488E-B9FF-81F8789E5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Motivating Example: DW for the Greek Ministry of Health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37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ources: COBOL files for all the medical centers in Greece (~2400) from a central legacy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ransformation and Cleaning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alit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724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«Achieve 100% completeness and consistency of the data delivered to the end users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D8E-49E3-4B68-A8FA-3DCC01867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Particularities of DW Operational Processe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mplexity of struc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ata inten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rocess traces are crucial for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ality aspects are importa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ll the perspectives are important (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what, how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wh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2DF-DB59-4E8C-B4EB-568EFE1919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ifferent Perspectives of 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523880"/>
          <a:ext cx="571500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571500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22A-05C8-49A7-BCA7-170FA0206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Logical Perspective of 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Activitie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re composed in sequences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mposite Activities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ition Elements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model the transitions between activities with COMMIT/ABORT semantic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Each activity is characterized by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pu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utpu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data stores. An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QL Quer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logicall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describes the performed task.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emantic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how whether the t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k INS/DEL/UP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BEB-906D-4B0A-9963-B2AAECF3E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88960" y="1620720"/>
            <a:ext cx="8158320" cy="2949480"/>
            <a:chOff x="588960" y="1620720"/>
            <a:chExt cx="8158320" cy="2949480"/>
          </a:xfrm>
        </p:grpSpPr>
        <p:sp>
          <p:nvSpPr>
            <p:cNvPr id="108" name=""/>
            <p:cNvSpPr/>
            <p:nvPr/>
          </p:nvSpPr>
          <p:spPr>
            <a:xfrm>
              <a:off x="590400" y="1620720"/>
              <a:ext cx="8155080" cy="29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8960" y="1743120"/>
              <a:ext cx="738360" cy="42372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360" y="1871640"/>
              <a:ext cx="7048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3720" y="187488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Loading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55880" y="1743120"/>
              <a:ext cx="847800" cy="42372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4440" y="1874880"/>
              <a:ext cx="795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7840" y="187632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leaning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1743120"/>
              <a:ext cx="1265040" cy="42516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33800" y="1876320"/>
              <a:ext cx="109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0960" y="18795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omputa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2040" y="1743120"/>
              <a:ext cx="1265400" cy="42516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99280" y="1876320"/>
              <a:ext cx="109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4440" y="1879560"/>
              <a:ext cx="76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Aggrega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4440" y="3211560"/>
              <a:ext cx="79524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5600" y="3319200"/>
              <a:ext cx="39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59400" y="3211560"/>
              <a:ext cx="78408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14840" y="331920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lass_inf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9520" y="3211560"/>
              <a:ext cx="68076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1800" y="331920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3211560"/>
              <a:ext cx="55728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6560" y="331920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BL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5440" y="1743120"/>
              <a:ext cx="102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7720" y="1743120"/>
              <a:ext cx="5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37480" y="17492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235560" y="1901880"/>
              <a:ext cx="793800" cy="110880"/>
              <a:chOff x="6235560" y="1901880"/>
              <a:chExt cx="793800" cy="110880"/>
            </a:xfrm>
          </p:grpSpPr>
          <p:sp>
            <p:nvSpPr>
              <p:cNvPr id="133" name=""/>
              <p:cNvSpPr/>
              <p:nvPr/>
            </p:nvSpPr>
            <p:spPr>
              <a:xfrm>
                <a:off x="6235560" y="1938240"/>
                <a:ext cx="532080" cy="34920"/>
              </a:xfrm>
              <a:custGeom>
                <a:avLst/>
                <a:gdLst/>
                <a:ahLst/>
                <a:rect l="l" t="t" r="r" b="b"/>
                <a:pathLst>
                  <a:path w="335" h="22">
                    <a:moveTo>
                      <a:pt x="0" y="0"/>
                    </a:moveTo>
                    <a:lnTo>
                      <a:pt x="0" y="21"/>
                    </a:lnTo>
                    <a:lnTo>
                      <a:pt x="335" y="22"/>
                    </a:lnTo>
                    <a:lnTo>
                      <a:pt x="3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62600" y="1901880"/>
                <a:ext cx="266760" cy="11088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235560" y="1743120"/>
              <a:ext cx="68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2560" y="17492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760920" y="1914480"/>
              <a:ext cx="1019160" cy="111240"/>
              <a:chOff x="3760920" y="1914480"/>
              <a:chExt cx="1019160" cy="11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3760920" y="1954080"/>
                <a:ext cx="75708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14760" y="1914480"/>
                <a:ext cx="265320" cy="111240"/>
              </a:xfrm>
              <a:custGeom>
                <a:avLst/>
                <a:gdLst/>
                <a:ahLst/>
                <a:rect l="l" t="t" r="r" b="b"/>
                <a:pathLst>
                  <a:path w="167" h="70">
                    <a:moveTo>
                      <a:pt x="0" y="70"/>
                    </a:moveTo>
                    <a:lnTo>
                      <a:pt x="167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68320" y="2195280"/>
              <a:ext cx="122400" cy="903240"/>
              <a:chOff x="868320" y="2195280"/>
              <a:chExt cx="122400" cy="90324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928800" y="2314440"/>
                <a:ext cx="1440" cy="784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8320" y="21952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77"/>
                    </a:moveTo>
                    <a:lnTo>
                      <a:pt x="38" y="0"/>
                    </a:lnTo>
                    <a:lnTo>
                      <a:pt x="0" y="77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041480" y="2195280"/>
              <a:ext cx="1812960" cy="1016280"/>
              <a:chOff x="1041480" y="2195280"/>
              <a:chExt cx="1812960" cy="1016280"/>
            </a:xfrm>
          </p:grpSpPr>
          <p:sp>
            <p:nvSpPr>
              <p:cNvPr id="144" name=""/>
              <p:cNvSpPr/>
              <p:nvPr/>
            </p:nvSpPr>
            <p:spPr>
              <a:xfrm>
                <a:off x="1041480" y="2195280"/>
                <a:ext cx="1709640" cy="96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16200" y="3098520"/>
                <a:ext cx="138240" cy="113040"/>
              </a:xfrm>
              <a:custGeom>
                <a:avLst/>
                <a:gdLst/>
                <a:ahLst/>
                <a:rect l="l" t="t" r="r" b="b"/>
                <a:pathLst>
                  <a:path w="87" h="71">
                    <a:moveTo>
                      <a:pt x="0" y="68"/>
                    </a:moveTo>
                    <a:lnTo>
                      <a:pt x="87" y="71"/>
                    </a:lnTo>
                    <a:lnTo>
                      <a:pt x="38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021120" y="2195280"/>
              <a:ext cx="122040" cy="1016280"/>
              <a:chOff x="3021120" y="2195280"/>
              <a:chExt cx="122040" cy="10162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081240" y="2314440"/>
                <a:ext cx="1800" cy="897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21120" y="219528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77"/>
                    </a:moveTo>
                    <a:lnTo>
                      <a:pt x="38" y="0"/>
                    </a:lnTo>
                    <a:lnTo>
                      <a:pt x="0" y="77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421080" y="2195280"/>
              <a:ext cx="1585800" cy="1015920"/>
              <a:chOff x="3421080" y="2195280"/>
              <a:chExt cx="1585800" cy="101592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3421080" y="2256840"/>
                <a:ext cx="1485720" cy="954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0440" y="2195280"/>
                <a:ext cx="136440" cy="119160"/>
              </a:xfrm>
              <a:custGeom>
                <a:avLst/>
                <a:gdLst/>
                <a:ahLst/>
                <a:rect l="l" t="t" r="r" b="b"/>
                <a:pathLst>
                  <a:path w="86" h="75">
                    <a:moveTo>
                      <a:pt x="42" y="75"/>
                    </a:moveTo>
                    <a:lnTo>
                      <a:pt x="86" y="0"/>
                    </a:lnTo>
                    <a:lnTo>
                      <a:pt x="0" y="9"/>
                    </a:lnTo>
                    <a:lnTo>
                      <a:pt x="4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511960" y="2195280"/>
              <a:ext cx="122040" cy="1016280"/>
              <a:chOff x="5511960" y="2195280"/>
              <a:chExt cx="122040" cy="1016280"/>
            </a:xfrm>
          </p:grpSpPr>
          <p:sp>
            <p:nvSpPr>
              <p:cNvPr id="153" name=""/>
              <p:cNvSpPr/>
              <p:nvPr/>
            </p:nvSpPr>
            <p:spPr>
              <a:xfrm>
                <a:off x="5573880" y="2195280"/>
                <a:ext cx="1440" cy="898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11960" y="308916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9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913360" y="2195280"/>
              <a:ext cx="1698840" cy="1015920"/>
              <a:chOff x="5913360" y="2195280"/>
              <a:chExt cx="1698840" cy="10159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5913360" y="2253960"/>
                <a:ext cx="1596960" cy="95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77200" y="2195280"/>
                <a:ext cx="135000" cy="114480"/>
              </a:xfrm>
              <a:custGeom>
                <a:avLst/>
                <a:gdLst/>
                <a:ahLst/>
                <a:rect l="l" t="t" r="r" b="b"/>
                <a:pathLst>
                  <a:path w="85" h="72">
                    <a:moveTo>
                      <a:pt x="39" y="72"/>
                    </a:moveTo>
                    <a:lnTo>
                      <a:pt x="85" y="0"/>
                    </a:lnTo>
                    <a:lnTo>
                      <a:pt x="0" y="6"/>
                    </a:lnTo>
                    <a:lnTo>
                      <a:pt x="39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777080" y="2195280"/>
              <a:ext cx="122400" cy="1016280"/>
              <a:chOff x="7777080" y="2195280"/>
              <a:chExt cx="122400" cy="1016280"/>
            </a:xfrm>
          </p:grpSpPr>
          <p:sp>
            <p:nvSpPr>
              <p:cNvPr id="159" name=""/>
              <p:cNvSpPr/>
              <p:nvPr/>
            </p:nvSpPr>
            <p:spPr>
              <a:xfrm>
                <a:off x="7839000" y="2195280"/>
                <a:ext cx="1800" cy="898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7080" y="308916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9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287440" y="287316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44040" y="2878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1956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6160" y="2765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168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08280" y="2765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9392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1480" y="2760480"/>
              <a:ext cx="342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50920" y="2765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54440" y="2421000"/>
              <a:ext cx="34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63880" y="2427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4360" y="2421000"/>
              <a:ext cx="34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63800" y="2427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7000" y="219528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6440" y="2200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8280" y="219528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8120" y="22003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08400" y="230796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86560" y="230796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6040" y="2314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1680" y="2195280"/>
              <a:ext cx="343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21520" y="22003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64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64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92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5400" y="40798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A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65720" y="40798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B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5040" y="42433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C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444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444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5272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67840" y="40798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A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7080" y="40798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B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7480" y="42433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C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5940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940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6240" y="390024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2880" y="390024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E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76760" y="406548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ID, #BEDS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9520" y="3889440"/>
              <a:ext cx="12477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9952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E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2400" y="406548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SUM(#BEDS)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04800" y="4635360"/>
            <a:ext cx="83152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SELECT *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FROM BUFFER B1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WHERE EXISTS (SELECT B2.H_ID, B2.DATE FROM BUFFER B2 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      WHERE B1.H_ID = B2.H_ID AND B1.DATE = B2.DA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GROUP BY H_ID,DATE HAVING COUNT(*)&gt; 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65440" y="1528920"/>
            <a:ext cx="2565360" cy="3098520"/>
            <a:chOff x="1765440" y="1528920"/>
            <a:chExt cx="2565360" cy="3098520"/>
          </a:xfrm>
        </p:grpSpPr>
        <p:sp>
          <p:nvSpPr>
            <p:cNvPr id="206" name=""/>
            <p:cNvSpPr/>
            <p:nvPr/>
          </p:nvSpPr>
          <p:spPr>
            <a:xfrm>
              <a:off x="3324600" y="2765160"/>
              <a:ext cx="29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9999"/>
                  </a:solidFill>
                  <a:latin typeface="Times New Roman"/>
                </a:rPr>
                <a:t>DEL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77880" y="2314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9999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5440" y="1528920"/>
              <a:ext cx="2565360" cy="3098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2680" y="2214360"/>
              <a:ext cx="0" cy="1041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380960" y="1604880"/>
            <a:ext cx="1362240" cy="711720"/>
            <a:chOff x="1380960" y="1604880"/>
            <a:chExt cx="1362240" cy="711720"/>
          </a:xfrm>
        </p:grpSpPr>
        <p:grpSp>
          <p:nvGrpSpPr>
            <p:cNvPr id="212" name=""/>
            <p:cNvGrpSpPr/>
            <p:nvPr/>
          </p:nvGrpSpPr>
          <p:grpSpPr>
            <a:xfrm>
              <a:off x="1380960" y="1914480"/>
              <a:ext cx="1360800" cy="111240"/>
              <a:chOff x="1380960" y="1914480"/>
              <a:chExt cx="1360800" cy="11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1380960" y="1954080"/>
                <a:ext cx="1097280" cy="31680"/>
              </a:xfrm>
              <a:prstGeom prst="rect">
                <a:avLst/>
              </a:pr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5000" y="1914480"/>
                <a:ext cx="266760" cy="11124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70560" y="160488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133720"/>
              <a:ext cx="6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38480" y="19810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9810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Process complexity and relationship with dat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C3C-F7B4-4D1C-9B66-FB87103B84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9520" y="7617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Physical Perspective: Agents and traces for the management of the data warehous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-152280" y="2971800"/>
          <a:ext cx="944856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971800"/>
                    <a:ext cx="9448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AE0-AC3F-42F4-8BE5-C7645668D4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19:48Z</dcterms:created>
  <dc:creator>Timos Sellis</dc:creator>
  <dc:description/>
  <dc:language>en-US</dc:language>
  <cp:lastModifiedBy>Timos Sellis</cp:lastModifiedBy>
  <cp:lastPrinted>2000-06-03T14:40:32Z</cp:lastPrinted>
  <dcterms:modified xsi:type="dcterms:W3CDTF">2000-06-13T12:38:39Z</dcterms:modified>
  <cp:revision>75</cp:revision>
  <dc:subject/>
  <dc:title>A Model for Data Warehouse Operational Processes </dc:title>
</cp:coreProperties>
</file>