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762120" y="12193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ng Multidimens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95280" y="2895480"/>
            <a:ext cx="3352680" cy="22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os Vassilia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Techn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. of Athe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21400" y="2860560"/>
            <a:ext cx="34304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climb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 replace values with their ancesto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rge cells with same coordinates into a single c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Applic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roll-up &amp; drill down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selection of value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grouping over a dimens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operations define an expression both on the cube itself and on the basic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operations are defined wrt to the basic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operations are retain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re “correctly” compu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ll-down directly mode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295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44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' = Navigation(C, d, dl, f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4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P(LC(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D1, ..., Dn}, {DL1, ..., DLn} )),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4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4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' = Dicing(C, 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 Greek"/>
                <a:ea typeface="Times New Roman Greek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4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4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' = Slicing(C, d, f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4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 Greek"/>
                <a:ea typeface="Times New Roman Greek"/>
              </a:rPr>
              <a:t>π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C(Cb, {D1, ..., Dn}, {DL1,..., DLn}), d)),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ion: Roll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623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5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ion: Drill-dow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1520" y="1981080"/>
            <a:ext cx="882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ion: Drill-dow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1520" y="1981080"/>
            <a:ext cx="882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371600"/>
            <a:ext cx="777240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algebra: “customize” the algebra of Ozsoyoglu et. al ‘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p each dimension path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p each cube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e 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ts basic cube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cub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mapping functions between levels and attribut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 Greek"/>
                <a:ea typeface="Times New Roman Greek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L) = 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 Greek"/>
                <a:ea typeface="Times New Roman Greek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= D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relational DB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ube, all the dimensions, the cube and its basic cube must be mapped to re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mapping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41148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TIME_M(YEAR, MONTH, 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TIME_W(YEAR, WEEK, 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GEOGRAPHY(REGION, COUNTRY, 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ITEM(CATEGORY, TYPE,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DETAILED_SALES(DAY, PRODUCT, CITY, S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16120" y="1228680"/>
            <a:ext cx="3556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mapping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operation, we have a mapping both for the cube and its basic cube.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C' = Navigation(C, d, dl,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(C'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cub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(C') =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&gt;&lt;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D1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’...</a:t>
            </a: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&gt;&lt;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Dn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[A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, …, A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M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]))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M,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 f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' =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)[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, A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 Greek"/>
                <a:ea typeface="Times New Roman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Greek"/>
                <a:ea typeface="Times New Roman Greek"/>
              </a:rPr>
              <a:t>(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 Greek"/>
                <a:ea typeface="Times New Roman Greek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 Ξ </a:t>
            </a:r>
            <a:r>
              <a:rPr b="0" lang="en-US" sz="2800" spc="-1" strike="noStrike">
                <a:solidFill>
                  <a:srgbClr val="000000"/>
                </a:solidFill>
                <a:latin typeface="Times New Roman Greek"/>
                <a:ea typeface="Times New Roman Greek"/>
              </a:rPr>
              <a:t>base cube table, A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 Greek"/>
                <a:ea typeface="Times New Roman Greek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Ξ </a:t>
            </a:r>
            <a:r>
              <a:rPr b="0" lang="en-US" sz="2800" spc="-1" strike="noStrike">
                <a:solidFill>
                  <a:srgbClr val="000000"/>
                </a:solidFill>
                <a:latin typeface="Times New Roman Greek"/>
                <a:ea typeface="Times New Roman Greek"/>
              </a:rPr>
              <a:t>cube tab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Warehou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209600"/>
            <a:ext cx="5848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mapping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C’ = Slice(C, geography, av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’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(C’) = DETAILED_SALES[D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PRODUCT, SAL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(C’)=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SALES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(DETAILED_S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[DAY, PRODUCT, SALES]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[SALES, av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al mapping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523880"/>
            <a:ext cx="7772400" cy="46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C” = Navigate(C’, time, month, s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(C”)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(C”) =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SALES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MT Extra"/>
                <a:ea typeface="MT Extra"/>
              </a:rPr>
              <a:t>&gt;&lt;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DAY=DAY 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TIME_M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[MONTH, PRODUCT, SALES]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[SALES, su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 Greek"/>
                <a:ea typeface="Courier New Greek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’ = DETAILED_SALES [DAY, PRODUCT, SAL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ourier New Greek"/>
                <a:ea typeface="Courier New Greek"/>
              </a:rPr>
              <a:t>TIME_M’ = TIME_M[DAY, MONT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Work - O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y et al. ‘96: The DataCube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awal ‘95: First model for cu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&amp; Wang ‘96: Grouping re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ssens &amp; Lakshmanan ‘97: n-dimensional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bibo &amp;Torlone ‘97,‘98: f-tables, roll-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alis et al. ‘97: Functional dependencies for hierarch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hner ‘98: MD objects, roll-up, slice, d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work - SSD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shani ‘97: Comparison of OLAP and SSD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soyoglu et al ‘85: OLAP oper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M: Rafanelli &amp; Shoshani ‘90: hierarchy model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fanelli &amp; Richi ‘91: sequences of oper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shani and Lenz ‘97: summarizability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it modeling of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ng of sequences of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ube need not be stored after each operation -we can just keep it as an expression over the original (or some intermediate) 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: system under development in NT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: use the model as a basis for query optimization and cac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thanks to DW NTUA team, especially Prof. Timos Sellis, Y. Vassili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to the Esprit Project “DWQ” partn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logies: W. Lehner for not mentioning “Modeling Large Scale OLAP Applications”, EDBT ‘98, in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thanks to our hos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es &amp; O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290600"/>
            <a:ext cx="1944720" cy="290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00200" y="1274760"/>
            <a:ext cx="718992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dimensional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attice (H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 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inear, totally ordered list of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level has 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(D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51240" y="3352680"/>
            <a:ext cx="3746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dimensional Space -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44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ants(x, D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, x2, ..., x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L’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4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(y, D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(x, D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4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(y, DL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(z, DL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(z, DL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4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4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st property guarantees the consistency of valu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4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4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FEB 97, month)=FEB 97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EB 97, year)=9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4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FEB 97, week) = 5W 97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W 97, year) = 9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u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 triple (D, L, R)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a set of dimens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a set of dimension levels of the most detailed granularity for these dimens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a set of data for the basic cu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 quadruplet (D, L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)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a set of dimens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a set of dimension levels belonging to the dimensions of 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 basic cube with the same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a set of data for the basic cu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0560" y="519120"/>
            <a:ext cx="70056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3808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go back to the detailed da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1647720"/>
            <a:ext cx="76662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ing for Basic c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600200"/>
            <a:ext cx="7772400" cy="38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ube is defined wrt a basic cube, in order to be able to introduce sequences of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ok at the problems of industrial too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ich we try to avoi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trategy: execution plan is based on the actual values of the dimension leve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3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 Express: need to precalculate all aggreg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nos -the beast- Vassiliadis</dc:creator>
  <dc:description>my first paper presentation!</dc:description>
  <dc:language>en-US</dc:language>
  <cp:lastModifiedBy>Panos -the beast- Vassiliadis</cp:lastModifiedBy>
  <cp:revision>0</cp:revision>
  <dc:subject>Multidimensional Databases</dc:subject>
  <dc:title>Modeling Multidimensional Databases</dc:title>
</cp:coreProperties>
</file>